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376-7B23-4BE3-B7C0-8B8D69C9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C51-76F3-4AD9-ABE6-95C25F86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D6A-AA86-45ED-90DC-3C1B573D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E2F-B2E1-4697-8566-AE09F8F1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521-95E5-4305-A28E-F76BE68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39C-870D-4652-AD8F-854E641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3A7-E488-4B2B-9CEB-D29EE5E6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BCD-8370-4E7A-A14E-132A3ED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79A-9484-4E20-964F-30260CF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8C4-1225-4A84-838A-77158EA7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2FB-8882-4ECE-A4D4-BF6A1B9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844-50BD-4D23-9269-05D5707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519D-D850-442F-8502-20086F0D05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228600" y="220968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Times New Roman"/>
              </a:rPr>
              <a:t>Повышение уровня пенсионного обеспечения граждан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Object 10"/>
          <p:cNvGraphicFramePr/>
          <p:nvPr/>
        </p:nvGraphicFramePr>
        <p:xfrm>
          <a:off x="7451640" y="76320"/>
          <a:ext cx="1592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76320"/>
                    <a:ext cx="1592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152280" y="233280"/>
            <a:ext cx="2362320" cy="144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3911040" y="4869000"/>
            <a:ext cx="514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УПРАВЛЯЮЩИЙ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ПФР по Киров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АСЫНКОВ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НИКОЛАЙ ВЛАДИМИРОВИ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80880" y="114300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24308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7200" y="228600"/>
            <a:ext cx="7620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10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0E0-2964-4577-AA8A-1A555AE4547B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52280" y="765000"/>
            <a:ext cx="8812440" cy="545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чиная с 2016 год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в соответствии с нормам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т. 26.1 Федерального закона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т 28.12.2013 года №400-ФЗ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«О страховых пенсиях»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енсионерам,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осуществляющим работу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и (или) иную деятельность,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уммы пенси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ыплачиваютс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ез учета индексаци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051"/>
          <p:cNvSpPr/>
          <p:nvPr/>
        </p:nvSpPr>
        <p:spPr>
          <a:xfrm>
            <a:off x="2500200" y="4809960"/>
            <a:ext cx="6658200" cy="77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дексация социальных пенсий на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 2,4%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054"/>
          <p:cNvSpPr/>
          <p:nvPr/>
        </p:nvSpPr>
        <p:spPr>
          <a:xfrm>
            <a:off x="250920" y="4809960"/>
            <a:ext cx="2265120" cy="77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 апрел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055"/>
          <p:cNvSpPr/>
          <p:nvPr/>
        </p:nvSpPr>
        <p:spPr>
          <a:xfrm>
            <a:off x="2500200" y="4005360"/>
            <a:ext cx="6658200" cy="809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ндексация размеров ЕДВ на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 3,4%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065"/>
          <p:cNvSpPr/>
          <p:nvPr/>
        </p:nvSpPr>
        <p:spPr>
          <a:xfrm>
            <a:off x="28440" y="4005360"/>
            <a:ext cx="911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051"/>
          <p:cNvSpPr/>
          <p:nvPr/>
        </p:nvSpPr>
        <p:spPr>
          <a:xfrm>
            <a:off x="2484360" y="5583240"/>
            <a:ext cx="6674040" cy="94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ерасчет страховой пенсии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ботающим пенсионерам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054"/>
          <p:cNvSpPr/>
          <p:nvPr/>
        </p:nvSpPr>
        <p:spPr>
          <a:xfrm>
            <a:off x="250920" y="4005360"/>
            <a:ext cx="2249280" cy="804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 феврал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055"/>
          <p:cNvSpPr/>
          <p:nvPr/>
        </p:nvSpPr>
        <p:spPr>
          <a:xfrm>
            <a:off x="2498760" y="2637000"/>
            <a:ext cx="6630840" cy="13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становление стоимости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дного пенсионного коэффициента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размере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87,24 руб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5"/>
          <p:cNvSpPr/>
          <p:nvPr/>
        </p:nvSpPr>
        <p:spPr>
          <a:xfrm>
            <a:off x="0" y="55440"/>
            <a:ext cx="90676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Мероприятия по повышению пенсий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и иных выплат в 2019 году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055"/>
          <p:cNvSpPr/>
          <p:nvPr/>
        </p:nvSpPr>
        <p:spPr>
          <a:xfrm>
            <a:off x="2513160" y="1582560"/>
            <a:ext cx="6630840" cy="105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становление размера фиксированной выплаты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 страховой пенсии в размере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5334,19 руб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(индексация на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7,05%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57"/>
          <p:cNvSpPr/>
          <p:nvPr/>
        </p:nvSpPr>
        <p:spPr>
          <a:xfrm>
            <a:off x="2513160" y="1125360"/>
            <a:ext cx="663084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9 го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58"/>
          <p:cNvSpPr/>
          <p:nvPr/>
        </p:nvSpPr>
        <p:spPr>
          <a:xfrm>
            <a:off x="0" y="1125360"/>
            <a:ext cx="25560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ы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05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38"/>
          <p:cNvSpPr/>
          <p:nvPr/>
        </p:nvSpPr>
        <p:spPr>
          <a:xfrm>
            <a:off x="7238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C5E3-ADA3-4B2F-88FA-6FBAE71BDD20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1065"/>
          <p:cNvSpPr/>
          <p:nvPr/>
        </p:nvSpPr>
        <p:spPr>
          <a:xfrm>
            <a:off x="2484360" y="2637000"/>
            <a:ext cx="665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3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66" name="Line 1063"/>
          <p:cNvSpPr/>
          <p:nvPr/>
        </p:nvSpPr>
        <p:spPr>
          <a:xfrm>
            <a:off x="9144000" y="1123920"/>
            <a:ext cx="14400" cy="4675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053"/>
          <p:cNvSpPr/>
          <p:nvPr/>
        </p:nvSpPr>
        <p:spPr>
          <a:xfrm rot="16200000">
            <a:off x="-662400" y="4596480"/>
            <a:ext cx="1727280" cy="401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33"/>
                </a:solidFill>
                <a:uFillTx/>
                <a:latin typeface="Times New Roman"/>
              </a:rPr>
              <a:t>ПРОГНОЗ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056"/>
          <p:cNvSpPr/>
          <p:nvPr/>
        </p:nvSpPr>
        <p:spPr>
          <a:xfrm>
            <a:off x="0" y="1581120"/>
            <a:ext cx="2556000" cy="242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 январ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54"/>
          <p:cNvSpPr/>
          <p:nvPr/>
        </p:nvSpPr>
        <p:spPr>
          <a:xfrm>
            <a:off x="0" y="5583240"/>
            <a:ext cx="2540160" cy="94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1 авгус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061"/>
          <p:cNvSpPr/>
          <p:nvPr/>
        </p:nvSpPr>
        <p:spPr>
          <a:xfrm>
            <a:off x="0" y="1125360"/>
            <a:ext cx="0" cy="4673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065"/>
          <p:cNvSpPr/>
          <p:nvPr/>
        </p:nvSpPr>
        <p:spPr>
          <a:xfrm>
            <a:off x="0" y="4005360"/>
            <a:ext cx="915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065"/>
          <p:cNvSpPr/>
          <p:nvPr/>
        </p:nvSpPr>
        <p:spPr>
          <a:xfrm>
            <a:off x="401760" y="4749840"/>
            <a:ext cx="877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062"/>
          <p:cNvSpPr/>
          <p:nvPr/>
        </p:nvSpPr>
        <p:spPr>
          <a:xfrm>
            <a:off x="2540160" y="1123920"/>
            <a:ext cx="0" cy="445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064"/>
          <p:cNvSpPr/>
          <p:nvPr/>
        </p:nvSpPr>
        <p:spPr>
          <a:xfrm>
            <a:off x="0" y="15825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80880" y="128736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" y="228600"/>
            <a:ext cx="7620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710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78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AE41-F373-46BE-BB31-FB0F2880E28C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2"/>
          <p:cNvSpPr/>
          <p:nvPr/>
        </p:nvSpPr>
        <p:spPr>
          <a:xfrm>
            <a:off x="34920" y="44280"/>
            <a:ext cx="9032760" cy="1189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еры социальной поддерж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«сельским» жителям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(п. 5 ст. 10 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Федерального Закона от 03.10.2018 № 350-ФЗ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380880" y="2205000"/>
            <a:ext cx="8439120" cy="2232000"/>
          </a:xfrm>
          <a:prstGeom prst="roundRect">
            <a:avLst>
              <a:gd name="adj" fmla="val 463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Повышение фиксированной выплаты к страховой пенсии по старости и по инвалидности н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%</a:t>
            </a:r>
            <a:r>
              <a:rPr b="1" lang="ru-RU" sz="20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жителям села при условии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работа в сельском хозяйстве в должностях, предусмотренных Списками работ, производств, профессий и должностей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отсутствие работы в период получения страховой пенси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- проживание в сельской местно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Прямоугольник 11" descr=""/>
          <p:cNvPicPr/>
          <p:nvPr/>
        </p:nvPicPr>
        <p:blipFill>
          <a:blip r:embed="rId2"/>
          <a:stretch/>
        </p:blipFill>
        <p:spPr>
          <a:xfrm>
            <a:off x="549360" y="1195560"/>
            <a:ext cx="9343800" cy="1035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-36360" y="4581360"/>
            <a:ext cx="91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анные по Кировской области </a:t>
            </a:r>
            <a:r>
              <a:rPr b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(по состоянию на 11.12.2018 года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Прямоугольник 13" descr=""/>
          <p:cNvPicPr/>
          <p:nvPr/>
        </p:nvPicPr>
        <p:blipFill>
          <a:blip r:embed="rId3"/>
          <a:stretch/>
        </p:blipFill>
        <p:spPr>
          <a:xfrm>
            <a:off x="1884240" y="4937040"/>
            <a:ext cx="1614600" cy="7081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4"/>
          <p:cNvSpPr/>
          <p:nvPr/>
        </p:nvSpPr>
        <p:spPr>
          <a:xfrm>
            <a:off x="23760" y="553896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нсионера, проживающих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ельской местности и имеющих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обходимый «сельский» стаж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5586480" y="5583240"/>
            <a:ext cx="34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том числе неработающих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Прямоугольник 16" descr=""/>
          <p:cNvPicPr/>
          <p:nvPr/>
        </p:nvPicPr>
        <p:blipFill>
          <a:blip r:embed="rId4"/>
          <a:stretch/>
        </p:blipFill>
        <p:spPr>
          <a:xfrm>
            <a:off x="6388200" y="4943520"/>
            <a:ext cx="1701720" cy="70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124308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10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89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741-F140-4B60-9DE7-9736494A572D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79280" y="511200"/>
            <a:ext cx="88884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рерасчет осуществляется с 1 января 2019 год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ез подачи пенсионером заявления при наличии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выплатном деле необходимой информац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нсионер вправе в любое время представить дополнительные документы, которые отсутствуют в выплатном деле и необходимы для перерасчет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* Если пенсионер обратился за перерасчетом в период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 1 января по 31 декабря 2019 года, указанный перерасчет осуществляется с 1 января 2019 год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* Если пенсионер обратится за перерасчетом после 31 декабря 2019 года, указанный перерасчет осуществляется с 1 числа месяца следующего за месяцем, в котором принято заявлени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5"/>
          <p:cNvSpPr/>
          <p:nvPr/>
        </p:nvSpPr>
        <p:spPr>
          <a:xfrm>
            <a:off x="77760" y="55440"/>
            <a:ext cx="90676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осрочная выплата пенс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 новогодние праздник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омер слайда 38"/>
          <p:cNvSpPr/>
          <p:nvPr/>
        </p:nvSpPr>
        <p:spPr>
          <a:xfrm>
            <a:off x="7238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0353-31C2-4A9C-94AE-919B55FC3048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33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26880" y="155736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Все необходимые средства на выплату пенсий и пособий Пенсионным фондом РФ будут проавансированы досрочно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до 29 декабря 2018 год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вка пенсий и других социальных выпла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ерез УФПС и кредитные учреждения будет организована в соответстви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графиками выплаты этих учреждени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3733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Благодарю за внимание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ГОСУДАРСТВЕННОЕ УЧРЕЖДЕНИЕ –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ОТДЕЛЕНИЕ ПЕНСИОННОГО ФОНДА РФ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ПО КИРОВСКОЙ ОБЛАСТ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1"/>
          <p:cNvSpPr/>
          <p:nvPr/>
        </p:nvSpPr>
        <p:spPr>
          <a:xfrm>
            <a:off x="3911040" y="4869000"/>
            <a:ext cx="514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УПРАВЛЯЮЩИЙ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ПФР по Киров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АСЫНКОВ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НИКОЛАЙ ВЛАДИМИРОВИЧ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1C5-8554-441A-B2CA-7BCE7755E9DA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1268280"/>
            <a:ext cx="914400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УВЕЛИЧЕНИЕ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ПЕНСИЙ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с 01 января 2019 года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4d"/>
                </a:solidFill>
                <a:latin typeface="Times New Roman"/>
              </a:rPr>
              <a:t>(п. 7-8 ст. 10 Федерального закона от 03.10.2018 №350-ФЗ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B29-E87D-4CF4-BA42-F5D242B12F8B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6320" y="260280"/>
            <a:ext cx="8991360" cy="289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</a:rPr>
              <a:t>С 01.01.2019 год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фиксированная выпла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 страховой пенсии по старо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устанавливаются в размере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33"/>
                </a:solidFill>
                <a:latin typeface="Times New Roman"/>
              </a:rPr>
              <a:t>5334 руб. 19 коп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52280" y="3429000"/>
            <a:ext cx="8991720" cy="22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imes New Roman"/>
              </a:rPr>
              <a:t>страховые пенсии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орректируются исходя из стоимости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дного пенсионного коэффициент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33"/>
                </a:solidFill>
                <a:latin typeface="Times New Roman"/>
              </a:rPr>
              <a:t>87 руб. 24 коп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539640" y="5805360"/>
            <a:ext cx="7993080" cy="722520"/>
          </a:xfrm>
          <a:prstGeom prst="roundRect">
            <a:avLst>
              <a:gd name="adj" fmla="val 4639"/>
            </a:avLst>
          </a:prstGeom>
          <a:noFill/>
          <a:ln w="1908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* Что составляе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05%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179280" y="193680"/>
            <a:ext cx="874872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числение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ксированной выплаты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 страховой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енсии по старости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01.01.20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19 года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021-ADAB-4322-A1F9-82E8FA34D445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79280" y="4437000"/>
            <a:ext cx="88344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Размер увеличени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фиксированной выплаты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к страховой пенсии по старост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составил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1 руб. 29 коп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611280" y="2276640"/>
            <a:ext cx="2971800" cy="64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4982,90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861840" y="2952720"/>
            <a:ext cx="2305080" cy="11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ксированная выплат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421240" y="2276640"/>
            <a:ext cx="2895840" cy="64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5334,19 </a:t>
            </a:r>
            <a:r>
              <a:rPr b="1" lang="ru-RU" sz="40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5716440" y="2932200"/>
            <a:ext cx="2305080" cy="11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Фиксированная выплат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к 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79280" y="19368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Стрелка вправо 1"/>
          <p:cNvSpPr/>
          <p:nvPr/>
        </p:nvSpPr>
        <p:spPr>
          <a:xfrm>
            <a:off x="3851280" y="2693880"/>
            <a:ext cx="1244520" cy="519120"/>
          </a:xfrm>
          <a:prstGeom prst="rightArrow">
            <a:avLst>
              <a:gd name="adj1" fmla="val 50000"/>
              <a:gd name="adj2" fmla="val 50078"/>
            </a:avLst>
          </a:prstGeom>
          <a:solidFill>
            <a:srgbClr val="0a0aff"/>
          </a:solidFill>
          <a:ln w="38160">
            <a:solidFill>
              <a:srgbClr val="0a0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"/>
          <p:cNvSpPr/>
          <p:nvPr/>
        </p:nvSpPr>
        <p:spPr>
          <a:xfrm>
            <a:off x="179280" y="222120"/>
            <a:ext cx="874872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числение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страховой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енсии по старости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01.01.20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19 года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F2C0-BFCD-4AC6-8702-882B24E1FCE4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87480" y="1862280"/>
            <a:ext cx="297180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110     </a:t>
            </a:r>
            <a:r>
              <a:rPr b="1" lang="ru-RU" sz="1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715000" y="1844640"/>
            <a:ext cx="53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5280" y="2316240"/>
            <a:ext cx="230508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ый пенсионный коэффициент (ИПК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700360" y="1703880"/>
            <a:ext cx="68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248520" y="1879560"/>
            <a:ext cx="289548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8963,90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373800" y="2338560"/>
            <a:ext cx="251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3348000" y="1862280"/>
            <a:ext cx="237636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81,49 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19640" y="2293920"/>
            <a:ext cx="230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имость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ПК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49920" y="3645000"/>
            <a:ext cx="53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2735280" y="3444120"/>
            <a:ext cx="68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6283440" y="3679920"/>
            <a:ext cx="289548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</a:rPr>
              <a:t>9596,40 </a:t>
            </a: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6408720" y="4138560"/>
            <a:ext cx="251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3382920" y="3662280"/>
            <a:ext cx="237636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0033"/>
                </a:solidFill>
                <a:uFillTx/>
                <a:latin typeface="Times New Roman"/>
              </a:rPr>
              <a:t>87,24 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179280" y="24624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179280" y="5084640"/>
            <a:ext cx="8834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Размер увеличения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страховой пенсии по старост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составил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32 руб. 50 коп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468360" y="4106880"/>
            <a:ext cx="2305080" cy="8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ый пенсионный коэффициент (ИПК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492360" y="4094280"/>
            <a:ext cx="23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Стоимость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одного ИПК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87480" y="3662280"/>
            <a:ext cx="297180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110     </a:t>
            </a:r>
            <a:r>
              <a:rPr b="1" lang="ru-RU" sz="1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1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04B8-21E3-425D-B2CD-A08918852C2E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395280" y="79200"/>
            <a:ext cx="813744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ий размер выплат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исчислении пенсии по старости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01.01.20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19 года составит: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79280" y="101520"/>
            <a:ext cx="176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6165720"/>
            <a:ext cx="91440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Общий размер увеличения пенсии составил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983 руб. 79 коп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338040" y="2060640"/>
            <a:ext cx="2305080" cy="11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ксированная выплат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292560" y="2087640"/>
            <a:ext cx="251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733840" y="1483560"/>
            <a:ext cx="68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5796000" y="1628640"/>
            <a:ext cx="53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6426360" y="2122560"/>
            <a:ext cx="251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31640" y="5084640"/>
            <a:ext cx="2305080" cy="11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Фиксированная выпла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к 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3257640" y="5099040"/>
            <a:ext cx="251928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9"/>
          <p:cNvSpPr/>
          <p:nvPr/>
        </p:nvSpPr>
        <p:spPr>
          <a:xfrm>
            <a:off x="3490920" y="3627360"/>
            <a:ext cx="230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Стоимость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одного ИПК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2733840" y="4507560"/>
            <a:ext cx="68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Times New Roman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5796000" y="4579920"/>
            <a:ext cx="53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6410160" y="5073480"/>
            <a:ext cx="251964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Размер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траховой пенси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2771640" y="2852640"/>
            <a:ext cx="576360" cy="1800360"/>
          </a:xfrm>
          <a:prstGeom prst="downArrow">
            <a:avLst>
              <a:gd name="adj1" fmla="val 50000"/>
              <a:gd name="adj2" fmla="val 7809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5840" y="1568520"/>
            <a:ext cx="297180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4982,90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20520" y="4594320"/>
            <a:ext cx="289584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</a:rPr>
              <a:t>5334,19 </a:t>
            </a: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132000" y="1568520"/>
            <a:ext cx="289584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8963,90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3132000" y="4594320"/>
            <a:ext cx="289584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</a:rPr>
              <a:t>9596,40 </a:t>
            </a: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4"/>
          <p:cNvSpPr/>
          <p:nvPr/>
        </p:nvSpPr>
        <p:spPr>
          <a:xfrm>
            <a:off x="3382920" y="3152880"/>
            <a:ext cx="237636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0033"/>
                </a:solidFill>
                <a:uFillTx/>
                <a:latin typeface="Times New Roman"/>
              </a:rPr>
              <a:t>87,24 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227640" y="1555920"/>
            <a:ext cx="289584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13946,80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6227640" y="4579920"/>
            <a:ext cx="289584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</a:rPr>
              <a:t>14930,59 </a:t>
            </a:r>
            <a:r>
              <a:rPr b="1" lang="ru-RU" sz="34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316080" y="3325680"/>
            <a:ext cx="223992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Установленный размер Ф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33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8B07-8D18-4D9F-9B3F-2C6D5FA02834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52280" y="-27000"/>
            <a:ext cx="8839440" cy="68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Граждане, которым установлен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федеральная социальная доплата к пенсии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и уровень материального обеспечения которых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 учетом увеличения пенсии после индексации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с 01.01.2019 год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е достигнет величины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ожиточного минимума пенсионера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анного увеличения пенсии «не заметят»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так как общая сумм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материального обеспечения пенсионер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станется прежней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 размер социальной доплаты уменьшитс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(31 919 получателей ФСД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З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конодательством Кировской области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становлена величин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рожиточного минимума пенсионе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2019 год на уровне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 474 руб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2"/>
          <p:cNvSpPr/>
          <p:nvPr/>
        </p:nvSpPr>
        <p:spPr>
          <a:xfrm>
            <a:off x="250920" y="0"/>
            <a:ext cx="853416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числение размера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 страховой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енсии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старости 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 01.01.20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</a:rPr>
              <a:t>19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года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учателя федеральной социальной доплаты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6846840" y="1523880"/>
            <a:ext cx="1916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8474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6846840" y="1965240"/>
            <a:ext cx="2046240" cy="10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сумма материального обеспечения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304920" y="1523880"/>
            <a:ext cx="2438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7892,90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533520" y="1905120"/>
            <a:ext cx="20574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мер пенсии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31.12.2018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(в том числе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ФВ – 4982,90 руб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СП – 2910,00 руб.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819520" y="1371600"/>
            <a:ext cx="5331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3505320" y="1523880"/>
            <a:ext cx="2438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581,10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9"/>
          <p:cNvSpPr/>
          <p:nvPr/>
        </p:nvSpPr>
        <p:spPr>
          <a:xfrm>
            <a:off x="3733920" y="1965240"/>
            <a:ext cx="1828800" cy="10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СД – федеральная социальная допла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6019920" y="1371600"/>
            <a:ext cx="5331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304920" y="4229280"/>
            <a:ext cx="2438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00"/>
                </a:solidFill>
                <a:uFillTx/>
                <a:latin typeface="Times New Roman"/>
              </a:rPr>
              <a:t>8449,52 </a:t>
            </a:r>
            <a:r>
              <a:rPr b="1" lang="ru-RU" sz="30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468360" y="4610160"/>
            <a:ext cx="20574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Размер пенсии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(в том числе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ФВ - 5334,19 руб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СП – 3115,33 руб.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3505320" y="4229280"/>
            <a:ext cx="2438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6600"/>
                </a:solidFill>
                <a:uFillTx/>
                <a:latin typeface="Times New Roman"/>
              </a:rPr>
              <a:t>24,48 </a:t>
            </a:r>
            <a:r>
              <a:rPr b="1" lang="ru-RU" sz="30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3635280" y="4632480"/>
            <a:ext cx="2062080" cy="60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ФСД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с 01.01.2019 года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6846840" y="4229280"/>
            <a:ext cx="191628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8474 </a:t>
            </a:r>
            <a:r>
              <a:rPr b="1" lang="ru-RU" sz="3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руб.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6934320" y="4670280"/>
            <a:ext cx="1958760" cy="10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Общая сумма материального обеспечения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Times New Roman"/>
              </a:rPr>
              <a:t>с 01.01.2019 год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2819520" y="4076640"/>
            <a:ext cx="5331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+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6019920" y="4076640"/>
            <a:ext cx="5331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=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9"/>
          <p:cNvSpPr/>
          <p:nvPr/>
        </p:nvSpPr>
        <p:spPr>
          <a:xfrm>
            <a:off x="81000" y="5979960"/>
            <a:ext cx="888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азмер пенсии с 01.01.2019 года увеличилс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556 руб. 62 коп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бщий размер материального обеспечени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е изменилс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965160" y="3314880"/>
            <a:ext cx="7494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33"/>
                </a:solidFill>
                <a:uFillTx/>
                <a:latin typeface="Times New Roman"/>
              </a:rPr>
              <a:t>Новый размер с учетом индексации с 01.01.2019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334,19 руб. (ФВ) + 3115,33 руб. (СП) = 8449,52 руб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13AA-0A94-47AB-A48A-A4BC848CDA26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114300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24308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57200" y="228600"/>
            <a:ext cx="7620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0880" y="1143000"/>
            <a:ext cx="16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10" descr=""/>
          <p:cNvPicPr/>
          <p:nvPr/>
        </p:nvPicPr>
        <p:blipFill>
          <a:blip r:embed="rId1"/>
          <a:stretch/>
        </p:blipFill>
        <p:spPr>
          <a:xfrm>
            <a:off x="8339040" y="76320"/>
            <a:ext cx="72864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Номер слайда 3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C0DC-3BF2-4DC5-908A-27FC44AE3664}" type="slidenum">
              <a:rPr b="1" lang="ru-RU" sz="1400" spc="-1" strike="noStrike">
                <a:solidFill>
                  <a:srgbClr val="0a0a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62080" y="1146240"/>
            <a:ext cx="861048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В результате индексаци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страховые пенсии вырасту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в среднем по Кировской област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0aff"/>
                </a:solidFill>
                <a:latin typeface="Times New Roman"/>
              </a:rPr>
              <a:t>на 948,23 рубл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07:31:02Z</dcterms:created>
  <dc:creator>Вишнякова Л.Н.</dc:creator>
  <dc:description>Для приема у губернатора</dc:description>
  <dc:language>en-US</dc:language>
  <cp:lastModifiedBy>053ZorinaON</cp:lastModifiedBy>
  <cp:lastPrinted>2018-12-24T08:31:26Z</cp:lastPrinted>
  <dcterms:modified xsi:type="dcterms:W3CDTF">2018-12-25T07:03:35Z</dcterms:modified>
  <cp:revision>1663</cp:revision>
  <dc:subject>ОПФР отчет по работе</dc:subject>
  <dc:title>ОПФР по Кировской области</dc:title>
</cp:coreProperties>
</file>