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60.png" ContentType="image/png"/>
  <Override PartName="/ppt/media/image50.png" ContentType="image/png"/>
  <Override PartName="/ppt/media/image40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26.jpeg" ContentType="image/jpeg"/>
  <Override PartName="/ppt/media/image42.png" ContentType="image/png"/>
  <Override PartName="/ppt/media/image32.jpeg" ContentType="image/jpeg"/>
  <Override PartName="/ppt/media/image17.png" ContentType="image/png"/>
  <Override PartName="/ppt/media/image14.png" ContentType="image/png"/>
  <Override PartName="/ppt/media/image67.jpeg" ContentType="image/jpeg"/>
  <Override PartName="/ppt/media/image58.png" ContentType="image/png"/>
  <Override PartName="/ppt/media/image21.png" ContentType="image/png"/>
  <Override PartName="/ppt/media/image63.jpeg" ContentType="image/jpeg"/>
  <Override PartName="/ppt/media/image29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31.jpeg" ContentType="image/jpe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57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D6C9-A16E-4418-9BBD-1B4942B27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писала про соц исследование и разработку программ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3DEF-C73D-4A47-9F4D-9B848CB26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DA4-C650-4890-A0C5-7F9A0DC3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6B4-732A-4DEE-AD08-B25972A5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451-A1A6-4D93-B5EE-F9B57B47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B68-F2A2-47AE-8BF9-5AA23825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0161-E857-41C0-AA95-20C8792251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E5EB3-F1DB-4992-B9C6-EF54B5E362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49748-7ADE-4499-A6A8-03F092DC0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A7AEB-F02A-4140-91D7-ACEC78FBCE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62920-2EEF-4F4A-BCB4-81773DC76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01C9B-1BA3-4C48-A1B4-EB49922A08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BA787-AF0D-4755-91D8-D06A6B9EB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9D0-56FF-4437-B92C-0E74DF13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722A2-FE84-49DA-954C-2E0892A9A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AF8C9-E96E-405C-AA36-CBF899B41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B2A88-2455-4C26-91E5-0D98FFF5D8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7FDEF-6D37-47AE-B594-D1CE4A7D7F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75265-406C-42F0-84AF-BA38EA1E0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322-3FD5-48DD-876B-00932A23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90A-D7F5-40B6-A825-B82D6042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BA4-BF68-4185-82A8-79E93188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581-3016-487E-96CC-99CE8C1E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12F-6FB8-4FD1-A5B4-136EAE2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25C-8929-4D09-8428-8FBA650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DE0-B887-4B3E-9960-F513F24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B91-97DE-43D2-BC5A-EA675659A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6B5-FAF0-43FF-AB73-2FB56F5F1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dmurtlift.ru/data/gallery/0000000025_s.jpg" TargetMode="External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4.png"/><Relationship Id="rId5" Type="http://schemas.openxmlformats.org/officeDocument/2006/relationships/image" Target="../media/image29.png"/><Relationship Id="rId6" Type="http://schemas.openxmlformats.org/officeDocument/2006/relationships/image" Target="../media/image28.jpe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0"/>
          <p:cNvSpPr/>
          <p:nvPr/>
        </p:nvSpPr>
        <p:spPr>
          <a:xfrm>
            <a:off x="0" y="4581360"/>
            <a:ext cx="9144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Государственная поддержка предпринимательств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Картинки по запросу герб кировской области"/>
          <p:cNvPicPr/>
          <p:nvPr/>
        </p:nvPicPr>
        <p:blipFill>
          <a:blip r:embed="rId1"/>
          <a:stretch/>
        </p:blipFill>
        <p:spPr>
          <a:xfrm>
            <a:off x="3564000" y="1341360"/>
            <a:ext cx="19047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0"/>
          <p:cNvSpPr/>
          <p:nvPr/>
        </p:nvSpPr>
        <p:spPr>
          <a:xfrm>
            <a:off x="19080" y="33480"/>
            <a:ext cx="9124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инистерство развития предпринимательства, торговли и внешних связей 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6"/>
          <p:cNvSpPr/>
          <p:nvPr/>
        </p:nvSpPr>
        <p:spPr>
          <a:xfrm>
            <a:off x="179280" y="0"/>
            <a:ext cx="73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6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Деятельность Центра экспорта в 2017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2340000" y="981000"/>
            <a:ext cx="680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Образовательные семина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Картинки по запросу образование"/>
          <p:cNvPicPr/>
          <p:nvPr/>
        </p:nvPicPr>
        <p:blipFill>
          <a:blip r:embed="rId1"/>
          <a:srcRect l="17843" t="0" r="20066" b="0"/>
          <a:stretch/>
        </p:blipFill>
        <p:spPr>
          <a:xfrm>
            <a:off x="7596360" y="0"/>
            <a:ext cx="1547640" cy="13161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3384720" y="1413000"/>
            <a:ext cx="56512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ешнеэкономическая деятельность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правовое регулирование, таможенное оформление, валютный контроль и налогообложение в 2017 год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ка экспорта для начинающих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Организация ВЭД предприят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осударственная поддержка внешнеэкономической деятельности 2017 году. </a:t>
            </a: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струменты для развития экспор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кспорт в Кит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кспорт в страны Ближнего Восто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7"/>
          <p:cNvSpPr/>
          <p:nvPr/>
        </p:nvSpPr>
        <p:spPr>
          <a:xfrm>
            <a:off x="142920" y="507852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аркетинговые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рынка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итая, Ирана, Киргизии, Егип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7"/>
          <p:cNvSpPr/>
          <p:nvPr/>
        </p:nvSpPr>
        <p:spPr>
          <a:xfrm>
            <a:off x="142920" y="544500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Бесплатный консалтинг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всем вопросам ВЭД, услуги пере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142920" y="5865840"/>
            <a:ext cx="92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еждународные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тавочные проекты и деловые 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142920" y="6232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Взаимодействие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Российским экспортным цен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D:\Downloads\Логотип Центра.png"/>
          <p:cNvPicPr/>
          <p:nvPr/>
        </p:nvPicPr>
        <p:blipFill>
          <a:blip r:embed="rId2"/>
          <a:stretch/>
        </p:blipFill>
        <p:spPr>
          <a:xfrm>
            <a:off x="684360" y="1844640"/>
            <a:ext cx="2228760" cy="2303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renders-graphiques.fr/image/upload/normal/Vector_Airplanes_avion.png"/>
          <p:cNvPicPr/>
          <p:nvPr/>
        </p:nvPicPr>
        <p:blipFill>
          <a:blip r:embed="rId3"/>
          <a:stretch/>
        </p:blipFill>
        <p:spPr>
          <a:xfrm flipH="1" rot="21153000">
            <a:off x="7033680" y="5751000"/>
            <a:ext cx="1908360" cy="993960"/>
          </a:xfrm>
          <a:prstGeom prst="rect">
            <a:avLst/>
          </a:prstGeom>
          <a:ln w="0">
            <a:noFill/>
          </a:ln>
        </p:spPr>
      </p:pic>
      <p:sp>
        <p:nvSpPr>
          <p:cNvPr id="383" name="Номер слайда 7"/>
          <p:cNvSpPr/>
          <p:nvPr/>
        </p:nvSpPr>
        <p:spPr>
          <a:xfrm>
            <a:off x="682452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F879-FC59-42F2-BF13-3BF2FE79A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6"/>
          <p:cNvSpPr/>
          <p:nvPr/>
        </p:nvSpPr>
        <p:spPr>
          <a:xfrm>
            <a:off x="0" y="-1584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Общий план конгрессно-выставочных мероприятий н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2987640" y="620640"/>
            <a:ext cx="61563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39 мероприятий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т.ч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 – международных (в т.ч. 3 бизнес-мисс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 – межрегиональных (в т.ч. 3 бизнес-мисс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 – в Кирове (в т.ч. 3 межрегиональны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2578320" cy="19382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6"/>
          <p:cNvSpPr/>
          <p:nvPr/>
        </p:nvSpPr>
        <p:spPr>
          <a:xfrm>
            <a:off x="135000" y="-46188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Ближайшие 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C:\Users\polyaeva_es\YandexDisk\Скриншоты\2017-02-14_14-43-15.png"/>
          <p:cNvPicPr/>
          <p:nvPr/>
        </p:nvPicPr>
        <p:blipFill>
          <a:blip r:embed="rId2"/>
          <a:srcRect l="0" t="2017" r="0" b="0"/>
          <a:stretch/>
        </p:blipFill>
        <p:spPr>
          <a:xfrm>
            <a:off x="-11160" y="2565360"/>
            <a:ext cx="9120240" cy="403056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7"/>
          <p:cNvSpPr/>
          <p:nvPr/>
        </p:nvSpPr>
        <p:spPr>
          <a:xfrm>
            <a:off x="1476360" y="4149720"/>
            <a:ext cx="1800360" cy="2374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8"/>
          <p:cNvSpPr/>
          <p:nvPr/>
        </p:nvSpPr>
        <p:spPr>
          <a:xfrm>
            <a:off x="1357200" y="2060640"/>
            <a:ext cx="642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www.mbko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7"/>
          <p:cNvSpPr/>
          <p:nvPr/>
        </p:nvSpPr>
        <p:spPr>
          <a:xfrm>
            <a:off x="6824520" y="6526080"/>
            <a:ext cx="2133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0753-6B88-4A7F-AEFB-62DAD88C8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1"/>
          <p:cNvSpPr/>
          <p:nvPr/>
        </p:nvSpPr>
        <p:spPr>
          <a:xfrm>
            <a:off x="3697200" y="11579400"/>
            <a:ext cx="169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B95A-A1D5-49B0-A858-1D342C9F0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7"/>
          <p:cNvSpPr/>
          <p:nvPr/>
        </p:nvSpPr>
        <p:spPr>
          <a:xfrm flipH="1">
            <a:off x="8597880" y="6554880"/>
            <a:ext cx="433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21240" bIns="21240" anchor="t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33EA32F4-849A-4BDD-A4E8-239425A21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C:\Documents and Settings\sankir\Мои документы\Downloads\ЗНАК цельный.jpg"/>
          <p:cNvPicPr/>
          <p:nvPr/>
        </p:nvPicPr>
        <p:blipFill>
          <a:blip r:embed="rId1"/>
          <a:stretch/>
        </p:blipFill>
        <p:spPr>
          <a:xfrm>
            <a:off x="528480" y="3922560"/>
            <a:ext cx="2527560" cy="9144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7"/>
          <p:cNvSpPr/>
          <p:nvPr/>
        </p:nvSpPr>
        <p:spPr>
          <a:xfrm>
            <a:off x="1211400" y="54000"/>
            <a:ext cx="712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8"/>
          <p:cNvSpPr/>
          <p:nvPr/>
        </p:nvSpPr>
        <p:spPr>
          <a:xfrm>
            <a:off x="3203640" y="260280"/>
            <a:ext cx="48974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Кировский областной фонд поддержки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. Киров, Динамовский пр-д 4, 2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 (8332) 46-10-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l@kfpp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: www.kfpp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C:\Users\POLYAE~1\AppData\Local\Temp\Rar$DI99.428\kfpp_logo (1).jpg"/>
          <p:cNvPicPr/>
          <p:nvPr/>
        </p:nvPicPr>
        <p:blipFill>
          <a:blip r:embed="rId2"/>
          <a:stretch/>
        </p:blipFill>
        <p:spPr>
          <a:xfrm>
            <a:off x="900000" y="260280"/>
            <a:ext cx="1782720" cy="1627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11"/>
          <p:cNvSpPr/>
          <p:nvPr/>
        </p:nvSpPr>
        <p:spPr>
          <a:xfrm>
            <a:off x="3203640" y="1916280"/>
            <a:ext cx="4897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Центр поддержки экспорта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. Киров, ул. М. Гвардии, 84/2, каб. 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 (8332) 21-24-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vcpe@mai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: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ww.exportkirov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D:\Downloads\Логотип Центра.png"/>
          <p:cNvPicPr/>
          <p:nvPr/>
        </p:nvPicPr>
        <p:blipFill>
          <a:blip r:embed="rId3"/>
          <a:stretch/>
        </p:blipFill>
        <p:spPr>
          <a:xfrm>
            <a:off x="1128600" y="2128680"/>
            <a:ext cx="1325520" cy="12956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3"/>
          <p:cNvSpPr/>
          <p:nvPr/>
        </p:nvSpPr>
        <p:spPr>
          <a:xfrm>
            <a:off x="3203640" y="3573360"/>
            <a:ext cx="48974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КОГКУ «Агентство по развитию моногор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л. К. Либкнехта, д. 69, г. Ки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332)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-10-77, +7 (912) 824-58-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skova.ea@yandex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ww.vk.com/club_arm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3"/>
          <p:cNvSpPr/>
          <p:nvPr/>
        </p:nvSpPr>
        <p:spPr>
          <a:xfrm>
            <a:off x="3246480" y="5084640"/>
            <a:ext cx="48546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ОАО «Корпорация развития Киров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л. Народная, д. 28, г. Ки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332)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11-960, +7 (912) 708-43-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mpochta@mail.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razvitie43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http://www.rustrade.kz/krko.png"/>
          <p:cNvPicPr/>
          <p:nvPr/>
        </p:nvPicPr>
        <p:blipFill>
          <a:blip r:embed="rId4"/>
          <a:srcRect l="0" t="0" r="75448" b="0"/>
          <a:stretch/>
        </p:blipFill>
        <p:spPr>
          <a:xfrm>
            <a:off x="1042920" y="5153040"/>
            <a:ext cx="130500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Номер слайда 1"/>
          <p:cNvSpPr/>
          <p:nvPr/>
        </p:nvSpPr>
        <p:spPr>
          <a:xfrm>
            <a:off x="6759720" y="63374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36F6-6762-444E-BE19-E2D6A9F19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"/>
          <p:cNvSpPr/>
          <p:nvPr/>
        </p:nvSpPr>
        <p:spPr>
          <a:xfrm>
            <a:off x="154080" y="2308320"/>
            <a:ext cx="893916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ормирование системы государственного управления в сфере поддержки и развития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оказания финансовой поддержки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оказания инфраструктурной поддержки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оказания имущественной поддержки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ализация мер, направленных на обучение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имулирование спроса на продукцию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ормирование системы налоговых льгот для СМ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ение услуг по принципу «одного окна» для оказания поддержки СМСП, а также гражданам, планирующим начать ведение предпринимательск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тие сельскохозяйственной ко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тие системы информационных сервисов, предоставляемых СМСП и гражданам, планирующим начать ведение предпринимательской деятельности, через портал информационных ресурсов для предпринимателей АО «Корпорация МСП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"/>
          <p:cNvSpPr/>
          <p:nvPr/>
        </p:nvSpPr>
        <p:spPr>
          <a:xfrm>
            <a:off x="971640" y="1484280"/>
            <a:ext cx="753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зация целевой мод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оддержка малого и среднего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http://inno.gov-murman.ru/news/files/20150720_2103-1.jpg"/>
          <p:cNvPicPr/>
          <p:nvPr/>
        </p:nvPicPr>
        <p:blipFill>
          <a:blip r:embed="rId1"/>
          <a:stretch/>
        </p:blipFill>
        <p:spPr>
          <a:xfrm>
            <a:off x="-108000" y="1193760"/>
            <a:ext cx="1943280" cy="939960"/>
          </a:xfrm>
          <a:prstGeom prst="rect">
            <a:avLst/>
          </a:prstGeom>
          <a:ln w="0">
            <a:noFill/>
          </a:ln>
        </p:spPr>
      </p:pic>
      <p:grpSp>
        <p:nvGrpSpPr>
          <p:cNvPr id="407" name="Группа 149"/>
          <p:cNvGrpSpPr/>
          <p:nvPr/>
        </p:nvGrpSpPr>
        <p:grpSpPr>
          <a:xfrm>
            <a:off x="99720" y="154080"/>
            <a:ext cx="3535560" cy="1116720"/>
            <a:chOff x="99720" y="154080"/>
            <a:chExt cx="3535560" cy="1116720"/>
          </a:xfrm>
        </p:grpSpPr>
        <p:sp>
          <p:nvSpPr>
            <p:cNvPr id="408" name="Прямоугольник 7"/>
            <p:cNvSpPr/>
            <p:nvPr/>
          </p:nvSpPr>
          <p:spPr>
            <a:xfrm>
              <a:off x="108000" y="154080"/>
              <a:ext cx="3527280" cy="647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заимодействие с федеральными институтами разви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Равнобедренный треугольник 8"/>
            <p:cNvSpPr/>
            <p:nvPr/>
          </p:nvSpPr>
          <p:spPr>
            <a:xfrm rot="2271600">
              <a:off x="110520" y="77436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Прямоугольник 9"/>
          <p:cNvSpPr/>
          <p:nvPr/>
        </p:nvSpPr>
        <p:spPr>
          <a:xfrm>
            <a:off x="4595760" y="139680"/>
            <a:ext cx="4457880" cy="15541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евые модели упрощения процедур ведения бизнеса и повышения инвестиционной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лекательности субъектов РФ, утверждены распоряжением Правительства РФ от 31.01.2017 № 147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1"/>
          <p:cNvSpPr/>
          <p:nvPr/>
        </p:nvSpPr>
        <p:spPr>
          <a:xfrm>
            <a:off x="6759720" y="63374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E112-D1A0-4020-AE89-9C6C53B3A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Группа 149"/>
          <p:cNvGrpSpPr/>
          <p:nvPr/>
        </p:nvGrpSpPr>
        <p:grpSpPr>
          <a:xfrm>
            <a:off x="99720" y="154080"/>
            <a:ext cx="3535560" cy="1116720"/>
            <a:chOff x="99720" y="154080"/>
            <a:chExt cx="3535560" cy="1116720"/>
          </a:xfrm>
        </p:grpSpPr>
        <p:sp>
          <p:nvSpPr>
            <p:cNvPr id="413" name="Прямоугольник 7"/>
            <p:cNvSpPr/>
            <p:nvPr/>
          </p:nvSpPr>
          <p:spPr>
            <a:xfrm>
              <a:off x="108000" y="154080"/>
              <a:ext cx="3527280" cy="647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заимодействие с федеральными институтами разви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Равнобедренный треугольник 8"/>
            <p:cNvSpPr/>
            <p:nvPr/>
          </p:nvSpPr>
          <p:spPr>
            <a:xfrm rot="2271600">
              <a:off x="110520" y="77436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Прямоугольник 9"/>
          <p:cNvSpPr/>
          <p:nvPr/>
        </p:nvSpPr>
        <p:spPr>
          <a:xfrm>
            <a:off x="4595760" y="139680"/>
            <a:ext cx="4457880" cy="13107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ный проект «Малый бизнес и поддержка индивидуальной предпринимательской инициативы»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твержден на заседании Президиума Российской Федерации 21.11.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https://yt3.ggpht.com/-tXCofiR4EUo/AAAAAAAAAAI/AAAAAAAAAAA/i38jFqSv-UI/s900-c-k-no-mo-rj-c0xffffff/photo.jpg"/>
          <p:cNvPicPr/>
          <p:nvPr/>
        </p:nvPicPr>
        <p:blipFill>
          <a:blip r:embed="rId1"/>
          <a:srcRect l="0" t="32994" r="5619" b="34053"/>
          <a:stretch/>
        </p:blipFill>
        <p:spPr>
          <a:xfrm>
            <a:off x="109440" y="1628640"/>
            <a:ext cx="1924200" cy="6717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3"/>
          <p:cNvSpPr/>
          <p:nvPr/>
        </p:nvSpPr>
        <p:spPr>
          <a:xfrm>
            <a:off x="542880" y="1787400"/>
            <a:ext cx="86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зация "дорожной карты" по разви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ого и среднего предпринимательства на 2017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1"/>
          <p:cNvSpPr/>
          <p:nvPr/>
        </p:nvSpPr>
        <p:spPr>
          <a:xfrm>
            <a:off x="109440" y="2637000"/>
            <a:ext cx="871380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усмотрена реализация 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 мероприятий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т.ч.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вышение доступности кредитных ресурсов для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кетингов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онн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ов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ущественн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тие систем обучения основам предприниматель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мероприятий, направленных на увеличение доли закупки товаров, работ, услуг у субъектов малого и среднего предпринимательства в годовом объеме закупки товаров, работ, услуг, в годовом объеме закупки инновационной продукции, высокотехнологичной продукции конкретных заказчиков регионального уровня, определенных Правительством Р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754200"/>
            <a:ext cx="9144000" cy="650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Картинка 24 из 1935">
            <a:hlinkClick r:id="rId1"/>
          </p:cNvPr>
          <p:cNvPicPr/>
          <p:nvPr/>
        </p:nvPicPr>
        <p:blipFill>
          <a:blip r:embed="rId2"/>
          <a:srcRect l="0" t="12655" r="0" b="8819"/>
          <a:stretch/>
        </p:blipFill>
        <p:spPr>
          <a:xfrm>
            <a:off x="4098960" y="3149640"/>
            <a:ext cx="5025960" cy="2738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184320" y="1557360"/>
            <a:ext cx="855648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Министерство </a:t>
            </a: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развития предпринимательства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Торговли и внешних связей Кировской </a:t>
            </a: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610019, 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Россия, </a:t>
            </a: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г. Ки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ул. К.Либкнехта, 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тел.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38-14-57, 38-18-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E-mail: business@ako.kiro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http://www.</a:t>
            </a:r>
            <a:r>
              <a:rPr b="1" lang="en-US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mb</a:t>
            </a:r>
            <a:r>
              <a:rPr b="1" lang="ru-RU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ko.ru</a:t>
            </a:r>
            <a:r>
              <a:rPr b="1" lang="ru-RU" sz="20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http://www.ako.kirov.ru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320760" y="1413000"/>
            <a:ext cx="87278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Реализация комплекса мер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финансовой и нефинансовой поддержки СМСП, содействие продвижению СМСП на новые ры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Усиление взаимодействия с федеральными институтам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30200" y="641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46200" y="698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>
            <a:off x="392040" y="1116000"/>
            <a:ext cx="19479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2340000" y="1382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ривлечение средств федерального бюджета на реализацию мероприятий Государственной программы </a:t>
            </a:r>
            <a:r>
              <a:rPr b="1" lang="ru-RU" sz="2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218, 4 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C:\Users\POLYAE~1\AppData\Local\Temp\Rar$DI04.342\IMG_6783-17-01-17-06-46.jpeg"/>
          <p:cNvPicPr/>
          <p:nvPr/>
        </p:nvPicPr>
        <p:blipFill>
          <a:blip r:embed="rId1"/>
          <a:stretch/>
        </p:blipFill>
        <p:spPr>
          <a:xfrm>
            <a:off x="6659640" y="4992840"/>
            <a:ext cx="2376360" cy="1784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3182760" y="4002120"/>
            <a:ext cx="568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рисвоение статуса ТОСЭР моногородам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Луза,  Вятские Поляны, Белая Холуница, реализация проектов в рамках сотрудничества с Фондом развития моного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314280" y="5986440"/>
            <a:ext cx="64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Реализация мероприятий в сфере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внутреннего и въездного туризма 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Кировской области,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оддержка НХ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1"/>
          <p:cNvGrpSpPr/>
          <p:nvPr/>
        </p:nvGrpSpPr>
        <p:grpSpPr>
          <a:xfrm>
            <a:off x="347760" y="4029120"/>
            <a:ext cx="2784240" cy="1704960"/>
            <a:chOff x="347760" y="4029120"/>
            <a:chExt cx="2784240" cy="1704960"/>
          </a:xfrm>
        </p:grpSpPr>
        <p:pic>
          <p:nvPicPr>
            <p:cNvPr id="99" name="Picture 79" descr="http://svblog.ru/wp-content/uploads/2016/01/sky.jpg"/>
            <p:cNvPicPr/>
            <p:nvPr/>
          </p:nvPicPr>
          <p:blipFill>
            <a:blip r:embed="rId2"/>
            <a:stretch/>
          </p:blipFill>
          <p:spPr>
            <a:xfrm>
              <a:off x="347760" y="4029120"/>
              <a:ext cx="2784240" cy="17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Группа 8"/>
            <p:cNvGrpSpPr/>
            <p:nvPr/>
          </p:nvGrpSpPr>
          <p:grpSpPr>
            <a:xfrm>
              <a:off x="402480" y="4088520"/>
              <a:ext cx="1267560" cy="1568160"/>
              <a:chOff x="402480" y="4088520"/>
              <a:chExt cx="1267560" cy="1568160"/>
            </a:xfrm>
          </p:grpSpPr>
          <p:sp>
            <p:nvSpPr>
              <p:cNvPr id="101" name="Полилиния 78"/>
              <p:cNvSpPr/>
              <p:nvPr/>
            </p:nvSpPr>
            <p:spPr>
              <a:xfrm>
                <a:off x="556920" y="4088520"/>
                <a:ext cx="271440" cy="281160"/>
              </a:xfrm>
              <a:custGeom>
                <a:avLst/>
                <a:gdLst/>
                <a:ahLst/>
                <a:rect l="l" t="t" r="r" b="b"/>
                <a:pathLst>
                  <a:path w="1154906" h="1202531">
                    <a:moveTo>
                      <a:pt x="890587" y="321469"/>
                    </a:moveTo>
                    <a:lnTo>
                      <a:pt x="954881" y="416719"/>
                    </a:lnTo>
                    <a:lnTo>
                      <a:pt x="1009650" y="571500"/>
                    </a:lnTo>
                    <a:lnTo>
                      <a:pt x="1016794" y="892969"/>
                    </a:lnTo>
                    <a:lnTo>
                      <a:pt x="1154906" y="962025"/>
                    </a:lnTo>
                    <a:lnTo>
                      <a:pt x="1114425" y="1092994"/>
                    </a:lnTo>
                    <a:lnTo>
                      <a:pt x="1004887" y="1202531"/>
                    </a:lnTo>
                    <a:lnTo>
                      <a:pt x="900112" y="1176337"/>
                    </a:lnTo>
                    <a:lnTo>
                      <a:pt x="485775" y="992981"/>
                    </a:lnTo>
                    <a:lnTo>
                      <a:pt x="466725" y="928687"/>
                    </a:lnTo>
                    <a:lnTo>
                      <a:pt x="488156" y="838200"/>
                    </a:lnTo>
                    <a:lnTo>
                      <a:pt x="459581" y="809625"/>
                    </a:lnTo>
                    <a:lnTo>
                      <a:pt x="450056" y="726281"/>
                    </a:lnTo>
                    <a:lnTo>
                      <a:pt x="157162" y="750094"/>
                    </a:lnTo>
                    <a:lnTo>
                      <a:pt x="40481" y="659606"/>
                    </a:lnTo>
                    <a:lnTo>
                      <a:pt x="0" y="526256"/>
                    </a:lnTo>
                    <a:lnTo>
                      <a:pt x="47625" y="297656"/>
                    </a:lnTo>
                    <a:lnTo>
                      <a:pt x="159544" y="0"/>
                    </a:lnTo>
                    <a:lnTo>
                      <a:pt x="219075" y="35719"/>
                    </a:lnTo>
                    <a:lnTo>
                      <a:pt x="369094" y="35719"/>
                    </a:lnTo>
                    <a:lnTo>
                      <a:pt x="490537" y="109537"/>
                    </a:lnTo>
                    <a:lnTo>
                      <a:pt x="614362" y="111919"/>
                    </a:lnTo>
                    <a:lnTo>
                      <a:pt x="659606" y="257175"/>
                    </a:lnTo>
                    <a:lnTo>
                      <a:pt x="738187" y="290512"/>
                    </a:lnTo>
                    <a:lnTo>
                      <a:pt x="890587" y="321469"/>
                    </a:lnTo>
                    <a:close/>
                  </a:path>
                </a:pathLst>
              </a:custGeom>
              <a:solidFill>
                <a:srgbClr val="003399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Группа 133"/>
              <p:cNvGrpSpPr/>
              <p:nvPr/>
            </p:nvGrpSpPr>
            <p:grpSpPr>
              <a:xfrm>
                <a:off x="402480" y="4241520"/>
                <a:ext cx="1267560" cy="1415160"/>
                <a:chOff x="402480" y="4241520"/>
                <a:chExt cx="1267560" cy="1415160"/>
              </a:xfrm>
            </p:grpSpPr>
            <p:sp>
              <p:nvSpPr>
                <p:cNvPr id="103" name="Полилиния 80"/>
                <p:cNvSpPr/>
                <p:nvPr/>
              </p:nvSpPr>
              <p:spPr>
                <a:xfrm>
                  <a:off x="892440" y="4842360"/>
                  <a:ext cx="267120" cy="171720"/>
                </a:xfrm>
                <a:custGeom>
                  <a:avLst/>
                  <a:gdLst/>
                  <a:ahLst/>
                  <a:rect l="l" t="t" r="r" b="b"/>
                  <a:pathLst>
                    <a:path w="1119187" h="726281">
                      <a:moveTo>
                        <a:pt x="33333" y="14286"/>
                      </a:moveTo>
                      <a:lnTo>
                        <a:pt x="250031" y="33337"/>
                      </a:lnTo>
                      <a:lnTo>
                        <a:pt x="297656" y="0"/>
                      </a:lnTo>
                      <a:lnTo>
                        <a:pt x="392906" y="45243"/>
                      </a:lnTo>
                      <a:lnTo>
                        <a:pt x="459581" y="130968"/>
                      </a:lnTo>
                      <a:lnTo>
                        <a:pt x="533400" y="126206"/>
                      </a:lnTo>
                      <a:lnTo>
                        <a:pt x="576262" y="114300"/>
                      </a:lnTo>
                      <a:lnTo>
                        <a:pt x="783431" y="88106"/>
                      </a:lnTo>
                      <a:lnTo>
                        <a:pt x="838200" y="259556"/>
                      </a:lnTo>
                      <a:lnTo>
                        <a:pt x="1050131" y="371475"/>
                      </a:lnTo>
                      <a:lnTo>
                        <a:pt x="1035844" y="419100"/>
                      </a:lnTo>
                      <a:lnTo>
                        <a:pt x="1073944" y="547687"/>
                      </a:lnTo>
                      <a:lnTo>
                        <a:pt x="1119187" y="652462"/>
                      </a:lnTo>
                      <a:lnTo>
                        <a:pt x="1033462" y="652462"/>
                      </a:lnTo>
                      <a:lnTo>
                        <a:pt x="895350" y="726281"/>
                      </a:lnTo>
                      <a:lnTo>
                        <a:pt x="809625" y="664368"/>
                      </a:lnTo>
                      <a:lnTo>
                        <a:pt x="785812" y="523875"/>
                      </a:lnTo>
                      <a:lnTo>
                        <a:pt x="759619" y="507206"/>
                      </a:lnTo>
                      <a:cubicBezTo>
                        <a:pt x="709202" y="497122"/>
                        <a:pt x="764219" y="507185"/>
                        <a:pt x="707231" y="500062"/>
                      </a:cubicBezTo>
                      <a:cubicBezTo>
                        <a:pt x="682176" y="496930"/>
                        <a:pt x="684976" y="496232"/>
                        <a:pt x="666750" y="492918"/>
                      </a:cubicBezTo>
                      <a:cubicBezTo>
                        <a:pt x="662000" y="492054"/>
                        <a:pt x="657225" y="491331"/>
                        <a:pt x="652462" y="490537"/>
                      </a:cubicBezTo>
                      <a:lnTo>
                        <a:pt x="516731" y="492918"/>
                      </a:lnTo>
                      <a:cubicBezTo>
                        <a:pt x="508575" y="493190"/>
                        <a:pt x="508434" y="497784"/>
                        <a:pt x="502444" y="502443"/>
                      </a:cubicBezTo>
                      <a:cubicBezTo>
                        <a:pt x="497926" y="505957"/>
                        <a:pt x="488156" y="511968"/>
                        <a:pt x="488156" y="511968"/>
                      </a:cubicBezTo>
                      <a:cubicBezTo>
                        <a:pt x="482409" y="520589"/>
                        <a:pt x="484674" y="516552"/>
                        <a:pt x="481012" y="523875"/>
                      </a:cubicBezTo>
                      <a:lnTo>
                        <a:pt x="297656" y="592931"/>
                      </a:lnTo>
                      <a:lnTo>
                        <a:pt x="340519" y="481012"/>
                      </a:lnTo>
                      <a:lnTo>
                        <a:pt x="321469" y="404812"/>
                      </a:lnTo>
                      <a:lnTo>
                        <a:pt x="171450" y="414337"/>
                      </a:lnTo>
                      <a:lnTo>
                        <a:pt x="54769" y="178593"/>
                      </a:lnTo>
                      <a:lnTo>
                        <a:pt x="0" y="135731"/>
                      </a:lnTo>
                      <a:cubicBezTo>
                        <a:pt x="34130" y="95249"/>
                        <a:pt x="30177" y="85727"/>
                        <a:pt x="33333" y="14286"/>
                      </a:cubicBez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Полилиния 81"/>
                <p:cNvSpPr/>
                <p:nvPr/>
              </p:nvSpPr>
              <p:spPr>
                <a:xfrm>
                  <a:off x="757080" y="4734360"/>
                  <a:ext cx="155880" cy="192240"/>
                </a:xfrm>
                <a:custGeom>
                  <a:avLst/>
                  <a:gdLst/>
                  <a:ahLst/>
                  <a:rect l="l" t="t" r="r" b="b"/>
                  <a:pathLst>
                    <a:path w="659606" h="823913">
                      <a:moveTo>
                        <a:pt x="154781" y="0"/>
                      </a:moveTo>
                      <a:lnTo>
                        <a:pt x="154781" y="0"/>
                      </a:lnTo>
                      <a:lnTo>
                        <a:pt x="154781" y="11906"/>
                      </a:lnTo>
                      <a:lnTo>
                        <a:pt x="271463" y="140494"/>
                      </a:lnTo>
                      <a:lnTo>
                        <a:pt x="264319" y="133350"/>
                      </a:lnTo>
                      <a:lnTo>
                        <a:pt x="304800" y="171450"/>
                      </a:lnTo>
                      <a:lnTo>
                        <a:pt x="295275" y="269081"/>
                      </a:lnTo>
                      <a:lnTo>
                        <a:pt x="411956" y="176213"/>
                      </a:lnTo>
                      <a:lnTo>
                        <a:pt x="569119" y="273844"/>
                      </a:lnTo>
                      <a:lnTo>
                        <a:pt x="659606" y="395288"/>
                      </a:lnTo>
                      <a:lnTo>
                        <a:pt x="614363" y="523875"/>
                      </a:lnTo>
                      <a:lnTo>
                        <a:pt x="488156" y="738188"/>
                      </a:lnTo>
                      <a:lnTo>
                        <a:pt x="347663" y="823913"/>
                      </a:lnTo>
                      <a:lnTo>
                        <a:pt x="214313" y="771525"/>
                      </a:lnTo>
                      <a:lnTo>
                        <a:pt x="97631" y="657225"/>
                      </a:lnTo>
                      <a:lnTo>
                        <a:pt x="16669" y="540544"/>
                      </a:lnTo>
                      <a:lnTo>
                        <a:pt x="0" y="407194"/>
                      </a:lnTo>
                      <a:lnTo>
                        <a:pt x="14288" y="366713"/>
                      </a:lnTo>
                      <a:lnTo>
                        <a:pt x="121444" y="316706"/>
                      </a:lnTo>
                      <a:lnTo>
                        <a:pt x="128588" y="109538"/>
                      </a:lnTo>
                      <a:lnTo>
                        <a:pt x="154781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Полилиния 82"/>
                <p:cNvSpPr/>
                <p:nvPr/>
              </p:nvSpPr>
              <p:spPr>
                <a:xfrm>
                  <a:off x="755640" y="4875840"/>
                  <a:ext cx="217800" cy="182880"/>
                </a:xfrm>
                <a:custGeom>
                  <a:avLst/>
                  <a:gdLst/>
                  <a:ahLst/>
                  <a:rect l="l" t="t" r="r" b="b"/>
                  <a:pathLst>
                    <a:path w="914400" h="788194">
                      <a:moveTo>
                        <a:pt x="0" y="485775"/>
                      </a:moveTo>
                      <a:lnTo>
                        <a:pt x="147638" y="383381"/>
                      </a:lnTo>
                      <a:lnTo>
                        <a:pt x="238125" y="171450"/>
                      </a:lnTo>
                      <a:lnTo>
                        <a:pt x="354807" y="219075"/>
                      </a:lnTo>
                      <a:lnTo>
                        <a:pt x="502444" y="130969"/>
                      </a:lnTo>
                      <a:lnTo>
                        <a:pt x="576263" y="0"/>
                      </a:lnTo>
                      <a:lnTo>
                        <a:pt x="631032" y="42862"/>
                      </a:lnTo>
                      <a:lnTo>
                        <a:pt x="745332" y="273844"/>
                      </a:lnTo>
                      <a:lnTo>
                        <a:pt x="892969" y="271462"/>
                      </a:lnTo>
                      <a:lnTo>
                        <a:pt x="914400" y="338137"/>
                      </a:lnTo>
                      <a:lnTo>
                        <a:pt x="819150" y="592931"/>
                      </a:lnTo>
                      <a:lnTo>
                        <a:pt x="769144" y="571500"/>
                      </a:lnTo>
                      <a:lnTo>
                        <a:pt x="683419" y="621506"/>
                      </a:lnTo>
                      <a:lnTo>
                        <a:pt x="561975" y="538162"/>
                      </a:lnTo>
                      <a:lnTo>
                        <a:pt x="500063" y="631031"/>
                      </a:lnTo>
                      <a:lnTo>
                        <a:pt x="428625" y="557212"/>
                      </a:lnTo>
                      <a:lnTo>
                        <a:pt x="385763" y="716756"/>
                      </a:lnTo>
                      <a:lnTo>
                        <a:pt x="309563" y="714375"/>
                      </a:lnTo>
                      <a:lnTo>
                        <a:pt x="114300" y="788194"/>
                      </a:lnTo>
                      <a:lnTo>
                        <a:pt x="119063" y="759619"/>
                      </a:lnTo>
                      <a:lnTo>
                        <a:pt x="164307" y="678656"/>
                      </a:lnTo>
                      <a:cubicBezTo>
                        <a:pt x="163513" y="671512"/>
                        <a:pt x="163953" y="664121"/>
                        <a:pt x="161925" y="657225"/>
                      </a:cubicBezTo>
                      <a:cubicBezTo>
                        <a:pt x="159922" y="650414"/>
                        <a:pt x="152400" y="638175"/>
                        <a:pt x="152400" y="638175"/>
                      </a:cubicBezTo>
                      <a:cubicBezTo>
                        <a:pt x="151606" y="635000"/>
                        <a:pt x="151834" y="631373"/>
                        <a:pt x="150019" y="628650"/>
                      </a:cubicBezTo>
                      <a:cubicBezTo>
                        <a:pt x="148431" y="626269"/>
                        <a:pt x="144899" y="625911"/>
                        <a:pt x="142875" y="623887"/>
                      </a:cubicBezTo>
                      <a:cubicBezTo>
                        <a:pt x="140852" y="621864"/>
                        <a:pt x="140136" y="618767"/>
                        <a:pt x="138113" y="616744"/>
                      </a:cubicBezTo>
                      <a:cubicBezTo>
                        <a:pt x="136089" y="614720"/>
                        <a:pt x="133259" y="613698"/>
                        <a:pt x="130969" y="611981"/>
                      </a:cubicBezTo>
                      <a:cubicBezTo>
                        <a:pt x="130071" y="611308"/>
                        <a:pt x="129382" y="610394"/>
                        <a:pt x="128588" y="609600"/>
                      </a:cubicBezTo>
                      <a:lnTo>
                        <a:pt x="0" y="485775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Полилиния 83"/>
                <p:cNvSpPr/>
                <p:nvPr/>
              </p:nvSpPr>
              <p:spPr>
                <a:xfrm>
                  <a:off x="949680" y="4960080"/>
                  <a:ext cx="221040" cy="115920"/>
                </a:xfrm>
                <a:custGeom>
                  <a:avLst/>
                  <a:gdLst/>
                  <a:ahLst/>
                  <a:rect l="l" t="t" r="r" b="b"/>
                  <a:pathLst>
                    <a:path w="926307" h="509588">
                      <a:moveTo>
                        <a:pt x="0" y="235744"/>
                      </a:moveTo>
                      <a:lnTo>
                        <a:pt x="64294" y="95250"/>
                      </a:lnTo>
                      <a:lnTo>
                        <a:pt x="235744" y="38100"/>
                      </a:lnTo>
                      <a:lnTo>
                        <a:pt x="273844" y="0"/>
                      </a:lnTo>
                      <a:lnTo>
                        <a:pt x="404813" y="0"/>
                      </a:lnTo>
                      <a:lnTo>
                        <a:pt x="523875" y="19050"/>
                      </a:lnTo>
                      <a:lnTo>
                        <a:pt x="542925" y="47625"/>
                      </a:lnTo>
                      <a:lnTo>
                        <a:pt x="569119" y="171450"/>
                      </a:lnTo>
                      <a:lnTo>
                        <a:pt x="650082" y="233363"/>
                      </a:lnTo>
                      <a:lnTo>
                        <a:pt x="790575" y="157163"/>
                      </a:lnTo>
                      <a:lnTo>
                        <a:pt x="888207" y="166688"/>
                      </a:lnTo>
                      <a:lnTo>
                        <a:pt x="878682" y="335756"/>
                      </a:lnTo>
                      <a:lnTo>
                        <a:pt x="926307" y="454819"/>
                      </a:lnTo>
                      <a:lnTo>
                        <a:pt x="881063" y="464344"/>
                      </a:lnTo>
                      <a:lnTo>
                        <a:pt x="778669" y="404813"/>
                      </a:lnTo>
                      <a:lnTo>
                        <a:pt x="557213" y="500063"/>
                      </a:lnTo>
                      <a:lnTo>
                        <a:pt x="421482" y="407194"/>
                      </a:lnTo>
                      <a:lnTo>
                        <a:pt x="245269" y="431006"/>
                      </a:lnTo>
                      <a:lnTo>
                        <a:pt x="80963" y="509588"/>
                      </a:lnTo>
                      <a:lnTo>
                        <a:pt x="114300" y="419100"/>
                      </a:lnTo>
                      <a:lnTo>
                        <a:pt x="57150" y="271463"/>
                      </a:lnTo>
                      <a:lnTo>
                        <a:pt x="0" y="23574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Полилиния 84"/>
                <p:cNvSpPr/>
                <p:nvPr/>
              </p:nvSpPr>
              <p:spPr>
                <a:xfrm>
                  <a:off x="1135800" y="4825080"/>
                  <a:ext cx="149400" cy="249480"/>
                </a:xfrm>
                <a:custGeom>
                  <a:avLst/>
                  <a:gdLst/>
                  <a:ahLst/>
                  <a:rect l="l" t="t" r="r" b="b"/>
                  <a:pathLst>
                    <a:path w="621506" h="1073944">
                      <a:moveTo>
                        <a:pt x="50006" y="416719"/>
                      </a:moveTo>
                      <a:lnTo>
                        <a:pt x="133350" y="381000"/>
                      </a:lnTo>
                      <a:lnTo>
                        <a:pt x="202406" y="180975"/>
                      </a:lnTo>
                      <a:lnTo>
                        <a:pt x="297656" y="178594"/>
                      </a:lnTo>
                      <a:lnTo>
                        <a:pt x="338137" y="0"/>
                      </a:lnTo>
                      <a:lnTo>
                        <a:pt x="619125" y="40481"/>
                      </a:lnTo>
                      <a:cubicBezTo>
                        <a:pt x="619919" y="112712"/>
                        <a:pt x="620712" y="184944"/>
                        <a:pt x="621506" y="257175"/>
                      </a:cubicBezTo>
                      <a:lnTo>
                        <a:pt x="502444" y="516731"/>
                      </a:lnTo>
                      <a:lnTo>
                        <a:pt x="516731" y="671512"/>
                      </a:lnTo>
                      <a:lnTo>
                        <a:pt x="523875" y="742950"/>
                      </a:lnTo>
                      <a:lnTo>
                        <a:pt x="461962" y="897731"/>
                      </a:lnTo>
                      <a:lnTo>
                        <a:pt x="447675" y="1073944"/>
                      </a:lnTo>
                      <a:lnTo>
                        <a:pt x="378619" y="1014412"/>
                      </a:lnTo>
                      <a:lnTo>
                        <a:pt x="247650" y="1031081"/>
                      </a:lnTo>
                      <a:lnTo>
                        <a:pt x="147637" y="1028700"/>
                      </a:lnTo>
                      <a:lnTo>
                        <a:pt x="97631" y="916781"/>
                      </a:lnTo>
                      <a:cubicBezTo>
                        <a:pt x="96837" y="854869"/>
                        <a:pt x="96044" y="792956"/>
                        <a:pt x="95250" y="731044"/>
                      </a:cubicBezTo>
                      <a:lnTo>
                        <a:pt x="0" y="511969"/>
                      </a:lnTo>
                      <a:lnTo>
                        <a:pt x="50006" y="41671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олилиния 85"/>
                <p:cNvSpPr/>
                <p:nvPr/>
              </p:nvSpPr>
              <p:spPr>
                <a:xfrm>
                  <a:off x="1240560" y="4831560"/>
                  <a:ext cx="133560" cy="278280"/>
                </a:xfrm>
                <a:custGeom>
                  <a:avLst/>
                  <a:gdLst/>
                  <a:ahLst/>
                  <a:rect l="l" t="t" r="r" b="b"/>
                  <a:pathLst>
                    <a:path w="561975" h="1200150">
                      <a:moveTo>
                        <a:pt x="226218" y="33337"/>
                      </a:moveTo>
                      <a:lnTo>
                        <a:pt x="352425" y="7144"/>
                      </a:lnTo>
                      <a:lnTo>
                        <a:pt x="330993" y="152400"/>
                      </a:lnTo>
                      <a:lnTo>
                        <a:pt x="457200" y="185737"/>
                      </a:lnTo>
                      <a:lnTo>
                        <a:pt x="561975" y="188119"/>
                      </a:lnTo>
                      <a:lnTo>
                        <a:pt x="514350" y="338137"/>
                      </a:lnTo>
                      <a:lnTo>
                        <a:pt x="471487" y="407194"/>
                      </a:lnTo>
                      <a:lnTo>
                        <a:pt x="366712" y="504825"/>
                      </a:lnTo>
                      <a:lnTo>
                        <a:pt x="357187" y="576262"/>
                      </a:lnTo>
                      <a:lnTo>
                        <a:pt x="378618" y="614362"/>
                      </a:lnTo>
                      <a:lnTo>
                        <a:pt x="333375" y="776287"/>
                      </a:lnTo>
                      <a:lnTo>
                        <a:pt x="388143" y="845344"/>
                      </a:lnTo>
                      <a:lnTo>
                        <a:pt x="390525" y="921544"/>
                      </a:lnTo>
                      <a:lnTo>
                        <a:pt x="471487" y="916781"/>
                      </a:lnTo>
                      <a:lnTo>
                        <a:pt x="421481" y="1083469"/>
                      </a:lnTo>
                      <a:lnTo>
                        <a:pt x="452437" y="1200150"/>
                      </a:lnTo>
                      <a:lnTo>
                        <a:pt x="245268" y="1121569"/>
                      </a:lnTo>
                      <a:lnTo>
                        <a:pt x="0" y="1166812"/>
                      </a:lnTo>
                      <a:lnTo>
                        <a:pt x="16668" y="1016794"/>
                      </a:lnTo>
                      <a:lnTo>
                        <a:pt x="26193" y="885825"/>
                      </a:lnTo>
                      <a:lnTo>
                        <a:pt x="90487" y="719137"/>
                      </a:lnTo>
                      <a:lnTo>
                        <a:pt x="76200" y="483394"/>
                      </a:lnTo>
                      <a:lnTo>
                        <a:pt x="188118" y="226219"/>
                      </a:lnTo>
                      <a:lnTo>
                        <a:pt x="183356" y="0"/>
                      </a:lnTo>
                      <a:lnTo>
                        <a:pt x="226218" y="3333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олилиния 86"/>
                <p:cNvSpPr/>
                <p:nvPr/>
              </p:nvSpPr>
              <p:spPr>
                <a:xfrm>
                  <a:off x="952560" y="5055840"/>
                  <a:ext cx="171720" cy="103320"/>
                </a:xfrm>
                <a:custGeom>
                  <a:avLst/>
                  <a:gdLst/>
                  <a:ahLst/>
                  <a:rect l="l" t="t" r="r" b="b"/>
                  <a:pathLst>
                    <a:path w="721519" h="447675">
                      <a:moveTo>
                        <a:pt x="0" y="214312"/>
                      </a:moveTo>
                      <a:lnTo>
                        <a:pt x="42863" y="178594"/>
                      </a:lnTo>
                      <a:lnTo>
                        <a:pt x="66675" y="95250"/>
                      </a:lnTo>
                      <a:lnTo>
                        <a:pt x="235744" y="16669"/>
                      </a:lnTo>
                      <a:lnTo>
                        <a:pt x="404813" y="0"/>
                      </a:lnTo>
                      <a:lnTo>
                        <a:pt x="547688" y="97631"/>
                      </a:lnTo>
                      <a:lnTo>
                        <a:pt x="661988" y="40481"/>
                      </a:lnTo>
                      <a:lnTo>
                        <a:pt x="721519" y="119062"/>
                      </a:lnTo>
                      <a:lnTo>
                        <a:pt x="640556" y="254794"/>
                      </a:lnTo>
                      <a:lnTo>
                        <a:pt x="616744" y="245269"/>
                      </a:lnTo>
                      <a:lnTo>
                        <a:pt x="526256" y="361950"/>
                      </a:lnTo>
                      <a:lnTo>
                        <a:pt x="531019" y="428625"/>
                      </a:lnTo>
                      <a:lnTo>
                        <a:pt x="521494" y="447675"/>
                      </a:lnTo>
                      <a:lnTo>
                        <a:pt x="414338" y="411956"/>
                      </a:lnTo>
                      <a:lnTo>
                        <a:pt x="283369" y="390525"/>
                      </a:lnTo>
                      <a:lnTo>
                        <a:pt x="130969" y="400050"/>
                      </a:lnTo>
                      <a:lnTo>
                        <a:pt x="126206" y="257175"/>
                      </a:lnTo>
                      <a:lnTo>
                        <a:pt x="0" y="21431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олилиния 87"/>
                <p:cNvSpPr/>
                <p:nvPr/>
              </p:nvSpPr>
              <p:spPr>
                <a:xfrm>
                  <a:off x="784080" y="5003280"/>
                  <a:ext cx="192240" cy="131760"/>
                </a:xfrm>
                <a:custGeom>
                  <a:avLst/>
                  <a:gdLst/>
                  <a:ahLst/>
                  <a:rect l="l" t="t" r="r" b="b"/>
                  <a:pathLst>
                    <a:path w="819150" h="569118">
                      <a:moveTo>
                        <a:pt x="150018" y="497681"/>
                      </a:moveTo>
                      <a:lnTo>
                        <a:pt x="138112" y="440531"/>
                      </a:lnTo>
                      <a:lnTo>
                        <a:pt x="23812" y="404812"/>
                      </a:lnTo>
                      <a:lnTo>
                        <a:pt x="0" y="240506"/>
                      </a:lnTo>
                      <a:lnTo>
                        <a:pt x="190500" y="171450"/>
                      </a:lnTo>
                      <a:lnTo>
                        <a:pt x="271462" y="176212"/>
                      </a:lnTo>
                      <a:lnTo>
                        <a:pt x="309562" y="21431"/>
                      </a:lnTo>
                      <a:lnTo>
                        <a:pt x="383381" y="85725"/>
                      </a:lnTo>
                      <a:lnTo>
                        <a:pt x="445293" y="0"/>
                      </a:lnTo>
                      <a:lnTo>
                        <a:pt x="569118" y="83343"/>
                      </a:lnTo>
                      <a:lnTo>
                        <a:pt x="654843" y="23812"/>
                      </a:lnTo>
                      <a:lnTo>
                        <a:pt x="764381" y="80962"/>
                      </a:lnTo>
                      <a:lnTo>
                        <a:pt x="819150" y="233362"/>
                      </a:lnTo>
                      <a:lnTo>
                        <a:pt x="757237" y="402431"/>
                      </a:lnTo>
                      <a:lnTo>
                        <a:pt x="723900" y="433387"/>
                      </a:lnTo>
                      <a:lnTo>
                        <a:pt x="673893" y="461962"/>
                      </a:lnTo>
                      <a:lnTo>
                        <a:pt x="597693" y="564356"/>
                      </a:lnTo>
                      <a:lnTo>
                        <a:pt x="519112" y="569118"/>
                      </a:lnTo>
                      <a:lnTo>
                        <a:pt x="295275" y="485775"/>
                      </a:lnTo>
                      <a:lnTo>
                        <a:pt x="150018" y="49768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Полилиния 88"/>
                <p:cNvSpPr/>
                <p:nvPr/>
              </p:nvSpPr>
              <p:spPr>
                <a:xfrm>
                  <a:off x="1107000" y="5054040"/>
                  <a:ext cx="136800" cy="144720"/>
                </a:xfrm>
                <a:custGeom>
                  <a:avLst/>
                  <a:gdLst/>
                  <a:ahLst/>
                  <a:rect l="l" t="t" r="r" b="b"/>
                  <a:pathLst>
                    <a:path w="573881" h="621507">
                      <a:moveTo>
                        <a:pt x="0" y="254794"/>
                      </a:moveTo>
                      <a:lnTo>
                        <a:pt x="64293" y="283369"/>
                      </a:lnTo>
                      <a:lnTo>
                        <a:pt x="119062" y="395288"/>
                      </a:lnTo>
                      <a:cubicBezTo>
                        <a:pt x="119856" y="419894"/>
                        <a:pt x="120649" y="444501"/>
                        <a:pt x="121443" y="469107"/>
                      </a:cubicBezTo>
                      <a:lnTo>
                        <a:pt x="140493" y="528638"/>
                      </a:lnTo>
                      <a:lnTo>
                        <a:pt x="207168" y="621507"/>
                      </a:lnTo>
                      <a:lnTo>
                        <a:pt x="340518" y="559594"/>
                      </a:lnTo>
                      <a:lnTo>
                        <a:pt x="307181" y="545307"/>
                      </a:lnTo>
                      <a:lnTo>
                        <a:pt x="311943" y="476250"/>
                      </a:lnTo>
                      <a:lnTo>
                        <a:pt x="452437" y="288132"/>
                      </a:lnTo>
                      <a:lnTo>
                        <a:pt x="559593" y="245269"/>
                      </a:lnTo>
                      <a:lnTo>
                        <a:pt x="573881" y="97632"/>
                      </a:lnTo>
                      <a:lnTo>
                        <a:pt x="502443" y="38100"/>
                      </a:lnTo>
                      <a:lnTo>
                        <a:pt x="378618" y="54769"/>
                      </a:lnTo>
                      <a:lnTo>
                        <a:pt x="266700" y="47625"/>
                      </a:lnTo>
                      <a:lnTo>
                        <a:pt x="223837" y="61913"/>
                      </a:lnTo>
                      <a:lnTo>
                        <a:pt x="114300" y="0"/>
                      </a:lnTo>
                      <a:lnTo>
                        <a:pt x="9525" y="45244"/>
                      </a:lnTo>
                      <a:lnTo>
                        <a:pt x="71437" y="114300"/>
                      </a:lnTo>
                      <a:lnTo>
                        <a:pt x="0" y="25479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Полилиния 89"/>
                <p:cNvSpPr/>
                <p:nvPr/>
              </p:nvSpPr>
              <p:spPr>
                <a:xfrm>
                  <a:off x="1180080" y="5092200"/>
                  <a:ext cx="173160" cy="169920"/>
                </a:xfrm>
                <a:custGeom>
                  <a:avLst/>
                  <a:gdLst/>
                  <a:ahLst/>
                  <a:rect l="l" t="t" r="r" b="b"/>
                  <a:pathLst>
                    <a:path w="723900" h="726281">
                      <a:moveTo>
                        <a:pt x="228600" y="726281"/>
                      </a:moveTo>
                      <a:lnTo>
                        <a:pt x="130969" y="642937"/>
                      </a:lnTo>
                      <a:lnTo>
                        <a:pt x="173831" y="557212"/>
                      </a:lnTo>
                      <a:lnTo>
                        <a:pt x="150019" y="461962"/>
                      </a:lnTo>
                      <a:lnTo>
                        <a:pt x="0" y="371475"/>
                      </a:lnTo>
                      <a:cubicBezTo>
                        <a:pt x="794" y="346075"/>
                        <a:pt x="1587" y="320675"/>
                        <a:pt x="2381" y="295275"/>
                      </a:cubicBezTo>
                      <a:lnTo>
                        <a:pt x="140494" y="119062"/>
                      </a:lnTo>
                      <a:lnTo>
                        <a:pt x="254794" y="69056"/>
                      </a:lnTo>
                      <a:lnTo>
                        <a:pt x="259556" y="38100"/>
                      </a:lnTo>
                      <a:lnTo>
                        <a:pt x="504825" y="0"/>
                      </a:lnTo>
                      <a:lnTo>
                        <a:pt x="702469" y="76200"/>
                      </a:lnTo>
                      <a:lnTo>
                        <a:pt x="723900" y="159543"/>
                      </a:lnTo>
                      <a:lnTo>
                        <a:pt x="711994" y="295275"/>
                      </a:lnTo>
                      <a:lnTo>
                        <a:pt x="671513" y="419100"/>
                      </a:lnTo>
                      <a:lnTo>
                        <a:pt x="633413" y="504825"/>
                      </a:lnTo>
                      <a:lnTo>
                        <a:pt x="461963" y="588168"/>
                      </a:lnTo>
                      <a:lnTo>
                        <a:pt x="247650" y="619125"/>
                      </a:lnTo>
                      <a:lnTo>
                        <a:pt x="228600" y="72628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Полилиния 90"/>
                <p:cNvSpPr/>
                <p:nvPr/>
              </p:nvSpPr>
              <p:spPr>
                <a:xfrm>
                  <a:off x="908280" y="5101920"/>
                  <a:ext cx="187560" cy="198720"/>
                </a:xfrm>
                <a:custGeom>
                  <a:avLst/>
                  <a:gdLst/>
                  <a:ahLst/>
                  <a:rect l="l" t="t" r="r" b="b"/>
                  <a:pathLst>
                    <a:path w="785812" h="845344">
                      <a:moveTo>
                        <a:pt x="95250" y="545306"/>
                      </a:moveTo>
                      <a:lnTo>
                        <a:pt x="0" y="488156"/>
                      </a:lnTo>
                      <a:lnTo>
                        <a:pt x="76200" y="431006"/>
                      </a:lnTo>
                      <a:lnTo>
                        <a:pt x="97631" y="383381"/>
                      </a:lnTo>
                      <a:lnTo>
                        <a:pt x="59531" y="138113"/>
                      </a:lnTo>
                      <a:lnTo>
                        <a:pt x="145256" y="19050"/>
                      </a:lnTo>
                      <a:lnTo>
                        <a:pt x="185737" y="0"/>
                      </a:lnTo>
                      <a:lnTo>
                        <a:pt x="311944" y="50006"/>
                      </a:lnTo>
                      <a:lnTo>
                        <a:pt x="311944" y="166688"/>
                      </a:lnTo>
                      <a:lnTo>
                        <a:pt x="316706" y="183356"/>
                      </a:lnTo>
                      <a:lnTo>
                        <a:pt x="464344" y="178594"/>
                      </a:lnTo>
                      <a:lnTo>
                        <a:pt x="600075" y="202406"/>
                      </a:lnTo>
                      <a:lnTo>
                        <a:pt x="707231" y="238125"/>
                      </a:lnTo>
                      <a:lnTo>
                        <a:pt x="595312" y="304800"/>
                      </a:lnTo>
                      <a:lnTo>
                        <a:pt x="611981" y="426244"/>
                      </a:lnTo>
                      <a:lnTo>
                        <a:pt x="731044" y="652463"/>
                      </a:lnTo>
                      <a:lnTo>
                        <a:pt x="785812" y="845344"/>
                      </a:lnTo>
                      <a:lnTo>
                        <a:pt x="711994" y="804863"/>
                      </a:lnTo>
                      <a:lnTo>
                        <a:pt x="588169" y="845344"/>
                      </a:lnTo>
                      <a:lnTo>
                        <a:pt x="561975" y="709613"/>
                      </a:lnTo>
                      <a:lnTo>
                        <a:pt x="485775" y="700088"/>
                      </a:lnTo>
                      <a:lnTo>
                        <a:pt x="419100" y="621506"/>
                      </a:lnTo>
                      <a:lnTo>
                        <a:pt x="292894" y="552450"/>
                      </a:lnTo>
                      <a:lnTo>
                        <a:pt x="183356" y="497681"/>
                      </a:lnTo>
                      <a:lnTo>
                        <a:pt x="95250" y="54530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Полилиния 91"/>
                <p:cNvSpPr/>
                <p:nvPr/>
              </p:nvSpPr>
              <p:spPr>
                <a:xfrm>
                  <a:off x="1053000" y="5109840"/>
                  <a:ext cx="184320" cy="217800"/>
                </a:xfrm>
                <a:custGeom>
                  <a:avLst/>
                  <a:gdLst/>
                  <a:ahLst/>
                  <a:rect l="l" t="t" r="r" b="b"/>
                  <a:pathLst>
                    <a:path w="773907" h="931069">
                      <a:moveTo>
                        <a:pt x="388144" y="931069"/>
                      </a:moveTo>
                      <a:lnTo>
                        <a:pt x="180975" y="816769"/>
                      </a:lnTo>
                      <a:lnTo>
                        <a:pt x="138113" y="607219"/>
                      </a:lnTo>
                      <a:lnTo>
                        <a:pt x="19050" y="397669"/>
                      </a:lnTo>
                      <a:lnTo>
                        <a:pt x="0" y="266700"/>
                      </a:lnTo>
                      <a:lnTo>
                        <a:pt x="109538" y="209550"/>
                      </a:lnTo>
                      <a:lnTo>
                        <a:pt x="114300" y="119063"/>
                      </a:lnTo>
                      <a:lnTo>
                        <a:pt x="202407" y="0"/>
                      </a:lnTo>
                      <a:lnTo>
                        <a:pt x="302419" y="40482"/>
                      </a:lnTo>
                      <a:lnTo>
                        <a:pt x="345282" y="140494"/>
                      </a:lnTo>
                      <a:lnTo>
                        <a:pt x="352425" y="228600"/>
                      </a:lnTo>
                      <a:lnTo>
                        <a:pt x="373857" y="276225"/>
                      </a:lnTo>
                      <a:lnTo>
                        <a:pt x="440532" y="371475"/>
                      </a:lnTo>
                      <a:lnTo>
                        <a:pt x="578644" y="311944"/>
                      </a:lnTo>
                      <a:lnTo>
                        <a:pt x="690563" y="390525"/>
                      </a:lnTo>
                      <a:lnTo>
                        <a:pt x="711994" y="481013"/>
                      </a:lnTo>
                      <a:lnTo>
                        <a:pt x="673894" y="566738"/>
                      </a:lnTo>
                      <a:lnTo>
                        <a:pt x="773907" y="650082"/>
                      </a:lnTo>
                      <a:lnTo>
                        <a:pt x="769144" y="707232"/>
                      </a:lnTo>
                      <a:lnTo>
                        <a:pt x="578644" y="628650"/>
                      </a:lnTo>
                      <a:lnTo>
                        <a:pt x="445294" y="492919"/>
                      </a:lnTo>
                      <a:lnTo>
                        <a:pt x="392907" y="661988"/>
                      </a:lnTo>
                      <a:cubicBezTo>
                        <a:pt x="391319" y="752475"/>
                        <a:pt x="389732" y="842963"/>
                        <a:pt x="388144" y="931069"/>
                      </a:cubicBez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Полилиния 92"/>
                <p:cNvSpPr/>
                <p:nvPr/>
              </p:nvSpPr>
              <p:spPr>
                <a:xfrm>
                  <a:off x="1127880" y="5225760"/>
                  <a:ext cx="171720" cy="262080"/>
                </a:xfrm>
                <a:custGeom>
                  <a:avLst/>
                  <a:gdLst/>
                  <a:ahLst/>
                  <a:rect l="l" t="t" r="r" b="b"/>
                  <a:pathLst>
                    <a:path w="714375" h="1121569">
                      <a:moveTo>
                        <a:pt x="447675" y="209550"/>
                      </a:moveTo>
                      <a:lnTo>
                        <a:pt x="419100" y="361950"/>
                      </a:lnTo>
                      <a:lnTo>
                        <a:pt x="607218" y="731044"/>
                      </a:lnTo>
                      <a:lnTo>
                        <a:pt x="714375" y="831057"/>
                      </a:lnTo>
                      <a:lnTo>
                        <a:pt x="704850" y="938213"/>
                      </a:lnTo>
                      <a:lnTo>
                        <a:pt x="626268" y="1009650"/>
                      </a:lnTo>
                      <a:lnTo>
                        <a:pt x="611981" y="1121569"/>
                      </a:lnTo>
                      <a:lnTo>
                        <a:pt x="440531" y="1031082"/>
                      </a:lnTo>
                      <a:lnTo>
                        <a:pt x="197643" y="1007269"/>
                      </a:lnTo>
                      <a:lnTo>
                        <a:pt x="221456" y="940594"/>
                      </a:lnTo>
                      <a:lnTo>
                        <a:pt x="0" y="878682"/>
                      </a:lnTo>
                      <a:lnTo>
                        <a:pt x="50006" y="740569"/>
                      </a:lnTo>
                      <a:lnTo>
                        <a:pt x="64293" y="428625"/>
                      </a:lnTo>
                      <a:lnTo>
                        <a:pt x="76200" y="147638"/>
                      </a:lnTo>
                      <a:lnTo>
                        <a:pt x="121443" y="0"/>
                      </a:lnTo>
                      <a:lnTo>
                        <a:pt x="252412" y="128588"/>
                      </a:lnTo>
                      <a:lnTo>
                        <a:pt x="447675" y="20955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Полилиния 93"/>
                <p:cNvSpPr/>
                <p:nvPr/>
              </p:nvSpPr>
              <p:spPr>
                <a:xfrm>
                  <a:off x="947880" y="5289480"/>
                  <a:ext cx="196920" cy="162000"/>
                </a:xfrm>
                <a:custGeom>
                  <a:avLst/>
                  <a:gdLst/>
                  <a:ahLst/>
                  <a:rect l="l" t="t" r="r" b="b"/>
                  <a:pathLst>
                    <a:path w="826294" h="688182">
                      <a:moveTo>
                        <a:pt x="83342" y="316721"/>
                      </a:moveTo>
                      <a:lnTo>
                        <a:pt x="0" y="107157"/>
                      </a:lnTo>
                      <a:lnTo>
                        <a:pt x="259557" y="123825"/>
                      </a:lnTo>
                      <a:lnTo>
                        <a:pt x="428625" y="40482"/>
                      </a:lnTo>
                      <a:lnTo>
                        <a:pt x="559594" y="0"/>
                      </a:lnTo>
                      <a:lnTo>
                        <a:pt x="826294" y="154782"/>
                      </a:lnTo>
                      <a:lnTo>
                        <a:pt x="812007" y="466725"/>
                      </a:lnTo>
                      <a:lnTo>
                        <a:pt x="731044" y="678657"/>
                      </a:lnTo>
                      <a:lnTo>
                        <a:pt x="428625" y="688182"/>
                      </a:lnTo>
                      <a:lnTo>
                        <a:pt x="411957" y="592932"/>
                      </a:lnTo>
                      <a:lnTo>
                        <a:pt x="304800" y="569119"/>
                      </a:lnTo>
                      <a:lnTo>
                        <a:pt x="188119" y="523875"/>
                      </a:lnTo>
                      <a:lnTo>
                        <a:pt x="83342" y="31672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Полилиния 94"/>
                <p:cNvSpPr/>
                <p:nvPr/>
              </p:nvSpPr>
              <p:spPr>
                <a:xfrm>
                  <a:off x="1049760" y="5429520"/>
                  <a:ext cx="198720" cy="162000"/>
                </a:xfrm>
                <a:custGeom>
                  <a:avLst/>
                  <a:gdLst/>
                  <a:ahLst/>
                  <a:rect l="l" t="t" r="r" b="b"/>
                  <a:pathLst>
                    <a:path w="838200" h="692944">
                      <a:moveTo>
                        <a:pt x="0" y="90488"/>
                      </a:moveTo>
                      <a:lnTo>
                        <a:pt x="11906" y="280988"/>
                      </a:lnTo>
                      <a:lnTo>
                        <a:pt x="230981" y="285750"/>
                      </a:lnTo>
                      <a:lnTo>
                        <a:pt x="280987" y="447675"/>
                      </a:lnTo>
                      <a:lnTo>
                        <a:pt x="314325" y="573881"/>
                      </a:lnTo>
                      <a:lnTo>
                        <a:pt x="369093" y="666750"/>
                      </a:lnTo>
                      <a:lnTo>
                        <a:pt x="466725" y="692944"/>
                      </a:lnTo>
                      <a:lnTo>
                        <a:pt x="573881" y="678656"/>
                      </a:lnTo>
                      <a:lnTo>
                        <a:pt x="719137" y="631031"/>
                      </a:lnTo>
                      <a:lnTo>
                        <a:pt x="816768" y="511969"/>
                      </a:lnTo>
                      <a:lnTo>
                        <a:pt x="819150" y="350044"/>
                      </a:lnTo>
                      <a:lnTo>
                        <a:pt x="838200" y="195263"/>
                      </a:lnTo>
                      <a:lnTo>
                        <a:pt x="769143" y="154781"/>
                      </a:lnTo>
                      <a:lnTo>
                        <a:pt x="528637" y="128588"/>
                      </a:lnTo>
                      <a:lnTo>
                        <a:pt x="552450" y="59531"/>
                      </a:lnTo>
                      <a:lnTo>
                        <a:pt x="328612" y="0"/>
                      </a:lnTo>
                      <a:lnTo>
                        <a:pt x="302418" y="80963"/>
                      </a:lnTo>
                      <a:lnTo>
                        <a:pt x="0" y="90488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Полилиния 95"/>
                <p:cNvSpPr/>
                <p:nvPr/>
              </p:nvSpPr>
              <p:spPr>
                <a:xfrm>
                  <a:off x="1183320" y="5551920"/>
                  <a:ext cx="101520" cy="104760"/>
                </a:xfrm>
                <a:custGeom>
                  <a:avLst/>
                  <a:gdLst/>
                  <a:ahLst/>
                  <a:rect l="l" t="t" r="r" b="b"/>
                  <a:pathLst>
                    <a:path w="431006" h="452438">
                      <a:moveTo>
                        <a:pt x="0" y="154781"/>
                      </a:moveTo>
                      <a:lnTo>
                        <a:pt x="64294" y="254794"/>
                      </a:lnTo>
                      <a:lnTo>
                        <a:pt x="73819" y="330994"/>
                      </a:lnTo>
                      <a:lnTo>
                        <a:pt x="57150" y="397669"/>
                      </a:lnTo>
                      <a:lnTo>
                        <a:pt x="285750" y="438150"/>
                      </a:lnTo>
                      <a:lnTo>
                        <a:pt x="357187" y="452438"/>
                      </a:lnTo>
                      <a:lnTo>
                        <a:pt x="409575" y="359569"/>
                      </a:lnTo>
                      <a:lnTo>
                        <a:pt x="431006" y="190500"/>
                      </a:lnTo>
                      <a:lnTo>
                        <a:pt x="347662" y="164306"/>
                      </a:lnTo>
                      <a:lnTo>
                        <a:pt x="330994" y="0"/>
                      </a:lnTo>
                      <a:lnTo>
                        <a:pt x="250031" y="4763"/>
                      </a:lnTo>
                      <a:lnTo>
                        <a:pt x="169069" y="107156"/>
                      </a:lnTo>
                      <a:lnTo>
                        <a:pt x="0" y="154781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Полилиния 96"/>
                <p:cNvSpPr/>
                <p:nvPr/>
              </p:nvSpPr>
              <p:spPr>
                <a:xfrm>
                  <a:off x="882720" y="5216400"/>
                  <a:ext cx="165240" cy="154080"/>
                </a:xfrm>
                <a:custGeom>
                  <a:avLst/>
                  <a:gdLst/>
                  <a:ahLst/>
                  <a:rect l="l" t="t" r="r" b="b"/>
                  <a:pathLst>
                    <a:path w="697706" h="659606">
                      <a:moveTo>
                        <a:pt x="152400" y="659606"/>
                      </a:moveTo>
                      <a:lnTo>
                        <a:pt x="0" y="559594"/>
                      </a:lnTo>
                      <a:lnTo>
                        <a:pt x="40481" y="252413"/>
                      </a:lnTo>
                      <a:lnTo>
                        <a:pt x="85725" y="180975"/>
                      </a:lnTo>
                      <a:lnTo>
                        <a:pt x="90488" y="121444"/>
                      </a:lnTo>
                      <a:lnTo>
                        <a:pt x="66675" y="9525"/>
                      </a:lnTo>
                      <a:lnTo>
                        <a:pt x="119063" y="0"/>
                      </a:lnTo>
                      <a:lnTo>
                        <a:pt x="204788" y="57150"/>
                      </a:lnTo>
                      <a:lnTo>
                        <a:pt x="297656" y="11906"/>
                      </a:lnTo>
                      <a:lnTo>
                        <a:pt x="523875" y="130969"/>
                      </a:lnTo>
                      <a:lnTo>
                        <a:pt x="595313" y="214313"/>
                      </a:lnTo>
                      <a:lnTo>
                        <a:pt x="678656" y="226219"/>
                      </a:lnTo>
                      <a:lnTo>
                        <a:pt x="697706" y="357188"/>
                      </a:lnTo>
                      <a:lnTo>
                        <a:pt x="526256" y="440531"/>
                      </a:lnTo>
                      <a:lnTo>
                        <a:pt x="273844" y="423863"/>
                      </a:lnTo>
                      <a:lnTo>
                        <a:pt x="352425" y="628650"/>
                      </a:lnTo>
                      <a:lnTo>
                        <a:pt x="235744" y="626269"/>
                      </a:lnTo>
                      <a:lnTo>
                        <a:pt x="152400" y="65960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Полилиния 97"/>
                <p:cNvSpPr/>
                <p:nvPr/>
              </p:nvSpPr>
              <p:spPr>
                <a:xfrm>
                  <a:off x="788760" y="5115960"/>
                  <a:ext cx="146160" cy="241560"/>
                </a:xfrm>
                <a:custGeom>
                  <a:avLst/>
                  <a:gdLst/>
                  <a:ahLst/>
                  <a:rect l="l" t="t" r="r" b="b"/>
                  <a:pathLst>
                    <a:path w="614363" h="1033462">
                      <a:moveTo>
                        <a:pt x="40481" y="71437"/>
                      </a:moveTo>
                      <a:lnTo>
                        <a:pt x="135731" y="109537"/>
                      </a:lnTo>
                      <a:lnTo>
                        <a:pt x="126206" y="4762"/>
                      </a:lnTo>
                      <a:lnTo>
                        <a:pt x="276225" y="0"/>
                      </a:lnTo>
                      <a:lnTo>
                        <a:pt x="500063" y="83344"/>
                      </a:lnTo>
                      <a:lnTo>
                        <a:pt x="573881" y="76200"/>
                      </a:lnTo>
                      <a:lnTo>
                        <a:pt x="614363" y="319087"/>
                      </a:lnTo>
                      <a:lnTo>
                        <a:pt x="592931" y="373856"/>
                      </a:lnTo>
                      <a:lnTo>
                        <a:pt x="519113" y="426244"/>
                      </a:lnTo>
                      <a:lnTo>
                        <a:pt x="469106" y="433387"/>
                      </a:lnTo>
                      <a:lnTo>
                        <a:pt x="490538" y="571500"/>
                      </a:lnTo>
                      <a:lnTo>
                        <a:pt x="490538" y="611981"/>
                      </a:lnTo>
                      <a:lnTo>
                        <a:pt x="438150" y="681037"/>
                      </a:lnTo>
                      <a:lnTo>
                        <a:pt x="369094" y="728662"/>
                      </a:lnTo>
                      <a:lnTo>
                        <a:pt x="321469" y="759619"/>
                      </a:lnTo>
                      <a:lnTo>
                        <a:pt x="292894" y="838200"/>
                      </a:lnTo>
                      <a:lnTo>
                        <a:pt x="300038" y="950119"/>
                      </a:lnTo>
                      <a:lnTo>
                        <a:pt x="269081" y="1028700"/>
                      </a:lnTo>
                      <a:lnTo>
                        <a:pt x="202406" y="1033462"/>
                      </a:lnTo>
                      <a:lnTo>
                        <a:pt x="176213" y="907256"/>
                      </a:lnTo>
                      <a:lnTo>
                        <a:pt x="135731" y="897731"/>
                      </a:lnTo>
                      <a:lnTo>
                        <a:pt x="159544" y="650081"/>
                      </a:lnTo>
                      <a:lnTo>
                        <a:pt x="142875" y="407194"/>
                      </a:lnTo>
                      <a:lnTo>
                        <a:pt x="66675" y="316706"/>
                      </a:lnTo>
                      <a:lnTo>
                        <a:pt x="90488" y="197644"/>
                      </a:lnTo>
                      <a:lnTo>
                        <a:pt x="0" y="138112"/>
                      </a:lnTo>
                      <a:lnTo>
                        <a:pt x="40481" y="7143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Полилиния 98"/>
                <p:cNvSpPr/>
                <p:nvPr/>
              </p:nvSpPr>
              <p:spPr>
                <a:xfrm>
                  <a:off x="722160" y="5181480"/>
                  <a:ext cx="104760" cy="147600"/>
                </a:xfrm>
                <a:custGeom>
                  <a:avLst/>
                  <a:gdLst/>
                  <a:ahLst/>
                  <a:rect l="l" t="t" r="r" b="b"/>
                  <a:pathLst>
                    <a:path w="447675" h="631032">
                      <a:moveTo>
                        <a:pt x="280987" y="631032"/>
                      </a:moveTo>
                      <a:lnTo>
                        <a:pt x="171450" y="514350"/>
                      </a:lnTo>
                      <a:lnTo>
                        <a:pt x="35718" y="404813"/>
                      </a:lnTo>
                      <a:lnTo>
                        <a:pt x="0" y="228600"/>
                      </a:lnTo>
                      <a:lnTo>
                        <a:pt x="133350" y="0"/>
                      </a:lnTo>
                      <a:lnTo>
                        <a:pt x="259556" y="9525"/>
                      </a:lnTo>
                      <a:lnTo>
                        <a:pt x="347662" y="66675"/>
                      </a:lnTo>
                      <a:lnTo>
                        <a:pt x="340518" y="30957"/>
                      </a:lnTo>
                      <a:lnTo>
                        <a:pt x="423862" y="119063"/>
                      </a:lnTo>
                      <a:lnTo>
                        <a:pt x="447675" y="359569"/>
                      </a:lnTo>
                      <a:lnTo>
                        <a:pt x="419100" y="602457"/>
                      </a:lnTo>
                      <a:lnTo>
                        <a:pt x="419100" y="602457"/>
                      </a:lnTo>
                      <a:lnTo>
                        <a:pt x="335756" y="607219"/>
                      </a:lnTo>
                      <a:lnTo>
                        <a:pt x="280987" y="63103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Полилиния 99"/>
                <p:cNvSpPr/>
                <p:nvPr/>
              </p:nvSpPr>
              <p:spPr>
                <a:xfrm>
                  <a:off x="591480" y="5235480"/>
                  <a:ext cx="196920" cy="154080"/>
                </a:xfrm>
                <a:custGeom>
                  <a:avLst/>
                  <a:gdLst/>
                  <a:ahLst/>
                  <a:rect l="l" t="t" r="r" b="b"/>
                  <a:pathLst>
                    <a:path w="822321" h="654844">
                      <a:moveTo>
                        <a:pt x="196052" y="595312"/>
                      </a:moveTo>
                      <a:lnTo>
                        <a:pt x="141283" y="495300"/>
                      </a:lnTo>
                      <a:lnTo>
                        <a:pt x="7920" y="407207"/>
                      </a:lnTo>
                      <a:lnTo>
                        <a:pt x="7920" y="407207"/>
                      </a:lnTo>
                      <a:cubicBezTo>
                        <a:pt x="0" y="371471"/>
                        <a:pt x="6341" y="321473"/>
                        <a:pt x="5552" y="278606"/>
                      </a:cubicBezTo>
                      <a:lnTo>
                        <a:pt x="43652" y="66675"/>
                      </a:lnTo>
                      <a:lnTo>
                        <a:pt x="322258" y="11906"/>
                      </a:lnTo>
                      <a:lnTo>
                        <a:pt x="543714" y="0"/>
                      </a:lnTo>
                      <a:lnTo>
                        <a:pt x="581814" y="171450"/>
                      </a:lnTo>
                      <a:lnTo>
                        <a:pt x="722308" y="278606"/>
                      </a:lnTo>
                      <a:lnTo>
                        <a:pt x="822321" y="400050"/>
                      </a:lnTo>
                      <a:lnTo>
                        <a:pt x="774696" y="419100"/>
                      </a:lnTo>
                      <a:lnTo>
                        <a:pt x="648489" y="402431"/>
                      </a:lnTo>
                      <a:lnTo>
                        <a:pt x="593721" y="416719"/>
                      </a:lnTo>
                      <a:lnTo>
                        <a:pt x="546096" y="557212"/>
                      </a:lnTo>
                      <a:lnTo>
                        <a:pt x="500852" y="633412"/>
                      </a:lnTo>
                      <a:lnTo>
                        <a:pt x="374646" y="654844"/>
                      </a:lnTo>
                      <a:lnTo>
                        <a:pt x="238914" y="542925"/>
                      </a:lnTo>
                      <a:lnTo>
                        <a:pt x="196052" y="59531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Полилиния 100"/>
                <p:cNvSpPr/>
                <p:nvPr/>
              </p:nvSpPr>
              <p:spPr>
                <a:xfrm>
                  <a:off x="465840" y="5310000"/>
                  <a:ext cx="173160" cy="136440"/>
                </a:xfrm>
                <a:custGeom>
                  <a:avLst/>
                  <a:gdLst/>
                  <a:ahLst/>
                  <a:rect l="l" t="t" r="r" b="b"/>
                  <a:pathLst>
                    <a:path w="726281" h="583407">
                      <a:moveTo>
                        <a:pt x="66675" y="0"/>
                      </a:moveTo>
                      <a:lnTo>
                        <a:pt x="109538" y="2382"/>
                      </a:lnTo>
                      <a:lnTo>
                        <a:pt x="321469" y="121444"/>
                      </a:lnTo>
                      <a:lnTo>
                        <a:pt x="402431" y="33338"/>
                      </a:lnTo>
                      <a:lnTo>
                        <a:pt x="526256" y="16669"/>
                      </a:lnTo>
                      <a:lnTo>
                        <a:pt x="535781" y="102394"/>
                      </a:lnTo>
                      <a:lnTo>
                        <a:pt x="673894" y="176213"/>
                      </a:lnTo>
                      <a:lnTo>
                        <a:pt x="726281" y="271463"/>
                      </a:lnTo>
                      <a:lnTo>
                        <a:pt x="631031" y="416719"/>
                      </a:lnTo>
                      <a:lnTo>
                        <a:pt x="421481" y="540544"/>
                      </a:lnTo>
                      <a:lnTo>
                        <a:pt x="288131" y="583407"/>
                      </a:lnTo>
                      <a:lnTo>
                        <a:pt x="257175" y="452438"/>
                      </a:lnTo>
                      <a:lnTo>
                        <a:pt x="197644" y="373857"/>
                      </a:lnTo>
                      <a:lnTo>
                        <a:pt x="59531" y="395288"/>
                      </a:lnTo>
                      <a:lnTo>
                        <a:pt x="0" y="350044"/>
                      </a:lnTo>
                      <a:lnTo>
                        <a:pt x="19050" y="173832"/>
                      </a:lnTo>
                      <a:lnTo>
                        <a:pt x="66675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Полилиния 101"/>
                <p:cNvSpPr/>
                <p:nvPr/>
              </p:nvSpPr>
              <p:spPr>
                <a:xfrm>
                  <a:off x="461160" y="5198760"/>
                  <a:ext cx="142920" cy="138240"/>
                </a:xfrm>
                <a:custGeom>
                  <a:avLst/>
                  <a:gdLst/>
                  <a:ahLst/>
                  <a:rect l="l" t="t" r="r" b="b"/>
                  <a:pathLst>
                    <a:path w="592931" h="604838">
                      <a:moveTo>
                        <a:pt x="459581" y="0"/>
                      </a:moveTo>
                      <a:lnTo>
                        <a:pt x="469106" y="71438"/>
                      </a:lnTo>
                      <a:lnTo>
                        <a:pt x="526256" y="71438"/>
                      </a:lnTo>
                      <a:lnTo>
                        <a:pt x="592931" y="233363"/>
                      </a:lnTo>
                      <a:lnTo>
                        <a:pt x="557213" y="409575"/>
                      </a:lnTo>
                      <a:lnTo>
                        <a:pt x="547688" y="497682"/>
                      </a:lnTo>
                      <a:lnTo>
                        <a:pt x="419100" y="516732"/>
                      </a:lnTo>
                      <a:lnTo>
                        <a:pt x="347663" y="604838"/>
                      </a:lnTo>
                      <a:lnTo>
                        <a:pt x="116681" y="485775"/>
                      </a:lnTo>
                      <a:lnTo>
                        <a:pt x="83344" y="490538"/>
                      </a:lnTo>
                      <a:lnTo>
                        <a:pt x="0" y="333375"/>
                      </a:lnTo>
                      <a:lnTo>
                        <a:pt x="47625" y="207169"/>
                      </a:lnTo>
                      <a:lnTo>
                        <a:pt x="76200" y="69057"/>
                      </a:lnTo>
                      <a:lnTo>
                        <a:pt x="123825" y="83344"/>
                      </a:lnTo>
                      <a:lnTo>
                        <a:pt x="240506" y="142875"/>
                      </a:lnTo>
                      <a:lnTo>
                        <a:pt x="328613" y="57150"/>
                      </a:lnTo>
                      <a:lnTo>
                        <a:pt x="459581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Полилиния 102"/>
                <p:cNvSpPr/>
                <p:nvPr/>
              </p:nvSpPr>
              <p:spPr>
                <a:xfrm>
                  <a:off x="588600" y="5104800"/>
                  <a:ext cx="162000" cy="146160"/>
                </a:xfrm>
                <a:custGeom>
                  <a:avLst/>
                  <a:gdLst/>
                  <a:ahLst/>
                  <a:rect l="l" t="t" r="r" b="b"/>
                  <a:pathLst>
                    <a:path w="690562" h="628650">
                      <a:moveTo>
                        <a:pt x="238125" y="0"/>
                      </a:moveTo>
                      <a:lnTo>
                        <a:pt x="238125" y="0"/>
                      </a:lnTo>
                      <a:lnTo>
                        <a:pt x="381000" y="76200"/>
                      </a:lnTo>
                      <a:lnTo>
                        <a:pt x="438150" y="245269"/>
                      </a:lnTo>
                      <a:lnTo>
                        <a:pt x="640556" y="333375"/>
                      </a:lnTo>
                      <a:lnTo>
                        <a:pt x="690562" y="335756"/>
                      </a:lnTo>
                      <a:lnTo>
                        <a:pt x="559593" y="559594"/>
                      </a:lnTo>
                      <a:lnTo>
                        <a:pt x="345281" y="569119"/>
                      </a:lnTo>
                      <a:lnTo>
                        <a:pt x="59531" y="628650"/>
                      </a:lnTo>
                      <a:lnTo>
                        <a:pt x="0" y="464344"/>
                      </a:lnTo>
                      <a:lnTo>
                        <a:pt x="69056" y="464344"/>
                      </a:lnTo>
                      <a:lnTo>
                        <a:pt x="85725" y="283369"/>
                      </a:lnTo>
                      <a:lnTo>
                        <a:pt x="171450" y="38100"/>
                      </a:lnTo>
                      <a:lnTo>
                        <a:pt x="238125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Полилиния 103"/>
                <p:cNvSpPr/>
                <p:nvPr/>
              </p:nvSpPr>
              <p:spPr>
                <a:xfrm>
                  <a:off x="677520" y="5055840"/>
                  <a:ext cx="142920" cy="138240"/>
                </a:xfrm>
                <a:custGeom>
                  <a:avLst/>
                  <a:gdLst/>
                  <a:ahLst/>
                  <a:rect l="l" t="t" r="r" b="b"/>
                  <a:pathLst>
                    <a:path w="604838" h="600075">
                      <a:moveTo>
                        <a:pt x="0" y="292893"/>
                      </a:moveTo>
                      <a:lnTo>
                        <a:pt x="100013" y="190500"/>
                      </a:lnTo>
                      <a:lnTo>
                        <a:pt x="345281" y="102393"/>
                      </a:lnTo>
                      <a:lnTo>
                        <a:pt x="440531" y="0"/>
                      </a:lnTo>
                      <a:lnTo>
                        <a:pt x="471488" y="164306"/>
                      </a:lnTo>
                      <a:lnTo>
                        <a:pt x="583406" y="219075"/>
                      </a:lnTo>
                      <a:lnTo>
                        <a:pt x="604838" y="364331"/>
                      </a:lnTo>
                      <a:lnTo>
                        <a:pt x="504825" y="333375"/>
                      </a:lnTo>
                      <a:lnTo>
                        <a:pt x="469106" y="395287"/>
                      </a:lnTo>
                      <a:lnTo>
                        <a:pt x="554831" y="447675"/>
                      </a:lnTo>
                      <a:lnTo>
                        <a:pt x="538163" y="600075"/>
                      </a:lnTo>
                      <a:lnTo>
                        <a:pt x="442913" y="545306"/>
                      </a:lnTo>
                      <a:lnTo>
                        <a:pt x="323850" y="540543"/>
                      </a:lnTo>
                      <a:lnTo>
                        <a:pt x="271463" y="542925"/>
                      </a:lnTo>
                      <a:lnTo>
                        <a:pt x="61913" y="452437"/>
                      </a:lnTo>
                      <a:lnTo>
                        <a:pt x="0" y="292893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Полилиния 104"/>
                <p:cNvSpPr/>
                <p:nvPr/>
              </p:nvSpPr>
              <p:spPr>
                <a:xfrm>
                  <a:off x="593280" y="4815360"/>
                  <a:ext cx="217800" cy="306720"/>
                </a:xfrm>
                <a:custGeom>
                  <a:avLst/>
                  <a:gdLst/>
                  <a:ahLst/>
                  <a:rect l="l" t="t" r="r" b="b"/>
                  <a:pathLst>
                    <a:path w="912019" h="1319213">
                      <a:moveTo>
                        <a:pt x="0" y="1073944"/>
                      </a:moveTo>
                      <a:lnTo>
                        <a:pt x="26194" y="954881"/>
                      </a:lnTo>
                      <a:lnTo>
                        <a:pt x="147638" y="900113"/>
                      </a:lnTo>
                      <a:lnTo>
                        <a:pt x="233363" y="809625"/>
                      </a:lnTo>
                      <a:lnTo>
                        <a:pt x="371475" y="750094"/>
                      </a:lnTo>
                      <a:lnTo>
                        <a:pt x="395288" y="590550"/>
                      </a:lnTo>
                      <a:lnTo>
                        <a:pt x="392906" y="416719"/>
                      </a:lnTo>
                      <a:lnTo>
                        <a:pt x="292894" y="195263"/>
                      </a:lnTo>
                      <a:lnTo>
                        <a:pt x="357188" y="126206"/>
                      </a:lnTo>
                      <a:lnTo>
                        <a:pt x="397669" y="126206"/>
                      </a:lnTo>
                      <a:lnTo>
                        <a:pt x="521494" y="135731"/>
                      </a:lnTo>
                      <a:lnTo>
                        <a:pt x="604838" y="152400"/>
                      </a:lnTo>
                      <a:lnTo>
                        <a:pt x="609600" y="0"/>
                      </a:lnTo>
                      <a:lnTo>
                        <a:pt x="690563" y="38100"/>
                      </a:lnTo>
                      <a:lnTo>
                        <a:pt x="690563" y="38100"/>
                      </a:lnTo>
                      <a:lnTo>
                        <a:pt x="690563" y="73819"/>
                      </a:lnTo>
                      <a:lnTo>
                        <a:pt x="709613" y="197644"/>
                      </a:lnTo>
                      <a:lnTo>
                        <a:pt x="788194" y="333375"/>
                      </a:lnTo>
                      <a:lnTo>
                        <a:pt x="912019" y="431006"/>
                      </a:lnTo>
                      <a:lnTo>
                        <a:pt x="826294" y="647700"/>
                      </a:lnTo>
                      <a:lnTo>
                        <a:pt x="683419" y="742950"/>
                      </a:lnTo>
                      <a:lnTo>
                        <a:pt x="823913" y="892969"/>
                      </a:lnTo>
                      <a:lnTo>
                        <a:pt x="842963" y="923925"/>
                      </a:lnTo>
                      <a:lnTo>
                        <a:pt x="835819" y="957263"/>
                      </a:lnTo>
                      <a:lnTo>
                        <a:pt x="795338" y="1023938"/>
                      </a:lnTo>
                      <a:lnTo>
                        <a:pt x="685800" y="1138238"/>
                      </a:lnTo>
                      <a:lnTo>
                        <a:pt x="461963" y="1214438"/>
                      </a:lnTo>
                      <a:lnTo>
                        <a:pt x="357188" y="1319213"/>
                      </a:lnTo>
                      <a:lnTo>
                        <a:pt x="216694" y="1238250"/>
                      </a:lnTo>
                      <a:lnTo>
                        <a:pt x="223838" y="1190625"/>
                      </a:lnTo>
                      <a:lnTo>
                        <a:pt x="123825" y="1154906"/>
                      </a:lnTo>
                      <a:lnTo>
                        <a:pt x="0" y="107394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Полилиния 105"/>
                <p:cNvSpPr/>
                <p:nvPr/>
              </p:nvSpPr>
              <p:spPr>
                <a:xfrm>
                  <a:off x="558360" y="4826520"/>
                  <a:ext cx="130320" cy="238320"/>
                </a:xfrm>
                <a:custGeom>
                  <a:avLst/>
                  <a:gdLst/>
                  <a:ahLst/>
                  <a:rect l="l" t="t" r="r" b="b"/>
                  <a:pathLst>
                    <a:path w="542925" h="1016794">
                      <a:moveTo>
                        <a:pt x="21431" y="990600"/>
                      </a:moveTo>
                      <a:lnTo>
                        <a:pt x="57150" y="871537"/>
                      </a:lnTo>
                      <a:lnTo>
                        <a:pt x="0" y="797719"/>
                      </a:lnTo>
                      <a:lnTo>
                        <a:pt x="85725" y="747712"/>
                      </a:lnTo>
                      <a:lnTo>
                        <a:pt x="69056" y="633412"/>
                      </a:lnTo>
                      <a:lnTo>
                        <a:pt x="135731" y="595312"/>
                      </a:lnTo>
                      <a:lnTo>
                        <a:pt x="207168" y="478631"/>
                      </a:lnTo>
                      <a:lnTo>
                        <a:pt x="192881" y="302419"/>
                      </a:lnTo>
                      <a:lnTo>
                        <a:pt x="211931" y="195262"/>
                      </a:lnTo>
                      <a:lnTo>
                        <a:pt x="352425" y="0"/>
                      </a:lnTo>
                      <a:lnTo>
                        <a:pt x="407193" y="97631"/>
                      </a:lnTo>
                      <a:lnTo>
                        <a:pt x="500062" y="78581"/>
                      </a:lnTo>
                      <a:lnTo>
                        <a:pt x="445293" y="135731"/>
                      </a:lnTo>
                      <a:lnTo>
                        <a:pt x="540543" y="359569"/>
                      </a:lnTo>
                      <a:lnTo>
                        <a:pt x="542925" y="526256"/>
                      </a:lnTo>
                      <a:lnTo>
                        <a:pt x="516731" y="692944"/>
                      </a:lnTo>
                      <a:lnTo>
                        <a:pt x="378618" y="750094"/>
                      </a:lnTo>
                      <a:lnTo>
                        <a:pt x="295275" y="840581"/>
                      </a:lnTo>
                      <a:lnTo>
                        <a:pt x="173831" y="897731"/>
                      </a:lnTo>
                      <a:lnTo>
                        <a:pt x="142875" y="1016794"/>
                      </a:lnTo>
                      <a:lnTo>
                        <a:pt x="83343" y="997744"/>
                      </a:lnTo>
                      <a:lnTo>
                        <a:pt x="21431" y="99060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Полилиния 106"/>
                <p:cNvSpPr/>
                <p:nvPr/>
              </p:nvSpPr>
              <p:spPr>
                <a:xfrm>
                  <a:off x="402480" y="4813920"/>
                  <a:ext cx="241560" cy="241560"/>
                </a:xfrm>
                <a:custGeom>
                  <a:avLst/>
                  <a:gdLst/>
                  <a:ahLst/>
                  <a:rect l="l" t="t" r="r" b="b"/>
                  <a:pathLst>
                    <a:path w="1012031" h="1042987">
                      <a:moveTo>
                        <a:pt x="0" y="928687"/>
                      </a:moveTo>
                      <a:lnTo>
                        <a:pt x="54768" y="814387"/>
                      </a:lnTo>
                      <a:lnTo>
                        <a:pt x="116681" y="545306"/>
                      </a:lnTo>
                      <a:lnTo>
                        <a:pt x="230981" y="538162"/>
                      </a:lnTo>
                      <a:lnTo>
                        <a:pt x="242887" y="369094"/>
                      </a:lnTo>
                      <a:lnTo>
                        <a:pt x="288131" y="245269"/>
                      </a:lnTo>
                      <a:lnTo>
                        <a:pt x="378618" y="259556"/>
                      </a:lnTo>
                      <a:lnTo>
                        <a:pt x="478631" y="240506"/>
                      </a:lnTo>
                      <a:lnTo>
                        <a:pt x="581025" y="121444"/>
                      </a:lnTo>
                      <a:lnTo>
                        <a:pt x="645318" y="30956"/>
                      </a:lnTo>
                      <a:lnTo>
                        <a:pt x="728662" y="42862"/>
                      </a:lnTo>
                      <a:lnTo>
                        <a:pt x="769143" y="42862"/>
                      </a:lnTo>
                      <a:lnTo>
                        <a:pt x="881062" y="95250"/>
                      </a:lnTo>
                      <a:lnTo>
                        <a:pt x="935831" y="0"/>
                      </a:lnTo>
                      <a:lnTo>
                        <a:pt x="1012031" y="66675"/>
                      </a:lnTo>
                      <a:lnTo>
                        <a:pt x="876300" y="245269"/>
                      </a:lnTo>
                      <a:lnTo>
                        <a:pt x="850106" y="352425"/>
                      </a:lnTo>
                      <a:lnTo>
                        <a:pt x="862012" y="533400"/>
                      </a:lnTo>
                      <a:lnTo>
                        <a:pt x="795337" y="645319"/>
                      </a:lnTo>
                      <a:lnTo>
                        <a:pt x="728662" y="690562"/>
                      </a:lnTo>
                      <a:lnTo>
                        <a:pt x="742950" y="795337"/>
                      </a:lnTo>
                      <a:lnTo>
                        <a:pt x="661987" y="857250"/>
                      </a:lnTo>
                      <a:lnTo>
                        <a:pt x="707231" y="926306"/>
                      </a:lnTo>
                      <a:lnTo>
                        <a:pt x="685800" y="1042987"/>
                      </a:lnTo>
                      <a:lnTo>
                        <a:pt x="502443" y="1023937"/>
                      </a:lnTo>
                      <a:lnTo>
                        <a:pt x="297656" y="971550"/>
                      </a:lnTo>
                      <a:lnTo>
                        <a:pt x="116681" y="1019175"/>
                      </a:lnTo>
                      <a:lnTo>
                        <a:pt x="0" y="92868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Полилиния 107"/>
                <p:cNvSpPr/>
                <p:nvPr/>
              </p:nvSpPr>
              <p:spPr>
                <a:xfrm>
                  <a:off x="793800" y="4651560"/>
                  <a:ext cx="201960" cy="198720"/>
                </a:xfrm>
                <a:custGeom>
                  <a:avLst/>
                  <a:gdLst/>
                  <a:ahLst/>
                  <a:rect l="l" t="t" r="r" b="b"/>
                  <a:pathLst>
                    <a:path w="842963" h="854869">
                      <a:moveTo>
                        <a:pt x="0" y="357187"/>
                      </a:moveTo>
                      <a:lnTo>
                        <a:pt x="35719" y="238125"/>
                      </a:lnTo>
                      <a:lnTo>
                        <a:pt x="95250" y="152400"/>
                      </a:lnTo>
                      <a:lnTo>
                        <a:pt x="461963" y="50006"/>
                      </a:lnTo>
                      <a:lnTo>
                        <a:pt x="657225" y="0"/>
                      </a:lnTo>
                      <a:lnTo>
                        <a:pt x="647700" y="128587"/>
                      </a:lnTo>
                      <a:lnTo>
                        <a:pt x="807244" y="142875"/>
                      </a:lnTo>
                      <a:lnTo>
                        <a:pt x="802482" y="264319"/>
                      </a:lnTo>
                      <a:lnTo>
                        <a:pt x="704850" y="366712"/>
                      </a:lnTo>
                      <a:lnTo>
                        <a:pt x="707232" y="421481"/>
                      </a:lnTo>
                      <a:lnTo>
                        <a:pt x="757238" y="481012"/>
                      </a:lnTo>
                      <a:lnTo>
                        <a:pt x="826294" y="526256"/>
                      </a:lnTo>
                      <a:lnTo>
                        <a:pt x="842963" y="557212"/>
                      </a:lnTo>
                      <a:lnTo>
                        <a:pt x="833438" y="642937"/>
                      </a:lnTo>
                      <a:lnTo>
                        <a:pt x="809625" y="700087"/>
                      </a:lnTo>
                      <a:lnTo>
                        <a:pt x="754857" y="790575"/>
                      </a:lnTo>
                      <a:lnTo>
                        <a:pt x="666750" y="854869"/>
                      </a:lnTo>
                      <a:lnTo>
                        <a:pt x="481013" y="838200"/>
                      </a:lnTo>
                      <a:lnTo>
                        <a:pt x="504825" y="750094"/>
                      </a:lnTo>
                      <a:lnTo>
                        <a:pt x="419100" y="633412"/>
                      </a:lnTo>
                      <a:lnTo>
                        <a:pt x="259557" y="531019"/>
                      </a:lnTo>
                      <a:lnTo>
                        <a:pt x="140494" y="621506"/>
                      </a:lnTo>
                      <a:lnTo>
                        <a:pt x="147638" y="526256"/>
                      </a:lnTo>
                      <a:lnTo>
                        <a:pt x="78582" y="457200"/>
                      </a:lnTo>
                      <a:lnTo>
                        <a:pt x="0" y="35718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Полилиния 108"/>
                <p:cNvSpPr/>
                <p:nvPr/>
              </p:nvSpPr>
              <p:spPr>
                <a:xfrm>
                  <a:off x="728280" y="4525920"/>
                  <a:ext cx="222480" cy="254160"/>
                </a:xfrm>
                <a:custGeom>
                  <a:avLst/>
                  <a:gdLst/>
                  <a:ahLst/>
                  <a:rect l="l" t="t" r="r" b="b"/>
                  <a:pathLst>
                    <a:path w="945356" h="1088231">
                      <a:moveTo>
                        <a:pt x="252412" y="1088231"/>
                      </a:moveTo>
                      <a:lnTo>
                        <a:pt x="102393" y="957262"/>
                      </a:lnTo>
                      <a:lnTo>
                        <a:pt x="23812" y="850106"/>
                      </a:lnTo>
                      <a:lnTo>
                        <a:pt x="0" y="626268"/>
                      </a:lnTo>
                      <a:lnTo>
                        <a:pt x="52387" y="426243"/>
                      </a:lnTo>
                      <a:lnTo>
                        <a:pt x="252412" y="152400"/>
                      </a:lnTo>
                      <a:lnTo>
                        <a:pt x="283368" y="0"/>
                      </a:lnTo>
                      <a:lnTo>
                        <a:pt x="640556" y="50006"/>
                      </a:lnTo>
                      <a:lnTo>
                        <a:pt x="585787" y="285750"/>
                      </a:lnTo>
                      <a:lnTo>
                        <a:pt x="814387" y="314325"/>
                      </a:lnTo>
                      <a:lnTo>
                        <a:pt x="783431" y="397668"/>
                      </a:lnTo>
                      <a:lnTo>
                        <a:pt x="945356" y="385762"/>
                      </a:lnTo>
                      <a:lnTo>
                        <a:pt x="940593" y="533400"/>
                      </a:lnTo>
                      <a:lnTo>
                        <a:pt x="711993" y="595312"/>
                      </a:lnTo>
                      <a:lnTo>
                        <a:pt x="381000" y="681037"/>
                      </a:lnTo>
                      <a:lnTo>
                        <a:pt x="314325" y="778668"/>
                      </a:lnTo>
                      <a:lnTo>
                        <a:pt x="273843" y="940593"/>
                      </a:lnTo>
                      <a:lnTo>
                        <a:pt x="247650" y="997743"/>
                      </a:lnTo>
                      <a:lnTo>
                        <a:pt x="252412" y="108823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Полилиния 109"/>
                <p:cNvSpPr/>
                <p:nvPr/>
              </p:nvSpPr>
              <p:spPr>
                <a:xfrm>
                  <a:off x="556560" y="4611960"/>
                  <a:ext cx="230400" cy="238320"/>
                </a:xfrm>
                <a:custGeom>
                  <a:avLst/>
                  <a:gdLst/>
                  <a:ahLst/>
                  <a:rect l="l" t="t" r="r" b="b"/>
                  <a:pathLst>
                    <a:path w="962025" h="1016794">
                      <a:moveTo>
                        <a:pt x="0" y="69057"/>
                      </a:moveTo>
                      <a:lnTo>
                        <a:pt x="102394" y="66675"/>
                      </a:lnTo>
                      <a:lnTo>
                        <a:pt x="183356" y="130969"/>
                      </a:lnTo>
                      <a:lnTo>
                        <a:pt x="228600" y="164307"/>
                      </a:lnTo>
                      <a:lnTo>
                        <a:pt x="233363" y="195263"/>
                      </a:lnTo>
                      <a:lnTo>
                        <a:pt x="233363" y="78582"/>
                      </a:lnTo>
                      <a:lnTo>
                        <a:pt x="278606" y="47625"/>
                      </a:lnTo>
                      <a:lnTo>
                        <a:pt x="302419" y="0"/>
                      </a:lnTo>
                      <a:lnTo>
                        <a:pt x="421481" y="23813"/>
                      </a:lnTo>
                      <a:lnTo>
                        <a:pt x="488156" y="76200"/>
                      </a:lnTo>
                      <a:lnTo>
                        <a:pt x="573881" y="88107"/>
                      </a:lnTo>
                      <a:lnTo>
                        <a:pt x="745331" y="140494"/>
                      </a:lnTo>
                      <a:lnTo>
                        <a:pt x="709613" y="264319"/>
                      </a:lnTo>
                      <a:lnTo>
                        <a:pt x="735806" y="476250"/>
                      </a:lnTo>
                      <a:lnTo>
                        <a:pt x="816769" y="595313"/>
                      </a:lnTo>
                      <a:lnTo>
                        <a:pt x="962025" y="714375"/>
                      </a:lnTo>
                      <a:cubicBezTo>
                        <a:pt x="961231" y="754063"/>
                        <a:pt x="960438" y="793750"/>
                        <a:pt x="959644" y="833438"/>
                      </a:cubicBezTo>
                      <a:lnTo>
                        <a:pt x="850106" y="883444"/>
                      </a:lnTo>
                      <a:lnTo>
                        <a:pt x="850106" y="907257"/>
                      </a:lnTo>
                      <a:lnTo>
                        <a:pt x="764381" y="866775"/>
                      </a:lnTo>
                      <a:lnTo>
                        <a:pt x="754856" y="1012032"/>
                      </a:lnTo>
                      <a:lnTo>
                        <a:pt x="650081" y="995363"/>
                      </a:lnTo>
                      <a:lnTo>
                        <a:pt x="516731" y="988219"/>
                      </a:lnTo>
                      <a:lnTo>
                        <a:pt x="421481" y="1016794"/>
                      </a:lnTo>
                      <a:lnTo>
                        <a:pt x="357188" y="921544"/>
                      </a:lnTo>
                      <a:lnTo>
                        <a:pt x="285750" y="862013"/>
                      </a:lnTo>
                      <a:lnTo>
                        <a:pt x="230981" y="952500"/>
                      </a:lnTo>
                      <a:lnTo>
                        <a:pt x="116681" y="904875"/>
                      </a:lnTo>
                      <a:lnTo>
                        <a:pt x="78581" y="904875"/>
                      </a:lnTo>
                      <a:lnTo>
                        <a:pt x="71438" y="759619"/>
                      </a:lnTo>
                      <a:lnTo>
                        <a:pt x="154781" y="707232"/>
                      </a:lnTo>
                      <a:lnTo>
                        <a:pt x="323850" y="723900"/>
                      </a:lnTo>
                      <a:lnTo>
                        <a:pt x="300038" y="569119"/>
                      </a:lnTo>
                      <a:lnTo>
                        <a:pt x="190500" y="438150"/>
                      </a:lnTo>
                      <a:lnTo>
                        <a:pt x="85725" y="359569"/>
                      </a:lnTo>
                      <a:lnTo>
                        <a:pt x="59531" y="259557"/>
                      </a:lnTo>
                      <a:lnTo>
                        <a:pt x="76200" y="123825"/>
                      </a:lnTo>
                      <a:lnTo>
                        <a:pt x="0" y="6905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Полилиния 110"/>
                <p:cNvSpPr/>
                <p:nvPr/>
              </p:nvSpPr>
              <p:spPr>
                <a:xfrm>
                  <a:off x="536040" y="4362120"/>
                  <a:ext cx="257400" cy="294120"/>
                </a:xfrm>
                <a:custGeom>
                  <a:avLst/>
                  <a:gdLst/>
                  <a:ahLst/>
                  <a:rect l="l" t="t" r="r" b="b"/>
                  <a:pathLst>
                    <a:path w="1081087" h="1269206">
                      <a:moveTo>
                        <a:pt x="85725" y="1016793"/>
                      </a:moveTo>
                      <a:lnTo>
                        <a:pt x="85725" y="1016793"/>
                      </a:lnTo>
                      <a:lnTo>
                        <a:pt x="142875" y="778668"/>
                      </a:lnTo>
                      <a:lnTo>
                        <a:pt x="123825" y="657225"/>
                      </a:lnTo>
                      <a:lnTo>
                        <a:pt x="28575" y="573881"/>
                      </a:lnTo>
                      <a:lnTo>
                        <a:pt x="0" y="440531"/>
                      </a:lnTo>
                      <a:lnTo>
                        <a:pt x="52387" y="300037"/>
                      </a:lnTo>
                      <a:lnTo>
                        <a:pt x="207169" y="304800"/>
                      </a:lnTo>
                      <a:lnTo>
                        <a:pt x="383381" y="304800"/>
                      </a:lnTo>
                      <a:lnTo>
                        <a:pt x="561975" y="323850"/>
                      </a:lnTo>
                      <a:lnTo>
                        <a:pt x="604837" y="326231"/>
                      </a:lnTo>
                      <a:lnTo>
                        <a:pt x="707231" y="257175"/>
                      </a:lnTo>
                      <a:lnTo>
                        <a:pt x="757237" y="159543"/>
                      </a:lnTo>
                      <a:lnTo>
                        <a:pt x="897731" y="166687"/>
                      </a:lnTo>
                      <a:lnTo>
                        <a:pt x="926306" y="119062"/>
                      </a:lnTo>
                      <a:cubicBezTo>
                        <a:pt x="927100" y="87312"/>
                        <a:pt x="927893" y="55562"/>
                        <a:pt x="928687" y="23812"/>
                      </a:cubicBezTo>
                      <a:lnTo>
                        <a:pt x="976312" y="0"/>
                      </a:lnTo>
                      <a:lnTo>
                        <a:pt x="1081087" y="28575"/>
                      </a:lnTo>
                      <a:lnTo>
                        <a:pt x="1062037" y="64293"/>
                      </a:lnTo>
                      <a:lnTo>
                        <a:pt x="1050131" y="180975"/>
                      </a:lnTo>
                      <a:lnTo>
                        <a:pt x="1064419" y="323850"/>
                      </a:lnTo>
                      <a:lnTo>
                        <a:pt x="1031081" y="614362"/>
                      </a:lnTo>
                      <a:lnTo>
                        <a:pt x="1076325" y="704850"/>
                      </a:lnTo>
                      <a:lnTo>
                        <a:pt x="1045369" y="857250"/>
                      </a:lnTo>
                      <a:lnTo>
                        <a:pt x="852487" y="1126331"/>
                      </a:lnTo>
                      <a:lnTo>
                        <a:pt x="831056" y="1202531"/>
                      </a:lnTo>
                      <a:lnTo>
                        <a:pt x="647700" y="1157287"/>
                      </a:lnTo>
                      <a:lnTo>
                        <a:pt x="576262" y="1147762"/>
                      </a:lnTo>
                      <a:lnTo>
                        <a:pt x="511969" y="1095375"/>
                      </a:lnTo>
                      <a:lnTo>
                        <a:pt x="392906" y="1069181"/>
                      </a:lnTo>
                      <a:lnTo>
                        <a:pt x="364331" y="1121568"/>
                      </a:lnTo>
                      <a:lnTo>
                        <a:pt x="321469" y="1152525"/>
                      </a:lnTo>
                      <a:lnTo>
                        <a:pt x="321469" y="1269206"/>
                      </a:lnTo>
                      <a:lnTo>
                        <a:pt x="307181" y="1223962"/>
                      </a:lnTo>
                      <a:lnTo>
                        <a:pt x="192881" y="1143000"/>
                      </a:lnTo>
                      <a:lnTo>
                        <a:pt x="88106" y="1138237"/>
                      </a:lnTo>
                      <a:cubicBezTo>
                        <a:pt x="87312" y="1097756"/>
                        <a:pt x="86519" y="1057274"/>
                        <a:pt x="85725" y="1016793"/>
                      </a:cubicBez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Полилиния 111"/>
                <p:cNvSpPr/>
                <p:nvPr/>
              </p:nvSpPr>
              <p:spPr>
                <a:xfrm>
                  <a:off x="446760" y="4241520"/>
                  <a:ext cx="324360" cy="196920"/>
                </a:xfrm>
                <a:custGeom>
                  <a:avLst/>
                  <a:gdLst/>
                  <a:ahLst/>
                  <a:rect l="l" t="t" r="r" b="b"/>
                  <a:pathLst>
                    <a:path w="1371600" h="840582">
                      <a:moveTo>
                        <a:pt x="500062" y="0"/>
                      </a:moveTo>
                      <a:lnTo>
                        <a:pt x="616743" y="90488"/>
                      </a:lnTo>
                      <a:lnTo>
                        <a:pt x="907256" y="64294"/>
                      </a:lnTo>
                      <a:lnTo>
                        <a:pt x="916781" y="157163"/>
                      </a:lnTo>
                      <a:lnTo>
                        <a:pt x="945356" y="176213"/>
                      </a:lnTo>
                      <a:lnTo>
                        <a:pt x="928687" y="273844"/>
                      </a:lnTo>
                      <a:lnTo>
                        <a:pt x="942975" y="326232"/>
                      </a:lnTo>
                      <a:lnTo>
                        <a:pt x="1371600" y="514350"/>
                      </a:lnTo>
                      <a:lnTo>
                        <a:pt x="1312068" y="542925"/>
                      </a:lnTo>
                      <a:lnTo>
                        <a:pt x="1307306" y="631032"/>
                      </a:lnTo>
                      <a:lnTo>
                        <a:pt x="1281112" y="678657"/>
                      </a:lnTo>
                      <a:lnTo>
                        <a:pt x="1138237" y="676275"/>
                      </a:lnTo>
                      <a:lnTo>
                        <a:pt x="1085850" y="773907"/>
                      </a:lnTo>
                      <a:lnTo>
                        <a:pt x="988218" y="840582"/>
                      </a:lnTo>
                      <a:lnTo>
                        <a:pt x="742950" y="821532"/>
                      </a:lnTo>
                      <a:lnTo>
                        <a:pt x="438150" y="812007"/>
                      </a:lnTo>
                      <a:lnTo>
                        <a:pt x="497681" y="619125"/>
                      </a:lnTo>
                      <a:lnTo>
                        <a:pt x="397668" y="628650"/>
                      </a:lnTo>
                      <a:lnTo>
                        <a:pt x="316706" y="690563"/>
                      </a:lnTo>
                      <a:lnTo>
                        <a:pt x="242887" y="704850"/>
                      </a:lnTo>
                      <a:lnTo>
                        <a:pt x="23812" y="628650"/>
                      </a:lnTo>
                      <a:lnTo>
                        <a:pt x="0" y="454819"/>
                      </a:lnTo>
                      <a:lnTo>
                        <a:pt x="78581" y="431007"/>
                      </a:lnTo>
                      <a:lnTo>
                        <a:pt x="235743" y="450057"/>
                      </a:lnTo>
                      <a:lnTo>
                        <a:pt x="309562" y="421482"/>
                      </a:lnTo>
                      <a:cubicBezTo>
                        <a:pt x="308768" y="380207"/>
                        <a:pt x="307975" y="338932"/>
                        <a:pt x="307181" y="297657"/>
                      </a:cubicBezTo>
                      <a:lnTo>
                        <a:pt x="416718" y="95250"/>
                      </a:lnTo>
                      <a:lnTo>
                        <a:pt x="500062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Полилиния 112"/>
                <p:cNvSpPr/>
                <p:nvPr/>
              </p:nvSpPr>
              <p:spPr>
                <a:xfrm>
                  <a:off x="960840" y="4634280"/>
                  <a:ext cx="222480" cy="298800"/>
                </a:xfrm>
                <a:custGeom>
                  <a:avLst/>
                  <a:gdLst/>
                  <a:ahLst/>
                  <a:rect l="l" t="t" r="r" b="b"/>
                  <a:pathLst>
                    <a:path w="935832" h="1273969">
                      <a:moveTo>
                        <a:pt x="171450" y="0"/>
                      </a:moveTo>
                      <a:lnTo>
                        <a:pt x="414338" y="40482"/>
                      </a:lnTo>
                      <a:lnTo>
                        <a:pt x="450057" y="321469"/>
                      </a:lnTo>
                      <a:lnTo>
                        <a:pt x="704850" y="371475"/>
                      </a:lnTo>
                      <a:lnTo>
                        <a:pt x="588169" y="431007"/>
                      </a:lnTo>
                      <a:lnTo>
                        <a:pt x="628650" y="621507"/>
                      </a:lnTo>
                      <a:lnTo>
                        <a:pt x="711994" y="726282"/>
                      </a:lnTo>
                      <a:lnTo>
                        <a:pt x="740569" y="873919"/>
                      </a:lnTo>
                      <a:lnTo>
                        <a:pt x="845344" y="985838"/>
                      </a:lnTo>
                      <a:lnTo>
                        <a:pt x="935832" y="995363"/>
                      </a:lnTo>
                      <a:lnTo>
                        <a:pt x="871538" y="1197769"/>
                      </a:lnTo>
                      <a:lnTo>
                        <a:pt x="788194" y="1228725"/>
                      </a:lnTo>
                      <a:lnTo>
                        <a:pt x="766763" y="1273969"/>
                      </a:lnTo>
                      <a:lnTo>
                        <a:pt x="547688" y="1159669"/>
                      </a:lnTo>
                      <a:lnTo>
                        <a:pt x="497682" y="983457"/>
                      </a:lnTo>
                      <a:lnTo>
                        <a:pt x="280988" y="1009650"/>
                      </a:lnTo>
                      <a:lnTo>
                        <a:pt x="230982" y="1026319"/>
                      </a:lnTo>
                      <a:lnTo>
                        <a:pt x="159544" y="1026319"/>
                      </a:lnTo>
                      <a:lnTo>
                        <a:pt x="97632" y="942975"/>
                      </a:lnTo>
                      <a:lnTo>
                        <a:pt x="4763" y="892969"/>
                      </a:lnTo>
                      <a:lnTo>
                        <a:pt x="50007" y="859632"/>
                      </a:lnTo>
                      <a:lnTo>
                        <a:pt x="116682" y="752475"/>
                      </a:lnTo>
                      <a:lnTo>
                        <a:pt x="130969" y="707232"/>
                      </a:lnTo>
                      <a:lnTo>
                        <a:pt x="138113" y="631032"/>
                      </a:lnTo>
                      <a:lnTo>
                        <a:pt x="121444" y="592932"/>
                      </a:lnTo>
                      <a:lnTo>
                        <a:pt x="42863" y="542925"/>
                      </a:lnTo>
                      <a:lnTo>
                        <a:pt x="0" y="481013"/>
                      </a:lnTo>
                      <a:lnTo>
                        <a:pt x="2382" y="433388"/>
                      </a:lnTo>
                      <a:lnTo>
                        <a:pt x="100013" y="326232"/>
                      </a:lnTo>
                      <a:lnTo>
                        <a:pt x="104775" y="209550"/>
                      </a:lnTo>
                      <a:lnTo>
                        <a:pt x="142875" y="216694"/>
                      </a:lnTo>
                      <a:lnTo>
                        <a:pt x="171450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Полилиния 113"/>
                <p:cNvSpPr/>
                <p:nvPr/>
              </p:nvSpPr>
              <p:spPr>
                <a:xfrm>
                  <a:off x="1452240" y="4589640"/>
                  <a:ext cx="217800" cy="332280"/>
                </a:xfrm>
                <a:custGeom>
                  <a:avLst/>
                  <a:gdLst/>
                  <a:ahLst/>
                  <a:rect l="l" t="t" r="r" b="b"/>
                  <a:pathLst>
                    <a:path w="914400" h="1416843">
                      <a:moveTo>
                        <a:pt x="0" y="0"/>
                      </a:moveTo>
                      <a:lnTo>
                        <a:pt x="171450" y="14287"/>
                      </a:lnTo>
                      <a:lnTo>
                        <a:pt x="323850" y="80962"/>
                      </a:lnTo>
                      <a:lnTo>
                        <a:pt x="454819" y="114300"/>
                      </a:lnTo>
                      <a:lnTo>
                        <a:pt x="447675" y="147637"/>
                      </a:lnTo>
                      <a:lnTo>
                        <a:pt x="531019" y="392906"/>
                      </a:lnTo>
                      <a:lnTo>
                        <a:pt x="742950" y="395287"/>
                      </a:lnTo>
                      <a:lnTo>
                        <a:pt x="804863" y="371475"/>
                      </a:lnTo>
                      <a:lnTo>
                        <a:pt x="902494" y="454818"/>
                      </a:lnTo>
                      <a:lnTo>
                        <a:pt x="881063" y="550068"/>
                      </a:lnTo>
                      <a:lnTo>
                        <a:pt x="833438" y="631031"/>
                      </a:lnTo>
                      <a:lnTo>
                        <a:pt x="878681" y="819150"/>
                      </a:lnTo>
                      <a:lnTo>
                        <a:pt x="914400" y="881062"/>
                      </a:lnTo>
                      <a:lnTo>
                        <a:pt x="883444" y="947737"/>
                      </a:lnTo>
                      <a:lnTo>
                        <a:pt x="814388" y="1007268"/>
                      </a:lnTo>
                      <a:lnTo>
                        <a:pt x="778669" y="1154906"/>
                      </a:lnTo>
                      <a:lnTo>
                        <a:pt x="866775" y="1316831"/>
                      </a:lnTo>
                      <a:lnTo>
                        <a:pt x="783431" y="1328737"/>
                      </a:lnTo>
                      <a:lnTo>
                        <a:pt x="673894" y="1373981"/>
                      </a:lnTo>
                      <a:lnTo>
                        <a:pt x="535781" y="1416843"/>
                      </a:lnTo>
                      <a:lnTo>
                        <a:pt x="366713" y="1252537"/>
                      </a:lnTo>
                      <a:lnTo>
                        <a:pt x="290513" y="1266825"/>
                      </a:lnTo>
                      <a:lnTo>
                        <a:pt x="171450" y="1169193"/>
                      </a:lnTo>
                      <a:lnTo>
                        <a:pt x="111919" y="990600"/>
                      </a:lnTo>
                      <a:lnTo>
                        <a:pt x="197644" y="721518"/>
                      </a:lnTo>
                      <a:lnTo>
                        <a:pt x="238125" y="571500"/>
                      </a:lnTo>
                      <a:lnTo>
                        <a:pt x="347663" y="452437"/>
                      </a:lnTo>
                      <a:lnTo>
                        <a:pt x="280988" y="402431"/>
                      </a:lnTo>
                      <a:lnTo>
                        <a:pt x="142875" y="357187"/>
                      </a:lnTo>
                      <a:lnTo>
                        <a:pt x="14288" y="354806"/>
                      </a:lnTo>
                      <a:lnTo>
                        <a:pt x="61913" y="642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Полилиния 114"/>
                <p:cNvSpPr/>
                <p:nvPr/>
              </p:nvSpPr>
              <p:spPr>
                <a:xfrm>
                  <a:off x="1274040" y="4662720"/>
                  <a:ext cx="262440" cy="260640"/>
                </a:xfrm>
                <a:custGeom>
                  <a:avLst/>
                  <a:gdLst/>
                  <a:ahLst/>
                  <a:rect l="l" t="t" r="r" b="b"/>
                  <a:pathLst>
                    <a:path w="1100137" h="1112044">
                      <a:moveTo>
                        <a:pt x="0" y="400050"/>
                      </a:moveTo>
                      <a:lnTo>
                        <a:pt x="161925" y="364332"/>
                      </a:lnTo>
                      <a:lnTo>
                        <a:pt x="319087" y="411957"/>
                      </a:lnTo>
                      <a:lnTo>
                        <a:pt x="354806" y="283369"/>
                      </a:lnTo>
                      <a:cubicBezTo>
                        <a:pt x="354012" y="230188"/>
                        <a:pt x="353219" y="177006"/>
                        <a:pt x="352425" y="123825"/>
                      </a:cubicBezTo>
                      <a:lnTo>
                        <a:pt x="383381" y="104775"/>
                      </a:lnTo>
                      <a:lnTo>
                        <a:pt x="373856" y="47625"/>
                      </a:lnTo>
                      <a:lnTo>
                        <a:pt x="450056" y="0"/>
                      </a:lnTo>
                      <a:lnTo>
                        <a:pt x="626268" y="109538"/>
                      </a:lnTo>
                      <a:lnTo>
                        <a:pt x="762000" y="69057"/>
                      </a:lnTo>
                      <a:lnTo>
                        <a:pt x="762000" y="33338"/>
                      </a:lnTo>
                      <a:lnTo>
                        <a:pt x="885825" y="38100"/>
                      </a:lnTo>
                      <a:lnTo>
                        <a:pt x="1033462" y="92869"/>
                      </a:lnTo>
                      <a:lnTo>
                        <a:pt x="1100137" y="140494"/>
                      </a:lnTo>
                      <a:lnTo>
                        <a:pt x="983456" y="257175"/>
                      </a:lnTo>
                      <a:lnTo>
                        <a:pt x="859631" y="678657"/>
                      </a:lnTo>
                      <a:lnTo>
                        <a:pt x="914400" y="852488"/>
                      </a:lnTo>
                      <a:lnTo>
                        <a:pt x="1042987" y="954882"/>
                      </a:lnTo>
                      <a:lnTo>
                        <a:pt x="1000125" y="954882"/>
                      </a:lnTo>
                      <a:lnTo>
                        <a:pt x="966787" y="1102519"/>
                      </a:lnTo>
                      <a:lnTo>
                        <a:pt x="752475" y="1112044"/>
                      </a:lnTo>
                      <a:lnTo>
                        <a:pt x="604837" y="1052513"/>
                      </a:lnTo>
                      <a:lnTo>
                        <a:pt x="466725" y="1042988"/>
                      </a:lnTo>
                      <a:lnTo>
                        <a:pt x="381000" y="1035844"/>
                      </a:lnTo>
                      <a:lnTo>
                        <a:pt x="419100" y="914400"/>
                      </a:lnTo>
                      <a:lnTo>
                        <a:pt x="300037" y="900113"/>
                      </a:lnTo>
                      <a:lnTo>
                        <a:pt x="183356" y="869157"/>
                      </a:lnTo>
                      <a:lnTo>
                        <a:pt x="207168" y="726282"/>
                      </a:lnTo>
                      <a:lnTo>
                        <a:pt x="92868" y="750094"/>
                      </a:lnTo>
                      <a:lnTo>
                        <a:pt x="30956" y="557213"/>
                      </a:lnTo>
                      <a:lnTo>
                        <a:pt x="0" y="40005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Полилиния 115"/>
                <p:cNvSpPr/>
                <p:nvPr/>
              </p:nvSpPr>
              <p:spPr>
                <a:xfrm>
                  <a:off x="1100520" y="4559400"/>
                  <a:ext cx="259200" cy="305280"/>
                </a:xfrm>
                <a:custGeom>
                  <a:avLst/>
                  <a:gdLst/>
                  <a:ahLst/>
                  <a:rect l="l" t="t" r="r" b="b"/>
                  <a:pathLst>
                    <a:path w="1085850" h="1312069">
                      <a:moveTo>
                        <a:pt x="862013" y="0"/>
                      </a:moveTo>
                      <a:lnTo>
                        <a:pt x="973931" y="135731"/>
                      </a:lnTo>
                      <a:lnTo>
                        <a:pt x="1047750" y="240506"/>
                      </a:lnTo>
                      <a:lnTo>
                        <a:pt x="973931" y="261938"/>
                      </a:lnTo>
                      <a:lnTo>
                        <a:pt x="935831" y="335756"/>
                      </a:lnTo>
                      <a:lnTo>
                        <a:pt x="950119" y="390525"/>
                      </a:lnTo>
                      <a:lnTo>
                        <a:pt x="897731" y="531019"/>
                      </a:lnTo>
                      <a:lnTo>
                        <a:pt x="1004888" y="621506"/>
                      </a:lnTo>
                      <a:lnTo>
                        <a:pt x="1081088" y="576263"/>
                      </a:lnTo>
                      <a:lnTo>
                        <a:pt x="1085850" y="738188"/>
                      </a:lnTo>
                      <a:lnTo>
                        <a:pt x="1047750" y="862013"/>
                      </a:lnTo>
                      <a:lnTo>
                        <a:pt x="890588" y="821531"/>
                      </a:lnTo>
                      <a:lnTo>
                        <a:pt x="731044" y="840581"/>
                      </a:lnTo>
                      <a:lnTo>
                        <a:pt x="754856" y="1012031"/>
                      </a:lnTo>
                      <a:lnTo>
                        <a:pt x="814388" y="1202531"/>
                      </a:lnTo>
                      <a:lnTo>
                        <a:pt x="769144" y="1176338"/>
                      </a:lnTo>
                      <a:lnTo>
                        <a:pt x="488156" y="1135856"/>
                      </a:lnTo>
                      <a:lnTo>
                        <a:pt x="447675" y="1312069"/>
                      </a:lnTo>
                      <a:lnTo>
                        <a:pt x="261938" y="1312069"/>
                      </a:lnTo>
                      <a:lnTo>
                        <a:pt x="152400" y="1202531"/>
                      </a:lnTo>
                      <a:lnTo>
                        <a:pt x="121444" y="1047750"/>
                      </a:lnTo>
                      <a:lnTo>
                        <a:pt x="40481" y="942975"/>
                      </a:lnTo>
                      <a:lnTo>
                        <a:pt x="0" y="759619"/>
                      </a:lnTo>
                      <a:lnTo>
                        <a:pt x="100013" y="700088"/>
                      </a:lnTo>
                      <a:lnTo>
                        <a:pt x="197644" y="707231"/>
                      </a:lnTo>
                      <a:lnTo>
                        <a:pt x="209550" y="485775"/>
                      </a:lnTo>
                      <a:lnTo>
                        <a:pt x="259556" y="361950"/>
                      </a:lnTo>
                      <a:lnTo>
                        <a:pt x="361950" y="369094"/>
                      </a:lnTo>
                      <a:lnTo>
                        <a:pt x="483394" y="450056"/>
                      </a:lnTo>
                      <a:lnTo>
                        <a:pt x="692944" y="342900"/>
                      </a:lnTo>
                      <a:cubicBezTo>
                        <a:pt x="693738" y="285750"/>
                        <a:pt x="694531" y="228600"/>
                        <a:pt x="695325" y="171450"/>
                      </a:cubicBezTo>
                      <a:lnTo>
                        <a:pt x="733425" y="19050"/>
                      </a:lnTo>
                      <a:lnTo>
                        <a:pt x="862013" y="0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Полилиния 116"/>
                <p:cNvSpPr/>
                <p:nvPr/>
              </p:nvSpPr>
              <p:spPr>
                <a:xfrm>
                  <a:off x="1274040" y="4336920"/>
                  <a:ext cx="343440" cy="365760"/>
                </a:xfrm>
                <a:custGeom>
                  <a:avLst/>
                  <a:gdLst/>
                  <a:ahLst/>
                  <a:rect l="l" t="t" r="r" b="b"/>
                  <a:pathLst>
                    <a:path w="1435894" h="1557338">
                      <a:moveTo>
                        <a:pt x="0" y="435769"/>
                      </a:moveTo>
                      <a:lnTo>
                        <a:pt x="192881" y="185738"/>
                      </a:lnTo>
                      <a:lnTo>
                        <a:pt x="250031" y="64294"/>
                      </a:lnTo>
                      <a:lnTo>
                        <a:pt x="307181" y="0"/>
                      </a:lnTo>
                      <a:lnTo>
                        <a:pt x="671513" y="121444"/>
                      </a:lnTo>
                      <a:lnTo>
                        <a:pt x="978694" y="102394"/>
                      </a:lnTo>
                      <a:lnTo>
                        <a:pt x="1183481" y="126206"/>
                      </a:lnTo>
                      <a:lnTo>
                        <a:pt x="1250156" y="28575"/>
                      </a:lnTo>
                      <a:lnTo>
                        <a:pt x="1340644" y="152400"/>
                      </a:lnTo>
                      <a:lnTo>
                        <a:pt x="1435894" y="338138"/>
                      </a:lnTo>
                      <a:lnTo>
                        <a:pt x="1402556" y="747713"/>
                      </a:lnTo>
                      <a:lnTo>
                        <a:pt x="1302544" y="776288"/>
                      </a:lnTo>
                      <a:cubicBezTo>
                        <a:pt x="1303338" y="858838"/>
                        <a:pt x="1304131" y="941388"/>
                        <a:pt x="1304925" y="1023938"/>
                      </a:cubicBezTo>
                      <a:lnTo>
                        <a:pt x="1204913" y="1195388"/>
                      </a:lnTo>
                      <a:lnTo>
                        <a:pt x="1054894" y="1166813"/>
                      </a:lnTo>
                      <a:lnTo>
                        <a:pt x="921544" y="1092994"/>
                      </a:lnTo>
                      <a:lnTo>
                        <a:pt x="745331" y="1078706"/>
                      </a:lnTo>
                      <a:lnTo>
                        <a:pt x="795338" y="1138238"/>
                      </a:lnTo>
                      <a:lnTo>
                        <a:pt x="759619" y="1459706"/>
                      </a:lnTo>
                      <a:lnTo>
                        <a:pt x="631031" y="1497806"/>
                      </a:lnTo>
                      <a:lnTo>
                        <a:pt x="445294" y="1393031"/>
                      </a:lnTo>
                      <a:lnTo>
                        <a:pt x="371475" y="1438275"/>
                      </a:lnTo>
                      <a:lnTo>
                        <a:pt x="378619" y="1493044"/>
                      </a:lnTo>
                      <a:lnTo>
                        <a:pt x="271463" y="1557338"/>
                      </a:lnTo>
                      <a:lnTo>
                        <a:pt x="164306" y="1471613"/>
                      </a:lnTo>
                      <a:lnTo>
                        <a:pt x="214313" y="1333500"/>
                      </a:lnTo>
                      <a:lnTo>
                        <a:pt x="204788" y="1273969"/>
                      </a:lnTo>
                      <a:lnTo>
                        <a:pt x="240506" y="1200150"/>
                      </a:lnTo>
                      <a:lnTo>
                        <a:pt x="314325" y="1183481"/>
                      </a:lnTo>
                      <a:lnTo>
                        <a:pt x="126206" y="938213"/>
                      </a:lnTo>
                      <a:lnTo>
                        <a:pt x="135731" y="769144"/>
                      </a:lnTo>
                      <a:lnTo>
                        <a:pt x="0" y="43576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Полилиния 117"/>
                <p:cNvSpPr/>
                <p:nvPr/>
              </p:nvSpPr>
              <p:spPr>
                <a:xfrm>
                  <a:off x="1000440" y="4417920"/>
                  <a:ext cx="308520" cy="305280"/>
                </a:xfrm>
                <a:custGeom>
                  <a:avLst/>
                  <a:gdLst/>
                  <a:ahLst/>
                  <a:rect l="l" t="t" r="r" b="b"/>
                  <a:pathLst>
                    <a:path w="1307306" h="1312069">
                      <a:moveTo>
                        <a:pt x="7143" y="928688"/>
                      </a:moveTo>
                      <a:lnTo>
                        <a:pt x="0" y="826294"/>
                      </a:lnTo>
                      <a:lnTo>
                        <a:pt x="50006" y="566738"/>
                      </a:lnTo>
                      <a:lnTo>
                        <a:pt x="171450" y="535782"/>
                      </a:lnTo>
                      <a:lnTo>
                        <a:pt x="109537" y="457200"/>
                      </a:lnTo>
                      <a:lnTo>
                        <a:pt x="100012" y="381000"/>
                      </a:lnTo>
                      <a:lnTo>
                        <a:pt x="278606" y="409575"/>
                      </a:lnTo>
                      <a:lnTo>
                        <a:pt x="264318" y="345282"/>
                      </a:lnTo>
                      <a:lnTo>
                        <a:pt x="400050" y="311944"/>
                      </a:lnTo>
                      <a:lnTo>
                        <a:pt x="440531" y="261938"/>
                      </a:lnTo>
                      <a:lnTo>
                        <a:pt x="700087" y="252413"/>
                      </a:lnTo>
                      <a:lnTo>
                        <a:pt x="714375" y="166688"/>
                      </a:lnTo>
                      <a:lnTo>
                        <a:pt x="797718" y="47625"/>
                      </a:lnTo>
                      <a:lnTo>
                        <a:pt x="904875" y="0"/>
                      </a:lnTo>
                      <a:lnTo>
                        <a:pt x="1057275" y="47625"/>
                      </a:lnTo>
                      <a:lnTo>
                        <a:pt x="1097756" y="164307"/>
                      </a:lnTo>
                      <a:lnTo>
                        <a:pt x="1164431" y="97632"/>
                      </a:lnTo>
                      <a:lnTo>
                        <a:pt x="1307306" y="431007"/>
                      </a:lnTo>
                      <a:lnTo>
                        <a:pt x="1288256" y="600075"/>
                      </a:lnTo>
                      <a:lnTo>
                        <a:pt x="1171575" y="621507"/>
                      </a:lnTo>
                      <a:lnTo>
                        <a:pt x="1123950" y="783432"/>
                      </a:lnTo>
                      <a:lnTo>
                        <a:pt x="1114425" y="945357"/>
                      </a:lnTo>
                      <a:lnTo>
                        <a:pt x="1121568" y="945357"/>
                      </a:lnTo>
                      <a:lnTo>
                        <a:pt x="914400" y="1054894"/>
                      </a:lnTo>
                      <a:lnTo>
                        <a:pt x="785812" y="971550"/>
                      </a:lnTo>
                      <a:lnTo>
                        <a:pt x="702468" y="971550"/>
                      </a:lnTo>
                      <a:lnTo>
                        <a:pt x="638175" y="1104900"/>
                      </a:lnTo>
                      <a:lnTo>
                        <a:pt x="628650" y="1312069"/>
                      </a:lnTo>
                      <a:lnTo>
                        <a:pt x="523875" y="1307307"/>
                      </a:lnTo>
                      <a:lnTo>
                        <a:pt x="295275" y="1252538"/>
                      </a:lnTo>
                      <a:lnTo>
                        <a:pt x="254793" y="978694"/>
                      </a:lnTo>
                      <a:lnTo>
                        <a:pt x="7143" y="928688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Прямоугольник 1"/>
            <p:cNvSpPr/>
            <p:nvPr/>
          </p:nvSpPr>
          <p:spPr>
            <a:xfrm>
              <a:off x="1680840" y="4566960"/>
              <a:ext cx="1451160" cy="641520"/>
            </a:xfrm>
            <a:prstGeom prst="rect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ерритор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пережающе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2"/>
          <p:cNvSpPr/>
          <p:nvPr/>
        </p:nvSpPr>
        <p:spPr>
          <a:xfrm>
            <a:off x="339840" y="3233880"/>
            <a:ext cx="85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Увеличение количества промышленных парков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Киров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https://yt3.ggpht.com/-tXCofiR4EUo/AAAAAAAAAAI/AAAAAAAAAAA/i38jFqSv-UI/s900-c-k-no-mo-rj-c0xffffff/photo.jpg"/>
          <p:cNvPicPr/>
          <p:nvPr/>
        </p:nvPicPr>
        <p:blipFill>
          <a:blip r:embed="rId3"/>
          <a:srcRect l="0" t="32994" r="5619" b="34053"/>
          <a:stretch/>
        </p:blipFill>
        <p:spPr>
          <a:xfrm>
            <a:off x="2378160" y="2478240"/>
            <a:ext cx="160812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Картинки по запросу рэц"/>
          <p:cNvPicPr/>
          <p:nvPr/>
        </p:nvPicPr>
        <p:blipFill>
          <a:blip r:embed="rId4"/>
          <a:srcRect l="0" t="30505" r="0" b="34758"/>
          <a:stretch/>
        </p:blipFill>
        <p:spPr>
          <a:xfrm>
            <a:off x="368280" y="2476440"/>
            <a:ext cx="1622520" cy="56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C:\Users\polyaeva_es\YandexDisk\Скриншоты\2017-01-17_18-38-13.png"/>
          <p:cNvPicPr/>
          <p:nvPr/>
        </p:nvPicPr>
        <p:blipFill>
          <a:blip r:embed="rId5"/>
          <a:srcRect l="4459" t="0" r="4459" b="0"/>
          <a:stretch/>
        </p:blipFill>
        <p:spPr>
          <a:xfrm>
            <a:off x="6696000" y="2486160"/>
            <a:ext cx="2170080" cy="55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Картинки по запросу Фонд развития промышленности"/>
          <p:cNvPicPr/>
          <p:nvPr/>
        </p:nvPicPr>
        <p:blipFill>
          <a:blip r:embed="rId6"/>
          <a:srcRect l="0" t="33467" r="0" b="33272"/>
          <a:stretch/>
        </p:blipFill>
        <p:spPr>
          <a:xfrm>
            <a:off x="4275000" y="2476440"/>
            <a:ext cx="2170080" cy="5605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3182760" y="5218200"/>
            <a:ext cx="347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Финансовая поддержка 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МП в моногород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Группа 8"/>
          <p:cNvGrpSpPr/>
          <p:nvPr/>
        </p:nvGrpSpPr>
        <p:grpSpPr>
          <a:xfrm>
            <a:off x="324000" y="1593720"/>
            <a:ext cx="3620880" cy="4572000"/>
            <a:chOff x="324000" y="1593720"/>
            <a:chExt cx="3620880" cy="4572000"/>
          </a:xfrm>
        </p:grpSpPr>
        <p:sp>
          <p:nvSpPr>
            <p:cNvPr id="149" name="Полилиния 24"/>
            <p:cNvSpPr/>
            <p:nvPr/>
          </p:nvSpPr>
          <p:spPr>
            <a:xfrm>
              <a:off x="758880" y="1593720"/>
              <a:ext cx="784080" cy="817560"/>
            </a:xfrm>
            <a:custGeom>
              <a:avLst/>
              <a:gdLst/>
              <a:ahLst/>
              <a:rect l="l" t="t" r="r" b="b"/>
              <a:pathLst>
                <a:path w="1154906" h="1202531">
                  <a:moveTo>
                    <a:pt x="890587" y="321469"/>
                  </a:moveTo>
                  <a:lnTo>
                    <a:pt x="954881" y="416719"/>
                  </a:lnTo>
                  <a:lnTo>
                    <a:pt x="1009650" y="571500"/>
                  </a:lnTo>
                  <a:lnTo>
                    <a:pt x="1016794" y="892969"/>
                  </a:lnTo>
                  <a:lnTo>
                    <a:pt x="1154906" y="962025"/>
                  </a:lnTo>
                  <a:lnTo>
                    <a:pt x="1114425" y="1092994"/>
                  </a:lnTo>
                  <a:lnTo>
                    <a:pt x="1004887" y="1202531"/>
                  </a:lnTo>
                  <a:lnTo>
                    <a:pt x="900112" y="1176337"/>
                  </a:lnTo>
                  <a:lnTo>
                    <a:pt x="485775" y="992981"/>
                  </a:lnTo>
                  <a:lnTo>
                    <a:pt x="466725" y="928687"/>
                  </a:lnTo>
                  <a:lnTo>
                    <a:pt x="488156" y="838200"/>
                  </a:lnTo>
                  <a:lnTo>
                    <a:pt x="459581" y="809625"/>
                  </a:lnTo>
                  <a:lnTo>
                    <a:pt x="450056" y="726281"/>
                  </a:lnTo>
                  <a:lnTo>
                    <a:pt x="157162" y="750094"/>
                  </a:lnTo>
                  <a:lnTo>
                    <a:pt x="40481" y="659606"/>
                  </a:lnTo>
                  <a:lnTo>
                    <a:pt x="0" y="526256"/>
                  </a:lnTo>
                  <a:lnTo>
                    <a:pt x="47625" y="297656"/>
                  </a:lnTo>
                  <a:lnTo>
                    <a:pt x="159544" y="0"/>
                  </a:lnTo>
                  <a:lnTo>
                    <a:pt x="219075" y="35719"/>
                  </a:lnTo>
                  <a:lnTo>
                    <a:pt x="369094" y="35719"/>
                  </a:lnTo>
                  <a:lnTo>
                    <a:pt x="490537" y="109537"/>
                  </a:lnTo>
                  <a:lnTo>
                    <a:pt x="614362" y="111919"/>
                  </a:lnTo>
                  <a:lnTo>
                    <a:pt x="659606" y="257175"/>
                  </a:lnTo>
                  <a:lnTo>
                    <a:pt x="738187" y="290512"/>
                  </a:lnTo>
                  <a:lnTo>
                    <a:pt x="890587" y="321469"/>
                  </a:lnTo>
                  <a:close/>
                </a:path>
              </a:pathLst>
            </a:custGeom>
            <a:solidFill>
              <a:srgbClr val="0066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Группа 133"/>
            <p:cNvGrpSpPr/>
            <p:nvPr/>
          </p:nvGrpSpPr>
          <p:grpSpPr>
            <a:xfrm>
              <a:off x="324000" y="1888560"/>
              <a:ext cx="3620880" cy="4277160"/>
              <a:chOff x="324000" y="1888560"/>
              <a:chExt cx="3620880" cy="4277160"/>
            </a:xfrm>
          </p:grpSpPr>
          <p:sp>
            <p:nvSpPr>
              <p:cNvPr id="151" name="Полилиния 26"/>
              <p:cNvSpPr/>
              <p:nvPr/>
            </p:nvSpPr>
            <p:spPr>
              <a:xfrm>
                <a:off x="1722600" y="3798720"/>
                <a:ext cx="760320" cy="492120"/>
              </a:xfrm>
              <a:custGeom>
                <a:avLst/>
                <a:gdLst/>
                <a:ahLst/>
                <a:rect l="l" t="t" r="r" b="b"/>
                <a:pathLst>
                  <a:path w="1119187" h="726281">
                    <a:moveTo>
                      <a:pt x="33333" y="14286"/>
                    </a:moveTo>
                    <a:lnTo>
                      <a:pt x="250031" y="33337"/>
                    </a:lnTo>
                    <a:lnTo>
                      <a:pt x="297656" y="0"/>
                    </a:lnTo>
                    <a:lnTo>
                      <a:pt x="392906" y="45243"/>
                    </a:lnTo>
                    <a:lnTo>
                      <a:pt x="459581" y="130968"/>
                    </a:lnTo>
                    <a:lnTo>
                      <a:pt x="533400" y="126206"/>
                    </a:lnTo>
                    <a:lnTo>
                      <a:pt x="576262" y="114300"/>
                    </a:lnTo>
                    <a:lnTo>
                      <a:pt x="783431" y="88106"/>
                    </a:lnTo>
                    <a:lnTo>
                      <a:pt x="838200" y="259556"/>
                    </a:lnTo>
                    <a:lnTo>
                      <a:pt x="1050131" y="371475"/>
                    </a:lnTo>
                    <a:lnTo>
                      <a:pt x="1035844" y="419100"/>
                    </a:lnTo>
                    <a:lnTo>
                      <a:pt x="1073944" y="547687"/>
                    </a:lnTo>
                    <a:lnTo>
                      <a:pt x="1119187" y="652462"/>
                    </a:lnTo>
                    <a:lnTo>
                      <a:pt x="1033462" y="652462"/>
                    </a:lnTo>
                    <a:lnTo>
                      <a:pt x="895350" y="726281"/>
                    </a:lnTo>
                    <a:lnTo>
                      <a:pt x="809625" y="664368"/>
                    </a:lnTo>
                    <a:lnTo>
                      <a:pt x="785812" y="523875"/>
                    </a:lnTo>
                    <a:lnTo>
                      <a:pt x="759619" y="507206"/>
                    </a:lnTo>
                    <a:cubicBezTo>
                      <a:pt x="709202" y="497122"/>
                      <a:pt x="764219" y="507185"/>
                      <a:pt x="707231" y="500062"/>
                    </a:cubicBezTo>
                    <a:cubicBezTo>
                      <a:pt x="682176" y="496930"/>
                      <a:pt x="684976" y="496232"/>
                      <a:pt x="666750" y="492918"/>
                    </a:cubicBezTo>
                    <a:cubicBezTo>
                      <a:pt x="662000" y="492054"/>
                      <a:pt x="657225" y="491331"/>
                      <a:pt x="652462" y="490537"/>
                    </a:cubicBezTo>
                    <a:lnTo>
                      <a:pt x="516731" y="492918"/>
                    </a:lnTo>
                    <a:cubicBezTo>
                      <a:pt x="508575" y="493190"/>
                      <a:pt x="508434" y="497784"/>
                      <a:pt x="502444" y="502443"/>
                    </a:cubicBezTo>
                    <a:cubicBezTo>
                      <a:pt x="497926" y="505957"/>
                      <a:pt x="488156" y="511968"/>
                      <a:pt x="488156" y="511968"/>
                    </a:cubicBezTo>
                    <a:cubicBezTo>
                      <a:pt x="482409" y="520589"/>
                      <a:pt x="484674" y="516552"/>
                      <a:pt x="481012" y="523875"/>
                    </a:cubicBezTo>
                    <a:lnTo>
                      <a:pt x="297656" y="592931"/>
                    </a:lnTo>
                    <a:lnTo>
                      <a:pt x="340519" y="481012"/>
                    </a:lnTo>
                    <a:lnTo>
                      <a:pt x="321469" y="404812"/>
                    </a:lnTo>
                    <a:lnTo>
                      <a:pt x="171450" y="414337"/>
                    </a:lnTo>
                    <a:lnTo>
                      <a:pt x="54769" y="178593"/>
                    </a:lnTo>
                    <a:lnTo>
                      <a:pt x="0" y="135731"/>
                    </a:lnTo>
                    <a:cubicBezTo>
                      <a:pt x="34130" y="95249"/>
                      <a:pt x="30177" y="85727"/>
                      <a:pt x="33333" y="14286"/>
                    </a:cubicBez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олилиния 27"/>
              <p:cNvSpPr/>
              <p:nvPr/>
            </p:nvSpPr>
            <p:spPr>
              <a:xfrm>
                <a:off x="1336680" y="3477960"/>
                <a:ext cx="447480" cy="558720"/>
              </a:xfrm>
              <a:custGeom>
                <a:avLst/>
                <a:gdLst/>
                <a:ahLst/>
                <a:rect l="l" t="t" r="r" b="b"/>
                <a:pathLst>
                  <a:path w="659606" h="823913">
                    <a:moveTo>
                      <a:pt x="154781" y="0"/>
                    </a:moveTo>
                    <a:lnTo>
                      <a:pt x="154781" y="0"/>
                    </a:lnTo>
                    <a:lnTo>
                      <a:pt x="154781" y="11906"/>
                    </a:lnTo>
                    <a:lnTo>
                      <a:pt x="271463" y="140494"/>
                    </a:lnTo>
                    <a:lnTo>
                      <a:pt x="264319" y="133350"/>
                    </a:lnTo>
                    <a:lnTo>
                      <a:pt x="304800" y="171450"/>
                    </a:lnTo>
                    <a:lnTo>
                      <a:pt x="295275" y="269081"/>
                    </a:lnTo>
                    <a:lnTo>
                      <a:pt x="411956" y="176213"/>
                    </a:lnTo>
                    <a:lnTo>
                      <a:pt x="569119" y="273844"/>
                    </a:lnTo>
                    <a:lnTo>
                      <a:pt x="659606" y="395288"/>
                    </a:lnTo>
                    <a:lnTo>
                      <a:pt x="614363" y="523875"/>
                    </a:lnTo>
                    <a:lnTo>
                      <a:pt x="488156" y="738188"/>
                    </a:lnTo>
                    <a:lnTo>
                      <a:pt x="347663" y="823913"/>
                    </a:lnTo>
                    <a:lnTo>
                      <a:pt x="214313" y="771525"/>
                    </a:lnTo>
                    <a:lnTo>
                      <a:pt x="97631" y="657225"/>
                    </a:lnTo>
                    <a:lnTo>
                      <a:pt x="16669" y="540544"/>
                    </a:lnTo>
                    <a:lnTo>
                      <a:pt x="0" y="407194"/>
                    </a:lnTo>
                    <a:lnTo>
                      <a:pt x="14288" y="366713"/>
                    </a:lnTo>
                    <a:lnTo>
                      <a:pt x="121444" y="316706"/>
                    </a:lnTo>
                    <a:lnTo>
                      <a:pt x="128588" y="109538"/>
                    </a:lnTo>
                    <a:lnTo>
                      <a:pt x="154781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олилиния 28"/>
              <p:cNvSpPr/>
              <p:nvPr/>
            </p:nvSpPr>
            <p:spPr>
              <a:xfrm>
                <a:off x="1332000" y="3890880"/>
                <a:ext cx="622080" cy="534960"/>
              </a:xfrm>
              <a:custGeom>
                <a:avLst/>
                <a:gdLst/>
                <a:ahLst/>
                <a:rect l="l" t="t" r="r" b="b"/>
                <a:pathLst>
                  <a:path w="914400" h="788194">
                    <a:moveTo>
                      <a:pt x="0" y="485775"/>
                    </a:moveTo>
                    <a:lnTo>
                      <a:pt x="147638" y="383381"/>
                    </a:lnTo>
                    <a:lnTo>
                      <a:pt x="238125" y="171450"/>
                    </a:lnTo>
                    <a:lnTo>
                      <a:pt x="354807" y="219075"/>
                    </a:lnTo>
                    <a:lnTo>
                      <a:pt x="502444" y="130969"/>
                    </a:lnTo>
                    <a:lnTo>
                      <a:pt x="576263" y="0"/>
                    </a:lnTo>
                    <a:lnTo>
                      <a:pt x="631032" y="42862"/>
                    </a:lnTo>
                    <a:lnTo>
                      <a:pt x="745332" y="273844"/>
                    </a:lnTo>
                    <a:lnTo>
                      <a:pt x="892969" y="271462"/>
                    </a:lnTo>
                    <a:lnTo>
                      <a:pt x="914400" y="338137"/>
                    </a:lnTo>
                    <a:lnTo>
                      <a:pt x="819150" y="592931"/>
                    </a:lnTo>
                    <a:lnTo>
                      <a:pt x="769144" y="571500"/>
                    </a:lnTo>
                    <a:lnTo>
                      <a:pt x="683419" y="621506"/>
                    </a:lnTo>
                    <a:lnTo>
                      <a:pt x="561975" y="538162"/>
                    </a:lnTo>
                    <a:lnTo>
                      <a:pt x="500063" y="631031"/>
                    </a:lnTo>
                    <a:lnTo>
                      <a:pt x="428625" y="557212"/>
                    </a:lnTo>
                    <a:lnTo>
                      <a:pt x="385763" y="716756"/>
                    </a:lnTo>
                    <a:lnTo>
                      <a:pt x="309563" y="714375"/>
                    </a:lnTo>
                    <a:lnTo>
                      <a:pt x="114300" y="788194"/>
                    </a:lnTo>
                    <a:lnTo>
                      <a:pt x="119063" y="759619"/>
                    </a:lnTo>
                    <a:lnTo>
                      <a:pt x="164307" y="678656"/>
                    </a:lnTo>
                    <a:cubicBezTo>
                      <a:pt x="163513" y="671512"/>
                      <a:pt x="163953" y="664121"/>
                      <a:pt x="161925" y="657225"/>
                    </a:cubicBezTo>
                    <a:cubicBezTo>
                      <a:pt x="159922" y="650414"/>
                      <a:pt x="152400" y="638175"/>
                      <a:pt x="152400" y="638175"/>
                    </a:cubicBezTo>
                    <a:cubicBezTo>
                      <a:pt x="151606" y="635000"/>
                      <a:pt x="151834" y="631373"/>
                      <a:pt x="150019" y="628650"/>
                    </a:cubicBezTo>
                    <a:cubicBezTo>
                      <a:pt x="148431" y="626269"/>
                      <a:pt x="144899" y="625911"/>
                      <a:pt x="142875" y="623887"/>
                    </a:cubicBezTo>
                    <a:cubicBezTo>
                      <a:pt x="140852" y="621864"/>
                      <a:pt x="140136" y="618767"/>
                      <a:pt x="138113" y="616744"/>
                    </a:cubicBezTo>
                    <a:cubicBezTo>
                      <a:pt x="136089" y="614720"/>
                      <a:pt x="133259" y="613698"/>
                      <a:pt x="130969" y="611981"/>
                    </a:cubicBezTo>
                    <a:cubicBezTo>
                      <a:pt x="130071" y="611308"/>
                      <a:pt x="129382" y="610394"/>
                      <a:pt x="128588" y="609600"/>
                    </a:cubicBezTo>
                    <a:lnTo>
                      <a:pt x="0" y="485775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олилиния 29"/>
              <p:cNvSpPr/>
              <p:nvPr/>
            </p:nvSpPr>
            <p:spPr>
              <a:xfrm>
                <a:off x="1887480" y="4130640"/>
                <a:ext cx="630000" cy="345960"/>
              </a:xfrm>
              <a:custGeom>
                <a:avLst/>
                <a:gdLst/>
                <a:ahLst/>
                <a:rect l="l" t="t" r="r" b="b"/>
                <a:pathLst>
                  <a:path w="926307" h="509588">
                    <a:moveTo>
                      <a:pt x="0" y="235744"/>
                    </a:moveTo>
                    <a:lnTo>
                      <a:pt x="64294" y="95250"/>
                    </a:lnTo>
                    <a:lnTo>
                      <a:pt x="235744" y="38100"/>
                    </a:lnTo>
                    <a:lnTo>
                      <a:pt x="273844" y="0"/>
                    </a:lnTo>
                    <a:lnTo>
                      <a:pt x="404813" y="0"/>
                    </a:lnTo>
                    <a:lnTo>
                      <a:pt x="523875" y="19050"/>
                    </a:lnTo>
                    <a:lnTo>
                      <a:pt x="542925" y="47625"/>
                    </a:lnTo>
                    <a:lnTo>
                      <a:pt x="569119" y="171450"/>
                    </a:lnTo>
                    <a:lnTo>
                      <a:pt x="650082" y="233363"/>
                    </a:lnTo>
                    <a:lnTo>
                      <a:pt x="790575" y="157163"/>
                    </a:lnTo>
                    <a:lnTo>
                      <a:pt x="888207" y="166688"/>
                    </a:lnTo>
                    <a:lnTo>
                      <a:pt x="878682" y="335756"/>
                    </a:lnTo>
                    <a:lnTo>
                      <a:pt x="926307" y="454819"/>
                    </a:lnTo>
                    <a:lnTo>
                      <a:pt x="881063" y="464344"/>
                    </a:lnTo>
                    <a:lnTo>
                      <a:pt x="778669" y="404813"/>
                    </a:lnTo>
                    <a:lnTo>
                      <a:pt x="557213" y="500063"/>
                    </a:lnTo>
                    <a:lnTo>
                      <a:pt x="421482" y="407194"/>
                    </a:lnTo>
                    <a:lnTo>
                      <a:pt x="245269" y="431006"/>
                    </a:lnTo>
                    <a:lnTo>
                      <a:pt x="80963" y="509588"/>
                    </a:lnTo>
                    <a:lnTo>
                      <a:pt x="114300" y="419100"/>
                    </a:lnTo>
                    <a:lnTo>
                      <a:pt x="57150" y="271463"/>
                    </a:lnTo>
                    <a:lnTo>
                      <a:pt x="0" y="235744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олилиния 30"/>
              <p:cNvSpPr/>
              <p:nvPr/>
            </p:nvSpPr>
            <p:spPr>
              <a:xfrm>
                <a:off x="2422440" y="3741480"/>
                <a:ext cx="422280" cy="728640"/>
              </a:xfrm>
              <a:custGeom>
                <a:avLst/>
                <a:gdLst/>
                <a:ahLst/>
                <a:rect l="l" t="t" r="r" b="b"/>
                <a:pathLst>
                  <a:path w="621506" h="1073944">
                    <a:moveTo>
                      <a:pt x="50006" y="416719"/>
                    </a:moveTo>
                    <a:lnTo>
                      <a:pt x="133350" y="381000"/>
                    </a:lnTo>
                    <a:lnTo>
                      <a:pt x="202406" y="180975"/>
                    </a:lnTo>
                    <a:lnTo>
                      <a:pt x="297656" y="178594"/>
                    </a:lnTo>
                    <a:lnTo>
                      <a:pt x="338137" y="0"/>
                    </a:lnTo>
                    <a:lnTo>
                      <a:pt x="619125" y="40481"/>
                    </a:lnTo>
                    <a:cubicBezTo>
                      <a:pt x="619919" y="112712"/>
                      <a:pt x="620712" y="184944"/>
                      <a:pt x="621506" y="257175"/>
                    </a:cubicBezTo>
                    <a:lnTo>
                      <a:pt x="502444" y="516731"/>
                    </a:lnTo>
                    <a:lnTo>
                      <a:pt x="516731" y="671512"/>
                    </a:lnTo>
                    <a:lnTo>
                      <a:pt x="523875" y="742950"/>
                    </a:lnTo>
                    <a:lnTo>
                      <a:pt x="461962" y="897731"/>
                    </a:lnTo>
                    <a:lnTo>
                      <a:pt x="447675" y="1073944"/>
                    </a:lnTo>
                    <a:lnTo>
                      <a:pt x="378619" y="1014412"/>
                    </a:lnTo>
                    <a:lnTo>
                      <a:pt x="247650" y="1031081"/>
                    </a:lnTo>
                    <a:lnTo>
                      <a:pt x="147637" y="1028700"/>
                    </a:lnTo>
                    <a:lnTo>
                      <a:pt x="97631" y="916781"/>
                    </a:lnTo>
                    <a:cubicBezTo>
                      <a:pt x="96837" y="854869"/>
                      <a:pt x="96044" y="792956"/>
                      <a:pt x="95250" y="731044"/>
                    </a:cubicBezTo>
                    <a:lnTo>
                      <a:pt x="0" y="511969"/>
                    </a:lnTo>
                    <a:lnTo>
                      <a:pt x="50006" y="416719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олилиния 31"/>
              <p:cNvSpPr/>
              <p:nvPr/>
            </p:nvSpPr>
            <p:spPr>
              <a:xfrm>
                <a:off x="2719440" y="3760560"/>
                <a:ext cx="380880" cy="815760"/>
              </a:xfrm>
              <a:custGeom>
                <a:avLst/>
                <a:gdLst/>
                <a:ahLst/>
                <a:rect l="l" t="t" r="r" b="b"/>
                <a:pathLst>
                  <a:path w="561975" h="1200150">
                    <a:moveTo>
                      <a:pt x="226218" y="33337"/>
                    </a:moveTo>
                    <a:lnTo>
                      <a:pt x="352425" y="7144"/>
                    </a:lnTo>
                    <a:lnTo>
                      <a:pt x="330993" y="152400"/>
                    </a:lnTo>
                    <a:lnTo>
                      <a:pt x="457200" y="185737"/>
                    </a:lnTo>
                    <a:lnTo>
                      <a:pt x="561975" y="188119"/>
                    </a:lnTo>
                    <a:lnTo>
                      <a:pt x="514350" y="338137"/>
                    </a:lnTo>
                    <a:lnTo>
                      <a:pt x="471487" y="407194"/>
                    </a:lnTo>
                    <a:lnTo>
                      <a:pt x="366712" y="504825"/>
                    </a:lnTo>
                    <a:lnTo>
                      <a:pt x="357187" y="576262"/>
                    </a:lnTo>
                    <a:lnTo>
                      <a:pt x="378618" y="614362"/>
                    </a:lnTo>
                    <a:lnTo>
                      <a:pt x="333375" y="776287"/>
                    </a:lnTo>
                    <a:lnTo>
                      <a:pt x="388143" y="845344"/>
                    </a:lnTo>
                    <a:lnTo>
                      <a:pt x="390525" y="921544"/>
                    </a:lnTo>
                    <a:lnTo>
                      <a:pt x="471487" y="916781"/>
                    </a:lnTo>
                    <a:lnTo>
                      <a:pt x="421481" y="1083469"/>
                    </a:lnTo>
                    <a:lnTo>
                      <a:pt x="452437" y="1200150"/>
                    </a:lnTo>
                    <a:lnTo>
                      <a:pt x="245268" y="1121569"/>
                    </a:lnTo>
                    <a:lnTo>
                      <a:pt x="0" y="1166812"/>
                    </a:lnTo>
                    <a:lnTo>
                      <a:pt x="16668" y="1016794"/>
                    </a:lnTo>
                    <a:lnTo>
                      <a:pt x="26193" y="885825"/>
                    </a:lnTo>
                    <a:lnTo>
                      <a:pt x="90487" y="719137"/>
                    </a:lnTo>
                    <a:lnTo>
                      <a:pt x="76200" y="483394"/>
                    </a:lnTo>
                    <a:lnTo>
                      <a:pt x="188118" y="226219"/>
                    </a:lnTo>
                    <a:lnTo>
                      <a:pt x="183356" y="0"/>
                    </a:lnTo>
                    <a:lnTo>
                      <a:pt x="226218" y="33337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олилиния 32"/>
              <p:cNvSpPr/>
              <p:nvPr/>
            </p:nvSpPr>
            <p:spPr>
              <a:xfrm>
                <a:off x="1900440" y="4408200"/>
                <a:ext cx="488880" cy="303120"/>
              </a:xfrm>
              <a:custGeom>
                <a:avLst/>
                <a:gdLst/>
                <a:ahLst/>
                <a:rect l="l" t="t" r="r" b="b"/>
                <a:pathLst>
                  <a:path w="721519" h="447675">
                    <a:moveTo>
                      <a:pt x="0" y="214312"/>
                    </a:moveTo>
                    <a:lnTo>
                      <a:pt x="42863" y="178594"/>
                    </a:lnTo>
                    <a:lnTo>
                      <a:pt x="66675" y="95250"/>
                    </a:lnTo>
                    <a:lnTo>
                      <a:pt x="235744" y="16669"/>
                    </a:lnTo>
                    <a:lnTo>
                      <a:pt x="404813" y="0"/>
                    </a:lnTo>
                    <a:lnTo>
                      <a:pt x="547688" y="97631"/>
                    </a:lnTo>
                    <a:lnTo>
                      <a:pt x="661988" y="40481"/>
                    </a:lnTo>
                    <a:lnTo>
                      <a:pt x="721519" y="119062"/>
                    </a:lnTo>
                    <a:lnTo>
                      <a:pt x="640556" y="254794"/>
                    </a:lnTo>
                    <a:lnTo>
                      <a:pt x="616744" y="245269"/>
                    </a:lnTo>
                    <a:lnTo>
                      <a:pt x="526256" y="361950"/>
                    </a:lnTo>
                    <a:lnTo>
                      <a:pt x="531019" y="428625"/>
                    </a:lnTo>
                    <a:lnTo>
                      <a:pt x="521494" y="447675"/>
                    </a:lnTo>
                    <a:lnTo>
                      <a:pt x="414338" y="411956"/>
                    </a:lnTo>
                    <a:lnTo>
                      <a:pt x="283369" y="390525"/>
                    </a:lnTo>
                    <a:lnTo>
                      <a:pt x="130969" y="400050"/>
                    </a:lnTo>
                    <a:lnTo>
                      <a:pt x="126206" y="257175"/>
                    </a:lnTo>
                    <a:lnTo>
                      <a:pt x="0" y="214312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олилиния 33"/>
              <p:cNvSpPr/>
              <p:nvPr/>
            </p:nvSpPr>
            <p:spPr>
              <a:xfrm>
                <a:off x="1411200" y="4257360"/>
                <a:ext cx="556920" cy="385560"/>
              </a:xfrm>
              <a:custGeom>
                <a:avLst/>
                <a:gdLst/>
                <a:ahLst/>
                <a:rect l="l" t="t" r="r" b="b"/>
                <a:pathLst>
                  <a:path w="819150" h="569118">
                    <a:moveTo>
                      <a:pt x="150018" y="497681"/>
                    </a:moveTo>
                    <a:lnTo>
                      <a:pt x="138112" y="440531"/>
                    </a:lnTo>
                    <a:lnTo>
                      <a:pt x="23812" y="404812"/>
                    </a:lnTo>
                    <a:lnTo>
                      <a:pt x="0" y="240506"/>
                    </a:lnTo>
                    <a:lnTo>
                      <a:pt x="190500" y="171450"/>
                    </a:lnTo>
                    <a:lnTo>
                      <a:pt x="271462" y="176212"/>
                    </a:lnTo>
                    <a:lnTo>
                      <a:pt x="309562" y="21431"/>
                    </a:lnTo>
                    <a:lnTo>
                      <a:pt x="383381" y="85725"/>
                    </a:lnTo>
                    <a:lnTo>
                      <a:pt x="445293" y="0"/>
                    </a:lnTo>
                    <a:lnTo>
                      <a:pt x="569118" y="83343"/>
                    </a:lnTo>
                    <a:lnTo>
                      <a:pt x="654843" y="23812"/>
                    </a:lnTo>
                    <a:lnTo>
                      <a:pt x="764381" y="80962"/>
                    </a:lnTo>
                    <a:lnTo>
                      <a:pt x="819150" y="233362"/>
                    </a:lnTo>
                    <a:lnTo>
                      <a:pt x="757237" y="402431"/>
                    </a:lnTo>
                    <a:lnTo>
                      <a:pt x="723900" y="433387"/>
                    </a:lnTo>
                    <a:lnTo>
                      <a:pt x="673893" y="461962"/>
                    </a:lnTo>
                    <a:lnTo>
                      <a:pt x="597693" y="564356"/>
                    </a:lnTo>
                    <a:lnTo>
                      <a:pt x="519112" y="569118"/>
                    </a:lnTo>
                    <a:lnTo>
                      <a:pt x="295275" y="485775"/>
                    </a:lnTo>
                    <a:lnTo>
                      <a:pt x="150018" y="497681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Полилиния 34"/>
              <p:cNvSpPr/>
              <p:nvPr/>
            </p:nvSpPr>
            <p:spPr>
              <a:xfrm>
                <a:off x="2336760" y="4405320"/>
                <a:ext cx="390240" cy="422280"/>
              </a:xfrm>
              <a:custGeom>
                <a:avLst/>
                <a:gdLst/>
                <a:ahLst/>
                <a:rect l="l" t="t" r="r" b="b"/>
                <a:pathLst>
                  <a:path w="573881" h="621507">
                    <a:moveTo>
                      <a:pt x="0" y="254794"/>
                    </a:moveTo>
                    <a:lnTo>
                      <a:pt x="64293" y="283369"/>
                    </a:lnTo>
                    <a:lnTo>
                      <a:pt x="119062" y="395288"/>
                    </a:lnTo>
                    <a:cubicBezTo>
                      <a:pt x="119856" y="419894"/>
                      <a:pt x="120649" y="444501"/>
                      <a:pt x="121443" y="469107"/>
                    </a:cubicBezTo>
                    <a:lnTo>
                      <a:pt x="140493" y="528638"/>
                    </a:lnTo>
                    <a:lnTo>
                      <a:pt x="207168" y="621507"/>
                    </a:lnTo>
                    <a:lnTo>
                      <a:pt x="340518" y="559594"/>
                    </a:lnTo>
                    <a:lnTo>
                      <a:pt x="307181" y="545307"/>
                    </a:lnTo>
                    <a:lnTo>
                      <a:pt x="311943" y="476250"/>
                    </a:lnTo>
                    <a:lnTo>
                      <a:pt x="452437" y="288132"/>
                    </a:lnTo>
                    <a:lnTo>
                      <a:pt x="559593" y="245269"/>
                    </a:lnTo>
                    <a:lnTo>
                      <a:pt x="573881" y="97632"/>
                    </a:lnTo>
                    <a:lnTo>
                      <a:pt x="502443" y="38100"/>
                    </a:lnTo>
                    <a:lnTo>
                      <a:pt x="378618" y="54769"/>
                    </a:lnTo>
                    <a:lnTo>
                      <a:pt x="266700" y="47625"/>
                    </a:lnTo>
                    <a:lnTo>
                      <a:pt x="223837" y="61913"/>
                    </a:lnTo>
                    <a:lnTo>
                      <a:pt x="114300" y="0"/>
                    </a:lnTo>
                    <a:lnTo>
                      <a:pt x="9525" y="45244"/>
                    </a:lnTo>
                    <a:lnTo>
                      <a:pt x="71437" y="114300"/>
                    </a:lnTo>
                    <a:lnTo>
                      <a:pt x="0" y="254794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Полилиния 35"/>
              <p:cNvSpPr/>
              <p:nvPr/>
            </p:nvSpPr>
            <p:spPr>
              <a:xfrm>
                <a:off x="2548080" y="4522680"/>
                <a:ext cx="490320" cy="493560"/>
              </a:xfrm>
              <a:custGeom>
                <a:avLst/>
                <a:gdLst/>
                <a:ahLst/>
                <a:rect l="l" t="t" r="r" b="b"/>
                <a:pathLst>
                  <a:path w="723900" h="726281">
                    <a:moveTo>
                      <a:pt x="228600" y="726281"/>
                    </a:moveTo>
                    <a:lnTo>
                      <a:pt x="130969" y="642937"/>
                    </a:lnTo>
                    <a:lnTo>
                      <a:pt x="173831" y="557212"/>
                    </a:lnTo>
                    <a:lnTo>
                      <a:pt x="150019" y="461962"/>
                    </a:lnTo>
                    <a:lnTo>
                      <a:pt x="0" y="371475"/>
                    </a:lnTo>
                    <a:cubicBezTo>
                      <a:pt x="794" y="346075"/>
                      <a:pt x="1587" y="320675"/>
                      <a:pt x="2381" y="295275"/>
                    </a:cubicBezTo>
                    <a:lnTo>
                      <a:pt x="140494" y="119062"/>
                    </a:lnTo>
                    <a:lnTo>
                      <a:pt x="254794" y="69056"/>
                    </a:lnTo>
                    <a:lnTo>
                      <a:pt x="259556" y="38100"/>
                    </a:lnTo>
                    <a:lnTo>
                      <a:pt x="504825" y="0"/>
                    </a:lnTo>
                    <a:lnTo>
                      <a:pt x="702469" y="76200"/>
                    </a:lnTo>
                    <a:lnTo>
                      <a:pt x="723900" y="159543"/>
                    </a:lnTo>
                    <a:lnTo>
                      <a:pt x="711994" y="295275"/>
                    </a:lnTo>
                    <a:lnTo>
                      <a:pt x="671513" y="419100"/>
                    </a:lnTo>
                    <a:lnTo>
                      <a:pt x="633413" y="504825"/>
                    </a:lnTo>
                    <a:lnTo>
                      <a:pt x="461963" y="588168"/>
                    </a:lnTo>
                    <a:lnTo>
                      <a:pt x="247650" y="619125"/>
                    </a:lnTo>
                    <a:lnTo>
                      <a:pt x="228600" y="726281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олилиния 36"/>
              <p:cNvSpPr/>
              <p:nvPr/>
            </p:nvSpPr>
            <p:spPr>
              <a:xfrm>
                <a:off x="1774800" y="4551120"/>
                <a:ext cx="533160" cy="574560"/>
              </a:xfrm>
              <a:custGeom>
                <a:avLst/>
                <a:gdLst/>
                <a:ahLst/>
                <a:rect l="l" t="t" r="r" b="b"/>
                <a:pathLst>
                  <a:path w="785812" h="845344">
                    <a:moveTo>
                      <a:pt x="95250" y="545306"/>
                    </a:moveTo>
                    <a:lnTo>
                      <a:pt x="0" y="488156"/>
                    </a:lnTo>
                    <a:lnTo>
                      <a:pt x="76200" y="431006"/>
                    </a:lnTo>
                    <a:lnTo>
                      <a:pt x="97631" y="383381"/>
                    </a:lnTo>
                    <a:lnTo>
                      <a:pt x="59531" y="138113"/>
                    </a:lnTo>
                    <a:lnTo>
                      <a:pt x="145256" y="19050"/>
                    </a:lnTo>
                    <a:lnTo>
                      <a:pt x="185737" y="0"/>
                    </a:lnTo>
                    <a:lnTo>
                      <a:pt x="311944" y="50006"/>
                    </a:lnTo>
                    <a:lnTo>
                      <a:pt x="311944" y="166688"/>
                    </a:lnTo>
                    <a:lnTo>
                      <a:pt x="316706" y="183356"/>
                    </a:lnTo>
                    <a:lnTo>
                      <a:pt x="464344" y="178594"/>
                    </a:lnTo>
                    <a:lnTo>
                      <a:pt x="600075" y="202406"/>
                    </a:lnTo>
                    <a:lnTo>
                      <a:pt x="707231" y="238125"/>
                    </a:lnTo>
                    <a:lnTo>
                      <a:pt x="595312" y="304800"/>
                    </a:lnTo>
                    <a:lnTo>
                      <a:pt x="611981" y="426244"/>
                    </a:lnTo>
                    <a:lnTo>
                      <a:pt x="731044" y="652463"/>
                    </a:lnTo>
                    <a:lnTo>
                      <a:pt x="785812" y="845344"/>
                    </a:lnTo>
                    <a:lnTo>
                      <a:pt x="711994" y="804863"/>
                    </a:lnTo>
                    <a:lnTo>
                      <a:pt x="588169" y="845344"/>
                    </a:lnTo>
                    <a:lnTo>
                      <a:pt x="561975" y="709613"/>
                    </a:lnTo>
                    <a:lnTo>
                      <a:pt x="485775" y="700088"/>
                    </a:lnTo>
                    <a:lnTo>
                      <a:pt x="419100" y="621506"/>
                    </a:lnTo>
                    <a:lnTo>
                      <a:pt x="292894" y="552450"/>
                    </a:lnTo>
                    <a:lnTo>
                      <a:pt x="183356" y="497681"/>
                    </a:lnTo>
                    <a:lnTo>
                      <a:pt x="95250" y="545306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Полилиния 37"/>
              <p:cNvSpPr/>
              <p:nvPr/>
            </p:nvSpPr>
            <p:spPr>
              <a:xfrm>
                <a:off x="2179800" y="4572000"/>
                <a:ext cx="525240" cy="633240"/>
              </a:xfrm>
              <a:custGeom>
                <a:avLst/>
                <a:gdLst/>
                <a:ahLst/>
                <a:rect l="l" t="t" r="r" b="b"/>
                <a:pathLst>
                  <a:path w="773907" h="931069">
                    <a:moveTo>
                      <a:pt x="388144" y="931069"/>
                    </a:moveTo>
                    <a:lnTo>
                      <a:pt x="180975" y="816769"/>
                    </a:lnTo>
                    <a:lnTo>
                      <a:pt x="138113" y="607219"/>
                    </a:lnTo>
                    <a:lnTo>
                      <a:pt x="19050" y="397669"/>
                    </a:lnTo>
                    <a:lnTo>
                      <a:pt x="0" y="266700"/>
                    </a:lnTo>
                    <a:lnTo>
                      <a:pt x="109538" y="209550"/>
                    </a:lnTo>
                    <a:lnTo>
                      <a:pt x="114300" y="119063"/>
                    </a:lnTo>
                    <a:lnTo>
                      <a:pt x="202407" y="0"/>
                    </a:lnTo>
                    <a:lnTo>
                      <a:pt x="302419" y="40482"/>
                    </a:lnTo>
                    <a:lnTo>
                      <a:pt x="345282" y="140494"/>
                    </a:lnTo>
                    <a:lnTo>
                      <a:pt x="352425" y="228600"/>
                    </a:lnTo>
                    <a:lnTo>
                      <a:pt x="373857" y="276225"/>
                    </a:lnTo>
                    <a:lnTo>
                      <a:pt x="440532" y="371475"/>
                    </a:lnTo>
                    <a:lnTo>
                      <a:pt x="578644" y="311944"/>
                    </a:lnTo>
                    <a:lnTo>
                      <a:pt x="690563" y="390525"/>
                    </a:lnTo>
                    <a:lnTo>
                      <a:pt x="711994" y="481013"/>
                    </a:lnTo>
                    <a:lnTo>
                      <a:pt x="673894" y="566738"/>
                    </a:lnTo>
                    <a:lnTo>
                      <a:pt x="773907" y="650082"/>
                    </a:lnTo>
                    <a:lnTo>
                      <a:pt x="769144" y="707232"/>
                    </a:lnTo>
                    <a:lnTo>
                      <a:pt x="578644" y="628650"/>
                    </a:lnTo>
                    <a:lnTo>
                      <a:pt x="445294" y="492919"/>
                    </a:lnTo>
                    <a:lnTo>
                      <a:pt x="392907" y="661988"/>
                    </a:lnTo>
                    <a:cubicBezTo>
                      <a:pt x="391319" y="752475"/>
                      <a:pt x="389732" y="842963"/>
                      <a:pt x="388144" y="931069"/>
                    </a:cubicBez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олилиния 38"/>
              <p:cNvSpPr/>
              <p:nvPr/>
            </p:nvSpPr>
            <p:spPr>
              <a:xfrm>
                <a:off x="2401920" y="4908600"/>
                <a:ext cx="485640" cy="761760"/>
              </a:xfrm>
              <a:custGeom>
                <a:avLst/>
                <a:gdLst/>
                <a:ahLst/>
                <a:rect l="l" t="t" r="r" b="b"/>
                <a:pathLst>
                  <a:path w="714375" h="1121569">
                    <a:moveTo>
                      <a:pt x="447675" y="209550"/>
                    </a:moveTo>
                    <a:lnTo>
                      <a:pt x="419100" y="361950"/>
                    </a:lnTo>
                    <a:lnTo>
                      <a:pt x="607218" y="731044"/>
                    </a:lnTo>
                    <a:lnTo>
                      <a:pt x="714375" y="831057"/>
                    </a:lnTo>
                    <a:lnTo>
                      <a:pt x="704850" y="938213"/>
                    </a:lnTo>
                    <a:lnTo>
                      <a:pt x="626268" y="1009650"/>
                    </a:lnTo>
                    <a:lnTo>
                      <a:pt x="611981" y="1121569"/>
                    </a:lnTo>
                    <a:lnTo>
                      <a:pt x="440531" y="1031082"/>
                    </a:lnTo>
                    <a:lnTo>
                      <a:pt x="197643" y="1007269"/>
                    </a:lnTo>
                    <a:lnTo>
                      <a:pt x="221456" y="940594"/>
                    </a:lnTo>
                    <a:lnTo>
                      <a:pt x="0" y="878682"/>
                    </a:lnTo>
                    <a:lnTo>
                      <a:pt x="50006" y="740569"/>
                    </a:lnTo>
                    <a:lnTo>
                      <a:pt x="64293" y="428625"/>
                    </a:lnTo>
                    <a:lnTo>
                      <a:pt x="76200" y="147638"/>
                    </a:lnTo>
                    <a:lnTo>
                      <a:pt x="121443" y="0"/>
                    </a:lnTo>
                    <a:lnTo>
                      <a:pt x="252412" y="128588"/>
                    </a:lnTo>
                    <a:lnTo>
                      <a:pt x="447675" y="209550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олилиния 39"/>
              <p:cNvSpPr/>
              <p:nvPr/>
            </p:nvSpPr>
            <p:spPr>
              <a:xfrm>
                <a:off x="1881360" y="5097240"/>
                <a:ext cx="561960" cy="466560"/>
              </a:xfrm>
              <a:custGeom>
                <a:avLst/>
                <a:gdLst/>
                <a:ahLst/>
                <a:rect l="l" t="t" r="r" b="b"/>
                <a:pathLst>
                  <a:path w="826294" h="688182">
                    <a:moveTo>
                      <a:pt x="83342" y="316721"/>
                    </a:moveTo>
                    <a:lnTo>
                      <a:pt x="0" y="107157"/>
                    </a:lnTo>
                    <a:lnTo>
                      <a:pt x="259557" y="123825"/>
                    </a:lnTo>
                    <a:lnTo>
                      <a:pt x="428625" y="40482"/>
                    </a:lnTo>
                    <a:lnTo>
                      <a:pt x="559594" y="0"/>
                    </a:lnTo>
                    <a:lnTo>
                      <a:pt x="826294" y="154782"/>
                    </a:lnTo>
                    <a:lnTo>
                      <a:pt x="812007" y="466725"/>
                    </a:lnTo>
                    <a:lnTo>
                      <a:pt x="731044" y="678657"/>
                    </a:lnTo>
                    <a:lnTo>
                      <a:pt x="428625" y="688182"/>
                    </a:lnTo>
                    <a:lnTo>
                      <a:pt x="411957" y="592932"/>
                    </a:lnTo>
                    <a:lnTo>
                      <a:pt x="304800" y="569119"/>
                    </a:lnTo>
                    <a:lnTo>
                      <a:pt x="188119" y="523875"/>
                    </a:lnTo>
                    <a:lnTo>
                      <a:pt x="83342" y="316721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Полилиния 40"/>
              <p:cNvSpPr/>
              <p:nvPr/>
            </p:nvSpPr>
            <p:spPr>
              <a:xfrm>
                <a:off x="2174760" y="5502240"/>
                <a:ext cx="569880" cy="471240"/>
              </a:xfrm>
              <a:custGeom>
                <a:avLst/>
                <a:gdLst/>
                <a:ahLst/>
                <a:rect l="l" t="t" r="r" b="b"/>
                <a:pathLst>
                  <a:path w="838200" h="692944">
                    <a:moveTo>
                      <a:pt x="0" y="90488"/>
                    </a:moveTo>
                    <a:lnTo>
                      <a:pt x="11906" y="280988"/>
                    </a:lnTo>
                    <a:lnTo>
                      <a:pt x="230981" y="285750"/>
                    </a:lnTo>
                    <a:lnTo>
                      <a:pt x="280987" y="447675"/>
                    </a:lnTo>
                    <a:lnTo>
                      <a:pt x="314325" y="573881"/>
                    </a:lnTo>
                    <a:lnTo>
                      <a:pt x="369093" y="666750"/>
                    </a:lnTo>
                    <a:lnTo>
                      <a:pt x="466725" y="692944"/>
                    </a:lnTo>
                    <a:lnTo>
                      <a:pt x="573881" y="678656"/>
                    </a:lnTo>
                    <a:lnTo>
                      <a:pt x="719137" y="631031"/>
                    </a:lnTo>
                    <a:lnTo>
                      <a:pt x="816768" y="511969"/>
                    </a:lnTo>
                    <a:lnTo>
                      <a:pt x="819150" y="350044"/>
                    </a:lnTo>
                    <a:lnTo>
                      <a:pt x="838200" y="195263"/>
                    </a:lnTo>
                    <a:lnTo>
                      <a:pt x="769143" y="154781"/>
                    </a:lnTo>
                    <a:lnTo>
                      <a:pt x="528637" y="128588"/>
                    </a:lnTo>
                    <a:lnTo>
                      <a:pt x="552450" y="59531"/>
                    </a:lnTo>
                    <a:lnTo>
                      <a:pt x="328612" y="0"/>
                    </a:lnTo>
                    <a:lnTo>
                      <a:pt x="302418" y="80963"/>
                    </a:lnTo>
                    <a:lnTo>
                      <a:pt x="0" y="90488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Полилиния 41"/>
              <p:cNvSpPr/>
              <p:nvPr/>
            </p:nvSpPr>
            <p:spPr>
              <a:xfrm>
                <a:off x="2551320" y="5859360"/>
                <a:ext cx="293400" cy="306360"/>
              </a:xfrm>
              <a:custGeom>
                <a:avLst/>
                <a:gdLst/>
                <a:ahLst/>
                <a:rect l="l" t="t" r="r" b="b"/>
                <a:pathLst>
                  <a:path w="431006" h="452438">
                    <a:moveTo>
                      <a:pt x="0" y="154781"/>
                    </a:moveTo>
                    <a:lnTo>
                      <a:pt x="64294" y="254794"/>
                    </a:lnTo>
                    <a:lnTo>
                      <a:pt x="73819" y="330994"/>
                    </a:lnTo>
                    <a:lnTo>
                      <a:pt x="57150" y="397669"/>
                    </a:lnTo>
                    <a:lnTo>
                      <a:pt x="285750" y="438150"/>
                    </a:lnTo>
                    <a:lnTo>
                      <a:pt x="357187" y="452438"/>
                    </a:lnTo>
                    <a:lnTo>
                      <a:pt x="409575" y="359569"/>
                    </a:lnTo>
                    <a:lnTo>
                      <a:pt x="431006" y="190500"/>
                    </a:lnTo>
                    <a:lnTo>
                      <a:pt x="347662" y="164306"/>
                    </a:lnTo>
                    <a:lnTo>
                      <a:pt x="330994" y="0"/>
                    </a:lnTo>
                    <a:lnTo>
                      <a:pt x="250031" y="4763"/>
                    </a:lnTo>
                    <a:lnTo>
                      <a:pt x="169069" y="107156"/>
                    </a:lnTo>
                    <a:lnTo>
                      <a:pt x="0" y="154781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олилиния 42"/>
              <p:cNvSpPr/>
              <p:nvPr/>
            </p:nvSpPr>
            <p:spPr>
              <a:xfrm>
                <a:off x="1698480" y="4881600"/>
                <a:ext cx="474480" cy="447480"/>
              </a:xfrm>
              <a:custGeom>
                <a:avLst/>
                <a:gdLst/>
                <a:ahLst/>
                <a:rect l="l" t="t" r="r" b="b"/>
                <a:pathLst>
                  <a:path w="697706" h="659606">
                    <a:moveTo>
                      <a:pt x="152400" y="659606"/>
                    </a:moveTo>
                    <a:lnTo>
                      <a:pt x="0" y="559594"/>
                    </a:lnTo>
                    <a:lnTo>
                      <a:pt x="40481" y="252413"/>
                    </a:lnTo>
                    <a:lnTo>
                      <a:pt x="85725" y="180975"/>
                    </a:lnTo>
                    <a:lnTo>
                      <a:pt x="90488" y="121444"/>
                    </a:lnTo>
                    <a:lnTo>
                      <a:pt x="66675" y="9525"/>
                    </a:lnTo>
                    <a:lnTo>
                      <a:pt x="119063" y="0"/>
                    </a:lnTo>
                    <a:lnTo>
                      <a:pt x="204788" y="57150"/>
                    </a:lnTo>
                    <a:lnTo>
                      <a:pt x="297656" y="11906"/>
                    </a:lnTo>
                    <a:lnTo>
                      <a:pt x="523875" y="130969"/>
                    </a:lnTo>
                    <a:lnTo>
                      <a:pt x="595313" y="214313"/>
                    </a:lnTo>
                    <a:lnTo>
                      <a:pt x="678656" y="226219"/>
                    </a:lnTo>
                    <a:lnTo>
                      <a:pt x="697706" y="357188"/>
                    </a:lnTo>
                    <a:lnTo>
                      <a:pt x="526256" y="440531"/>
                    </a:lnTo>
                    <a:lnTo>
                      <a:pt x="273844" y="423863"/>
                    </a:lnTo>
                    <a:lnTo>
                      <a:pt x="352425" y="628650"/>
                    </a:lnTo>
                    <a:lnTo>
                      <a:pt x="235744" y="626269"/>
                    </a:lnTo>
                    <a:lnTo>
                      <a:pt x="152400" y="659606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Полилиния 43"/>
              <p:cNvSpPr/>
              <p:nvPr/>
            </p:nvSpPr>
            <p:spPr>
              <a:xfrm>
                <a:off x="1427040" y="4589280"/>
                <a:ext cx="417240" cy="701640"/>
              </a:xfrm>
              <a:custGeom>
                <a:avLst/>
                <a:gdLst/>
                <a:ahLst/>
                <a:rect l="l" t="t" r="r" b="b"/>
                <a:pathLst>
                  <a:path w="614363" h="1033462">
                    <a:moveTo>
                      <a:pt x="40481" y="71437"/>
                    </a:moveTo>
                    <a:lnTo>
                      <a:pt x="135731" y="109537"/>
                    </a:lnTo>
                    <a:lnTo>
                      <a:pt x="126206" y="4762"/>
                    </a:lnTo>
                    <a:lnTo>
                      <a:pt x="276225" y="0"/>
                    </a:lnTo>
                    <a:lnTo>
                      <a:pt x="500063" y="83344"/>
                    </a:lnTo>
                    <a:lnTo>
                      <a:pt x="573881" y="76200"/>
                    </a:lnTo>
                    <a:lnTo>
                      <a:pt x="614363" y="319087"/>
                    </a:lnTo>
                    <a:lnTo>
                      <a:pt x="592931" y="373856"/>
                    </a:lnTo>
                    <a:lnTo>
                      <a:pt x="519113" y="426244"/>
                    </a:lnTo>
                    <a:lnTo>
                      <a:pt x="469106" y="433387"/>
                    </a:lnTo>
                    <a:lnTo>
                      <a:pt x="490538" y="571500"/>
                    </a:lnTo>
                    <a:lnTo>
                      <a:pt x="490538" y="611981"/>
                    </a:lnTo>
                    <a:lnTo>
                      <a:pt x="438150" y="681037"/>
                    </a:lnTo>
                    <a:lnTo>
                      <a:pt x="369094" y="728662"/>
                    </a:lnTo>
                    <a:lnTo>
                      <a:pt x="321469" y="759619"/>
                    </a:lnTo>
                    <a:lnTo>
                      <a:pt x="292894" y="838200"/>
                    </a:lnTo>
                    <a:lnTo>
                      <a:pt x="300038" y="950119"/>
                    </a:lnTo>
                    <a:lnTo>
                      <a:pt x="269081" y="1028700"/>
                    </a:lnTo>
                    <a:lnTo>
                      <a:pt x="202406" y="1033462"/>
                    </a:lnTo>
                    <a:lnTo>
                      <a:pt x="176213" y="907256"/>
                    </a:lnTo>
                    <a:lnTo>
                      <a:pt x="135731" y="897731"/>
                    </a:lnTo>
                    <a:lnTo>
                      <a:pt x="159544" y="650081"/>
                    </a:lnTo>
                    <a:lnTo>
                      <a:pt x="142875" y="407194"/>
                    </a:lnTo>
                    <a:lnTo>
                      <a:pt x="66675" y="316706"/>
                    </a:lnTo>
                    <a:lnTo>
                      <a:pt x="90488" y="197644"/>
                    </a:lnTo>
                    <a:lnTo>
                      <a:pt x="0" y="138112"/>
                    </a:lnTo>
                    <a:lnTo>
                      <a:pt x="40481" y="71437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олилиния 44"/>
              <p:cNvSpPr/>
              <p:nvPr/>
            </p:nvSpPr>
            <p:spPr>
              <a:xfrm>
                <a:off x="1236600" y="4779720"/>
                <a:ext cx="304560" cy="428400"/>
              </a:xfrm>
              <a:custGeom>
                <a:avLst/>
                <a:gdLst/>
                <a:ahLst/>
                <a:rect l="l" t="t" r="r" b="b"/>
                <a:pathLst>
                  <a:path w="447675" h="631032">
                    <a:moveTo>
                      <a:pt x="280987" y="631032"/>
                    </a:moveTo>
                    <a:lnTo>
                      <a:pt x="171450" y="514350"/>
                    </a:lnTo>
                    <a:lnTo>
                      <a:pt x="35718" y="404813"/>
                    </a:lnTo>
                    <a:lnTo>
                      <a:pt x="0" y="228600"/>
                    </a:lnTo>
                    <a:lnTo>
                      <a:pt x="133350" y="0"/>
                    </a:lnTo>
                    <a:lnTo>
                      <a:pt x="259556" y="9525"/>
                    </a:lnTo>
                    <a:lnTo>
                      <a:pt x="347662" y="66675"/>
                    </a:lnTo>
                    <a:lnTo>
                      <a:pt x="340518" y="30957"/>
                    </a:lnTo>
                    <a:lnTo>
                      <a:pt x="423862" y="119063"/>
                    </a:lnTo>
                    <a:lnTo>
                      <a:pt x="447675" y="359569"/>
                    </a:lnTo>
                    <a:lnTo>
                      <a:pt x="419100" y="602457"/>
                    </a:lnTo>
                    <a:lnTo>
                      <a:pt x="419100" y="602457"/>
                    </a:lnTo>
                    <a:lnTo>
                      <a:pt x="335756" y="607219"/>
                    </a:lnTo>
                    <a:lnTo>
                      <a:pt x="280987" y="631032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олилиния 45"/>
              <p:cNvSpPr/>
              <p:nvPr/>
            </p:nvSpPr>
            <p:spPr>
              <a:xfrm>
                <a:off x="865080" y="4937040"/>
                <a:ext cx="558720" cy="446040"/>
              </a:xfrm>
              <a:custGeom>
                <a:avLst/>
                <a:gdLst/>
                <a:ahLst/>
                <a:rect l="l" t="t" r="r" b="b"/>
                <a:pathLst>
                  <a:path w="822321" h="654844">
                    <a:moveTo>
                      <a:pt x="196052" y="595312"/>
                    </a:moveTo>
                    <a:lnTo>
                      <a:pt x="141283" y="495300"/>
                    </a:lnTo>
                    <a:lnTo>
                      <a:pt x="7920" y="407207"/>
                    </a:lnTo>
                    <a:lnTo>
                      <a:pt x="7920" y="407207"/>
                    </a:lnTo>
                    <a:cubicBezTo>
                      <a:pt x="0" y="371471"/>
                      <a:pt x="6341" y="321473"/>
                      <a:pt x="5552" y="278606"/>
                    </a:cubicBezTo>
                    <a:lnTo>
                      <a:pt x="43652" y="66675"/>
                    </a:lnTo>
                    <a:lnTo>
                      <a:pt x="322258" y="11906"/>
                    </a:lnTo>
                    <a:lnTo>
                      <a:pt x="543714" y="0"/>
                    </a:lnTo>
                    <a:lnTo>
                      <a:pt x="581814" y="171450"/>
                    </a:lnTo>
                    <a:lnTo>
                      <a:pt x="722308" y="278606"/>
                    </a:lnTo>
                    <a:lnTo>
                      <a:pt x="822321" y="400050"/>
                    </a:lnTo>
                    <a:lnTo>
                      <a:pt x="774696" y="419100"/>
                    </a:lnTo>
                    <a:lnTo>
                      <a:pt x="648489" y="402431"/>
                    </a:lnTo>
                    <a:lnTo>
                      <a:pt x="593721" y="416719"/>
                    </a:lnTo>
                    <a:lnTo>
                      <a:pt x="546096" y="557212"/>
                    </a:lnTo>
                    <a:lnTo>
                      <a:pt x="500852" y="633412"/>
                    </a:lnTo>
                    <a:lnTo>
                      <a:pt x="374646" y="654844"/>
                    </a:lnTo>
                    <a:lnTo>
                      <a:pt x="238914" y="542925"/>
                    </a:lnTo>
                    <a:lnTo>
                      <a:pt x="196052" y="595312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Полилиния 46"/>
              <p:cNvSpPr/>
              <p:nvPr/>
            </p:nvSpPr>
            <p:spPr>
              <a:xfrm>
                <a:off x="507960" y="5156280"/>
                <a:ext cx="493560" cy="395280"/>
              </a:xfrm>
              <a:custGeom>
                <a:avLst/>
                <a:gdLst/>
                <a:ahLst/>
                <a:rect l="l" t="t" r="r" b="b"/>
                <a:pathLst>
                  <a:path w="726281" h="583407">
                    <a:moveTo>
                      <a:pt x="66675" y="0"/>
                    </a:moveTo>
                    <a:lnTo>
                      <a:pt x="109538" y="2382"/>
                    </a:lnTo>
                    <a:lnTo>
                      <a:pt x="321469" y="121444"/>
                    </a:lnTo>
                    <a:lnTo>
                      <a:pt x="402431" y="33338"/>
                    </a:lnTo>
                    <a:lnTo>
                      <a:pt x="526256" y="16669"/>
                    </a:lnTo>
                    <a:lnTo>
                      <a:pt x="535781" y="102394"/>
                    </a:lnTo>
                    <a:lnTo>
                      <a:pt x="673894" y="176213"/>
                    </a:lnTo>
                    <a:lnTo>
                      <a:pt x="726281" y="271463"/>
                    </a:lnTo>
                    <a:lnTo>
                      <a:pt x="631031" y="416719"/>
                    </a:lnTo>
                    <a:lnTo>
                      <a:pt x="421481" y="540544"/>
                    </a:lnTo>
                    <a:lnTo>
                      <a:pt x="288131" y="583407"/>
                    </a:lnTo>
                    <a:lnTo>
                      <a:pt x="257175" y="452438"/>
                    </a:lnTo>
                    <a:lnTo>
                      <a:pt x="197644" y="373857"/>
                    </a:lnTo>
                    <a:lnTo>
                      <a:pt x="59531" y="395288"/>
                    </a:lnTo>
                    <a:lnTo>
                      <a:pt x="0" y="350044"/>
                    </a:lnTo>
                    <a:lnTo>
                      <a:pt x="19050" y="173832"/>
                    </a:lnTo>
                    <a:lnTo>
                      <a:pt x="66675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Полилиния 48"/>
              <p:cNvSpPr/>
              <p:nvPr/>
            </p:nvSpPr>
            <p:spPr>
              <a:xfrm>
                <a:off x="495360" y="4825800"/>
                <a:ext cx="403200" cy="409320"/>
              </a:xfrm>
              <a:custGeom>
                <a:avLst/>
                <a:gdLst/>
                <a:ahLst/>
                <a:rect l="l" t="t" r="r" b="b"/>
                <a:pathLst>
                  <a:path w="592931" h="604838">
                    <a:moveTo>
                      <a:pt x="459581" y="0"/>
                    </a:moveTo>
                    <a:lnTo>
                      <a:pt x="469106" y="71438"/>
                    </a:lnTo>
                    <a:lnTo>
                      <a:pt x="526256" y="71438"/>
                    </a:lnTo>
                    <a:lnTo>
                      <a:pt x="592931" y="233363"/>
                    </a:lnTo>
                    <a:lnTo>
                      <a:pt x="557213" y="409575"/>
                    </a:lnTo>
                    <a:lnTo>
                      <a:pt x="547688" y="497682"/>
                    </a:lnTo>
                    <a:lnTo>
                      <a:pt x="419100" y="516732"/>
                    </a:lnTo>
                    <a:lnTo>
                      <a:pt x="347663" y="604838"/>
                    </a:lnTo>
                    <a:lnTo>
                      <a:pt x="116681" y="485775"/>
                    </a:lnTo>
                    <a:lnTo>
                      <a:pt x="83344" y="490538"/>
                    </a:lnTo>
                    <a:lnTo>
                      <a:pt x="0" y="333375"/>
                    </a:lnTo>
                    <a:lnTo>
                      <a:pt x="47625" y="207169"/>
                    </a:lnTo>
                    <a:lnTo>
                      <a:pt x="76200" y="69057"/>
                    </a:lnTo>
                    <a:lnTo>
                      <a:pt x="123825" y="83344"/>
                    </a:lnTo>
                    <a:lnTo>
                      <a:pt x="240506" y="142875"/>
                    </a:lnTo>
                    <a:lnTo>
                      <a:pt x="328613" y="57150"/>
                    </a:lnTo>
                    <a:lnTo>
                      <a:pt x="459581" y="0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олилиния 49"/>
              <p:cNvSpPr/>
              <p:nvPr/>
            </p:nvSpPr>
            <p:spPr>
              <a:xfrm>
                <a:off x="853920" y="4555800"/>
                <a:ext cx="469800" cy="426960"/>
              </a:xfrm>
              <a:custGeom>
                <a:avLst/>
                <a:gdLst/>
                <a:ahLst/>
                <a:rect l="l" t="t" r="r" b="b"/>
                <a:pathLst>
                  <a:path w="690562" h="628650">
                    <a:moveTo>
                      <a:pt x="238125" y="0"/>
                    </a:moveTo>
                    <a:lnTo>
                      <a:pt x="238125" y="0"/>
                    </a:lnTo>
                    <a:lnTo>
                      <a:pt x="381000" y="76200"/>
                    </a:lnTo>
                    <a:lnTo>
                      <a:pt x="438150" y="245269"/>
                    </a:lnTo>
                    <a:lnTo>
                      <a:pt x="640556" y="333375"/>
                    </a:lnTo>
                    <a:lnTo>
                      <a:pt x="690562" y="335756"/>
                    </a:lnTo>
                    <a:lnTo>
                      <a:pt x="559593" y="559594"/>
                    </a:lnTo>
                    <a:lnTo>
                      <a:pt x="345281" y="569119"/>
                    </a:lnTo>
                    <a:lnTo>
                      <a:pt x="59531" y="628650"/>
                    </a:lnTo>
                    <a:lnTo>
                      <a:pt x="0" y="464344"/>
                    </a:lnTo>
                    <a:lnTo>
                      <a:pt x="69056" y="464344"/>
                    </a:lnTo>
                    <a:lnTo>
                      <a:pt x="85725" y="283369"/>
                    </a:lnTo>
                    <a:lnTo>
                      <a:pt x="171450" y="38100"/>
                    </a:lnTo>
                    <a:lnTo>
                      <a:pt x="238125" y="0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олилиния 50"/>
              <p:cNvSpPr/>
              <p:nvPr/>
            </p:nvSpPr>
            <p:spPr>
              <a:xfrm>
                <a:off x="1109520" y="4413240"/>
                <a:ext cx="411120" cy="406440"/>
              </a:xfrm>
              <a:custGeom>
                <a:avLst/>
                <a:gdLst/>
                <a:ahLst/>
                <a:rect l="l" t="t" r="r" b="b"/>
                <a:pathLst>
                  <a:path w="604838" h="600075">
                    <a:moveTo>
                      <a:pt x="0" y="292893"/>
                    </a:moveTo>
                    <a:lnTo>
                      <a:pt x="100013" y="190500"/>
                    </a:lnTo>
                    <a:lnTo>
                      <a:pt x="345281" y="102393"/>
                    </a:lnTo>
                    <a:lnTo>
                      <a:pt x="440531" y="0"/>
                    </a:lnTo>
                    <a:lnTo>
                      <a:pt x="471488" y="164306"/>
                    </a:lnTo>
                    <a:lnTo>
                      <a:pt x="583406" y="219075"/>
                    </a:lnTo>
                    <a:lnTo>
                      <a:pt x="604838" y="364331"/>
                    </a:lnTo>
                    <a:lnTo>
                      <a:pt x="504825" y="333375"/>
                    </a:lnTo>
                    <a:lnTo>
                      <a:pt x="469106" y="395287"/>
                    </a:lnTo>
                    <a:lnTo>
                      <a:pt x="554831" y="447675"/>
                    </a:lnTo>
                    <a:lnTo>
                      <a:pt x="538163" y="600075"/>
                    </a:lnTo>
                    <a:lnTo>
                      <a:pt x="442913" y="545306"/>
                    </a:lnTo>
                    <a:lnTo>
                      <a:pt x="323850" y="540543"/>
                    </a:lnTo>
                    <a:lnTo>
                      <a:pt x="271463" y="542925"/>
                    </a:lnTo>
                    <a:lnTo>
                      <a:pt x="61913" y="452437"/>
                    </a:lnTo>
                    <a:lnTo>
                      <a:pt x="0" y="292893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олилиния 51"/>
              <p:cNvSpPr/>
              <p:nvPr/>
            </p:nvSpPr>
            <p:spPr>
              <a:xfrm>
                <a:off x="871560" y="3711240"/>
                <a:ext cx="618840" cy="895320"/>
              </a:xfrm>
              <a:custGeom>
                <a:avLst/>
                <a:gdLst/>
                <a:ahLst/>
                <a:rect l="l" t="t" r="r" b="b"/>
                <a:pathLst>
                  <a:path w="912019" h="1319213">
                    <a:moveTo>
                      <a:pt x="0" y="1073944"/>
                    </a:moveTo>
                    <a:lnTo>
                      <a:pt x="26194" y="954881"/>
                    </a:lnTo>
                    <a:lnTo>
                      <a:pt x="147638" y="900113"/>
                    </a:lnTo>
                    <a:lnTo>
                      <a:pt x="233363" y="809625"/>
                    </a:lnTo>
                    <a:lnTo>
                      <a:pt x="371475" y="750094"/>
                    </a:lnTo>
                    <a:lnTo>
                      <a:pt x="395288" y="590550"/>
                    </a:lnTo>
                    <a:lnTo>
                      <a:pt x="392906" y="416719"/>
                    </a:lnTo>
                    <a:lnTo>
                      <a:pt x="292894" y="195263"/>
                    </a:lnTo>
                    <a:lnTo>
                      <a:pt x="357188" y="126206"/>
                    </a:lnTo>
                    <a:lnTo>
                      <a:pt x="397669" y="126206"/>
                    </a:lnTo>
                    <a:lnTo>
                      <a:pt x="521494" y="135731"/>
                    </a:lnTo>
                    <a:lnTo>
                      <a:pt x="604838" y="152400"/>
                    </a:lnTo>
                    <a:lnTo>
                      <a:pt x="609600" y="0"/>
                    </a:lnTo>
                    <a:lnTo>
                      <a:pt x="690563" y="38100"/>
                    </a:lnTo>
                    <a:lnTo>
                      <a:pt x="690563" y="38100"/>
                    </a:lnTo>
                    <a:lnTo>
                      <a:pt x="690563" y="73819"/>
                    </a:lnTo>
                    <a:lnTo>
                      <a:pt x="709613" y="197644"/>
                    </a:lnTo>
                    <a:lnTo>
                      <a:pt x="788194" y="333375"/>
                    </a:lnTo>
                    <a:lnTo>
                      <a:pt x="912019" y="431006"/>
                    </a:lnTo>
                    <a:lnTo>
                      <a:pt x="826294" y="647700"/>
                    </a:lnTo>
                    <a:lnTo>
                      <a:pt x="683419" y="742950"/>
                    </a:lnTo>
                    <a:lnTo>
                      <a:pt x="823913" y="892969"/>
                    </a:lnTo>
                    <a:lnTo>
                      <a:pt x="842963" y="923925"/>
                    </a:lnTo>
                    <a:lnTo>
                      <a:pt x="835819" y="957263"/>
                    </a:lnTo>
                    <a:lnTo>
                      <a:pt x="795338" y="1023938"/>
                    </a:lnTo>
                    <a:lnTo>
                      <a:pt x="685800" y="1138238"/>
                    </a:lnTo>
                    <a:lnTo>
                      <a:pt x="461963" y="1214438"/>
                    </a:lnTo>
                    <a:lnTo>
                      <a:pt x="357188" y="1319213"/>
                    </a:lnTo>
                    <a:lnTo>
                      <a:pt x="216694" y="1238250"/>
                    </a:lnTo>
                    <a:lnTo>
                      <a:pt x="223838" y="1190625"/>
                    </a:lnTo>
                    <a:lnTo>
                      <a:pt x="123825" y="1154906"/>
                    </a:lnTo>
                    <a:lnTo>
                      <a:pt x="0" y="1073944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олилиния 52"/>
              <p:cNvSpPr/>
              <p:nvPr/>
            </p:nvSpPr>
            <p:spPr>
              <a:xfrm>
                <a:off x="770040" y="3747960"/>
                <a:ext cx="369720" cy="690480"/>
              </a:xfrm>
              <a:custGeom>
                <a:avLst/>
                <a:gdLst/>
                <a:ahLst/>
                <a:rect l="l" t="t" r="r" b="b"/>
                <a:pathLst>
                  <a:path w="542925" h="1016794">
                    <a:moveTo>
                      <a:pt x="21431" y="990600"/>
                    </a:moveTo>
                    <a:lnTo>
                      <a:pt x="57150" y="871537"/>
                    </a:lnTo>
                    <a:lnTo>
                      <a:pt x="0" y="797719"/>
                    </a:lnTo>
                    <a:lnTo>
                      <a:pt x="85725" y="747712"/>
                    </a:lnTo>
                    <a:lnTo>
                      <a:pt x="69056" y="633412"/>
                    </a:lnTo>
                    <a:lnTo>
                      <a:pt x="135731" y="595312"/>
                    </a:lnTo>
                    <a:lnTo>
                      <a:pt x="207168" y="478631"/>
                    </a:lnTo>
                    <a:lnTo>
                      <a:pt x="192881" y="302419"/>
                    </a:lnTo>
                    <a:lnTo>
                      <a:pt x="211931" y="195262"/>
                    </a:lnTo>
                    <a:lnTo>
                      <a:pt x="352425" y="0"/>
                    </a:lnTo>
                    <a:lnTo>
                      <a:pt x="407193" y="97631"/>
                    </a:lnTo>
                    <a:lnTo>
                      <a:pt x="500062" y="78581"/>
                    </a:lnTo>
                    <a:lnTo>
                      <a:pt x="445293" y="135731"/>
                    </a:lnTo>
                    <a:lnTo>
                      <a:pt x="540543" y="359569"/>
                    </a:lnTo>
                    <a:lnTo>
                      <a:pt x="542925" y="526256"/>
                    </a:lnTo>
                    <a:lnTo>
                      <a:pt x="516731" y="692944"/>
                    </a:lnTo>
                    <a:lnTo>
                      <a:pt x="378618" y="750094"/>
                    </a:lnTo>
                    <a:lnTo>
                      <a:pt x="295275" y="840581"/>
                    </a:lnTo>
                    <a:lnTo>
                      <a:pt x="173831" y="897731"/>
                    </a:lnTo>
                    <a:lnTo>
                      <a:pt x="142875" y="1016794"/>
                    </a:lnTo>
                    <a:lnTo>
                      <a:pt x="83343" y="997744"/>
                    </a:lnTo>
                    <a:lnTo>
                      <a:pt x="21431" y="99060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Полилиния 53"/>
              <p:cNvSpPr/>
              <p:nvPr/>
            </p:nvSpPr>
            <p:spPr>
              <a:xfrm>
                <a:off x="324000" y="3709800"/>
                <a:ext cx="687240" cy="706320"/>
              </a:xfrm>
              <a:custGeom>
                <a:avLst/>
                <a:gdLst/>
                <a:ahLst/>
                <a:rect l="l" t="t" r="r" b="b"/>
                <a:pathLst>
                  <a:path w="1012031" h="1042987">
                    <a:moveTo>
                      <a:pt x="0" y="928687"/>
                    </a:moveTo>
                    <a:lnTo>
                      <a:pt x="54768" y="814387"/>
                    </a:lnTo>
                    <a:lnTo>
                      <a:pt x="116681" y="545306"/>
                    </a:lnTo>
                    <a:lnTo>
                      <a:pt x="230981" y="538162"/>
                    </a:lnTo>
                    <a:lnTo>
                      <a:pt x="242887" y="369094"/>
                    </a:lnTo>
                    <a:lnTo>
                      <a:pt x="288131" y="245269"/>
                    </a:lnTo>
                    <a:lnTo>
                      <a:pt x="378618" y="259556"/>
                    </a:lnTo>
                    <a:lnTo>
                      <a:pt x="478631" y="240506"/>
                    </a:lnTo>
                    <a:lnTo>
                      <a:pt x="581025" y="121444"/>
                    </a:lnTo>
                    <a:lnTo>
                      <a:pt x="645318" y="30956"/>
                    </a:lnTo>
                    <a:lnTo>
                      <a:pt x="728662" y="42862"/>
                    </a:lnTo>
                    <a:lnTo>
                      <a:pt x="769143" y="42862"/>
                    </a:lnTo>
                    <a:lnTo>
                      <a:pt x="881062" y="95250"/>
                    </a:lnTo>
                    <a:lnTo>
                      <a:pt x="935831" y="0"/>
                    </a:lnTo>
                    <a:lnTo>
                      <a:pt x="1012031" y="66675"/>
                    </a:lnTo>
                    <a:lnTo>
                      <a:pt x="876300" y="245269"/>
                    </a:lnTo>
                    <a:lnTo>
                      <a:pt x="850106" y="352425"/>
                    </a:lnTo>
                    <a:lnTo>
                      <a:pt x="862012" y="533400"/>
                    </a:lnTo>
                    <a:lnTo>
                      <a:pt x="795337" y="645319"/>
                    </a:lnTo>
                    <a:lnTo>
                      <a:pt x="728662" y="690562"/>
                    </a:lnTo>
                    <a:lnTo>
                      <a:pt x="742950" y="795337"/>
                    </a:lnTo>
                    <a:lnTo>
                      <a:pt x="661987" y="857250"/>
                    </a:lnTo>
                    <a:lnTo>
                      <a:pt x="707231" y="926306"/>
                    </a:lnTo>
                    <a:lnTo>
                      <a:pt x="685800" y="1042987"/>
                    </a:lnTo>
                    <a:lnTo>
                      <a:pt x="502443" y="1023937"/>
                    </a:lnTo>
                    <a:lnTo>
                      <a:pt x="297656" y="971550"/>
                    </a:lnTo>
                    <a:lnTo>
                      <a:pt x="116681" y="1019175"/>
                    </a:lnTo>
                    <a:lnTo>
                      <a:pt x="0" y="928687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Полилиния 54"/>
              <p:cNvSpPr/>
              <p:nvPr/>
            </p:nvSpPr>
            <p:spPr>
              <a:xfrm>
                <a:off x="1441440" y="3236760"/>
                <a:ext cx="572760" cy="581040"/>
              </a:xfrm>
              <a:custGeom>
                <a:avLst/>
                <a:gdLst/>
                <a:ahLst/>
                <a:rect l="l" t="t" r="r" b="b"/>
                <a:pathLst>
                  <a:path w="842963" h="854869">
                    <a:moveTo>
                      <a:pt x="0" y="357187"/>
                    </a:moveTo>
                    <a:lnTo>
                      <a:pt x="35719" y="238125"/>
                    </a:lnTo>
                    <a:lnTo>
                      <a:pt x="95250" y="152400"/>
                    </a:lnTo>
                    <a:lnTo>
                      <a:pt x="461963" y="50006"/>
                    </a:lnTo>
                    <a:lnTo>
                      <a:pt x="657225" y="0"/>
                    </a:lnTo>
                    <a:lnTo>
                      <a:pt x="647700" y="128587"/>
                    </a:lnTo>
                    <a:lnTo>
                      <a:pt x="807244" y="142875"/>
                    </a:lnTo>
                    <a:lnTo>
                      <a:pt x="802482" y="264319"/>
                    </a:lnTo>
                    <a:lnTo>
                      <a:pt x="704850" y="366712"/>
                    </a:lnTo>
                    <a:lnTo>
                      <a:pt x="707232" y="421481"/>
                    </a:lnTo>
                    <a:lnTo>
                      <a:pt x="757238" y="481012"/>
                    </a:lnTo>
                    <a:lnTo>
                      <a:pt x="826294" y="526256"/>
                    </a:lnTo>
                    <a:lnTo>
                      <a:pt x="842963" y="557212"/>
                    </a:lnTo>
                    <a:lnTo>
                      <a:pt x="833438" y="642937"/>
                    </a:lnTo>
                    <a:lnTo>
                      <a:pt x="809625" y="700087"/>
                    </a:lnTo>
                    <a:lnTo>
                      <a:pt x="754857" y="790575"/>
                    </a:lnTo>
                    <a:lnTo>
                      <a:pt x="666750" y="854869"/>
                    </a:lnTo>
                    <a:lnTo>
                      <a:pt x="481013" y="838200"/>
                    </a:lnTo>
                    <a:lnTo>
                      <a:pt x="504825" y="750094"/>
                    </a:lnTo>
                    <a:lnTo>
                      <a:pt x="419100" y="633412"/>
                    </a:lnTo>
                    <a:lnTo>
                      <a:pt x="259557" y="531019"/>
                    </a:lnTo>
                    <a:lnTo>
                      <a:pt x="140494" y="621506"/>
                    </a:lnTo>
                    <a:lnTo>
                      <a:pt x="147638" y="526256"/>
                    </a:lnTo>
                    <a:lnTo>
                      <a:pt x="78582" y="457200"/>
                    </a:lnTo>
                    <a:lnTo>
                      <a:pt x="0" y="357187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Полилиния 55"/>
              <p:cNvSpPr/>
              <p:nvPr/>
            </p:nvSpPr>
            <p:spPr>
              <a:xfrm>
                <a:off x="1249200" y="2873160"/>
                <a:ext cx="642960" cy="738000"/>
              </a:xfrm>
              <a:custGeom>
                <a:avLst/>
                <a:gdLst/>
                <a:ahLst/>
                <a:rect l="l" t="t" r="r" b="b"/>
                <a:pathLst>
                  <a:path w="945356" h="1088231">
                    <a:moveTo>
                      <a:pt x="252412" y="1088231"/>
                    </a:moveTo>
                    <a:lnTo>
                      <a:pt x="102393" y="957262"/>
                    </a:lnTo>
                    <a:lnTo>
                      <a:pt x="23812" y="850106"/>
                    </a:lnTo>
                    <a:lnTo>
                      <a:pt x="0" y="626268"/>
                    </a:lnTo>
                    <a:lnTo>
                      <a:pt x="52387" y="426243"/>
                    </a:lnTo>
                    <a:lnTo>
                      <a:pt x="252412" y="152400"/>
                    </a:lnTo>
                    <a:lnTo>
                      <a:pt x="283368" y="0"/>
                    </a:lnTo>
                    <a:lnTo>
                      <a:pt x="640556" y="50006"/>
                    </a:lnTo>
                    <a:lnTo>
                      <a:pt x="585787" y="285750"/>
                    </a:lnTo>
                    <a:lnTo>
                      <a:pt x="814387" y="314325"/>
                    </a:lnTo>
                    <a:lnTo>
                      <a:pt x="783431" y="397668"/>
                    </a:lnTo>
                    <a:lnTo>
                      <a:pt x="945356" y="385762"/>
                    </a:lnTo>
                    <a:lnTo>
                      <a:pt x="940593" y="533400"/>
                    </a:lnTo>
                    <a:lnTo>
                      <a:pt x="711993" y="595312"/>
                    </a:lnTo>
                    <a:lnTo>
                      <a:pt x="381000" y="681037"/>
                    </a:lnTo>
                    <a:lnTo>
                      <a:pt x="314325" y="778668"/>
                    </a:lnTo>
                    <a:lnTo>
                      <a:pt x="273843" y="940593"/>
                    </a:lnTo>
                    <a:lnTo>
                      <a:pt x="247650" y="997743"/>
                    </a:lnTo>
                    <a:lnTo>
                      <a:pt x="252412" y="1088231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Полилиния 56"/>
              <p:cNvSpPr/>
              <p:nvPr/>
            </p:nvSpPr>
            <p:spPr>
              <a:xfrm>
                <a:off x="768240" y="3123720"/>
                <a:ext cx="652320" cy="690480"/>
              </a:xfrm>
              <a:custGeom>
                <a:avLst/>
                <a:gdLst/>
                <a:ahLst/>
                <a:rect l="l" t="t" r="r" b="b"/>
                <a:pathLst>
                  <a:path w="962025" h="1016794">
                    <a:moveTo>
                      <a:pt x="0" y="69057"/>
                    </a:moveTo>
                    <a:lnTo>
                      <a:pt x="102394" y="66675"/>
                    </a:lnTo>
                    <a:lnTo>
                      <a:pt x="183356" y="130969"/>
                    </a:lnTo>
                    <a:lnTo>
                      <a:pt x="228600" y="164307"/>
                    </a:lnTo>
                    <a:lnTo>
                      <a:pt x="233363" y="195263"/>
                    </a:lnTo>
                    <a:lnTo>
                      <a:pt x="233363" y="78582"/>
                    </a:lnTo>
                    <a:lnTo>
                      <a:pt x="278606" y="47625"/>
                    </a:lnTo>
                    <a:lnTo>
                      <a:pt x="302419" y="0"/>
                    </a:lnTo>
                    <a:lnTo>
                      <a:pt x="421481" y="23813"/>
                    </a:lnTo>
                    <a:lnTo>
                      <a:pt x="488156" y="76200"/>
                    </a:lnTo>
                    <a:lnTo>
                      <a:pt x="573881" y="88107"/>
                    </a:lnTo>
                    <a:lnTo>
                      <a:pt x="745331" y="140494"/>
                    </a:lnTo>
                    <a:lnTo>
                      <a:pt x="709613" y="264319"/>
                    </a:lnTo>
                    <a:lnTo>
                      <a:pt x="735806" y="476250"/>
                    </a:lnTo>
                    <a:lnTo>
                      <a:pt x="816769" y="595313"/>
                    </a:lnTo>
                    <a:lnTo>
                      <a:pt x="962025" y="714375"/>
                    </a:lnTo>
                    <a:cubicBezTo>
                      <a:pt x="961231" y="754063"/>
                      <a:pt x="960438" y="793750"/>
                      <a:pt x="959644" y="833438"/>
                    </a:cubicBezTo>
                    <a:lnTo>
                      <a:pt x="850106" y="883444"/>
                    </a:lnTo>
                    <a:lnTo>
                      <a:pt x="850106" y="907257"/>
                    </a:lnTo>
                    <a:lnTo>
                      <a:pt x="764381" y="866775"/>
                    </a:lnTo>
                    <a:lnTo>
                      <a:pt x="754856" y="1012032"/>
                    </a:lnTo>
                    <a:lnTo>
                      <a:pt x="650081" y="995363"/>
                    </a:lnTo>
                    <a:lnTo>
                      <a:pt x="516731" y="988219"/>
                    </a:lnTo>
                    <a:lnTo>
                      <a:pt x="421481" y="1016794"/>
                    </a:lnTo>
                    <a:lnTo>
                      <a:pt x="357188" y="921544"/>
                    </a:lnTo>
                    <a:lnTo>
                      <a:pt x="285750" y="862013"/>
                    </a:lnTo>
                    <a:lnTo>
                      <a:pt x="230981" y="952500"/>
                    </a:lnTo>
                    <a:lnTo>
                      <a:pt x="116681" y="904875"/>
                    </a:lnTo>
                    <a:lnTo>
                      <a:pt x="78581" y="904875"/>
                    </a:lnTo>
                    <a:lnTo>
                      <a:pt x="71438" y="759619"/>
                    </a:lnTo>
                    <a:lnTo>
                      <a:pt x="154781" y="707232"/>
                    </a:lnTo>
                    <a:lnTo>
                      <a:pt x="323850" y="723900"/>
                    </a:lnTo>
                    <a:lnTo>
                      <a:pt x="300038" y="569119"/>
                    </a:lnTo>
                    <a:lnTo>
                      <a:pt x="190500" y="438150"/>
                    </a:lnTo>
                    <a:lnTo>
                      <a:pt x="85725" y="359569"/>
                    </a:lnTo>
                    <a:lnTo>
                      <a:pt x="59531" y="259557"/>
                    </a:lnTo>
                    <a:lnTo>
                      <a:pt x="76200" y="123825"/>
                    </a:lnTo>
                    <a:lnTo>
                      <a:pt x="0" y="69057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Полилиния 57"/>
              <p:cNvSpPr/>
              <p:nvPr/>
            </p:nvSpPr>
            <p:spPr>
              <a:xfrm>
                <a:off x="708120" y="2393640"/>
                <a:ext cx="733320" cy="863640"/>
              </a:xfrm>
              <a:custGeom>
                <a:avLst/>
                <a:gdLst/>
                <a:ahLst/>
                <a:rect l="l" t="t" r="r" b="b"/>
                <a:pathLst>
                  <a:path w="1081087" h="1269206">
                    <a:moveTo>
                      <a:pt x="85725" y="1016793"/>
                    </a:moveTo>
                    <a:lnTo>
                      <a:pt x="85725" y="1016793"/>
                    </a:lnTo>
                    <a:lnTo>
                      <a:pt x="142875" y="778668"/>
                    </a:lnTo>
                    <a:lnTo>
                      <a:pt x="123825" y="657225"/>
                    </a:lnTo>
                    <a:lnTo>
                      <a:pt x="28575" y="573881"/>
                    </a:lnTo>
                    <a:lnTo>
                      <a:pt x="0" y="440531"/>
                    </a:lnTo>
                    <a:lnTo>
                      <a:pt x="52387" y="300037"/>
                    </a:lnTo>
                    <a:lnTo>
                      <a:pt x="207169" y="304800"/>
                    </a:lnTo>
                    <a:lnTo>
                      <a:pt x="383381" y="304800"/>
                    </a:lnTo>
                    <a:lnTo>
                      <a:pt x="561975" y="323850"/>
                    </a:lnTo>
                    <a:lnTo>
                      <a:pt x="604837" y="326231"/>
                    </a:lnTo>
                    <a:lnTo>
                      <a:pt x="707231" y="257175"/>
                    </a:lnTo>
                    <a:lnTo>
                      <a:pt x="757237" y="159543"/>
                    </a:lnTo>
                    <a:lnTo>
                      <a:pt x="897731" y="166687"/>
                    </a:lnTo>
                    <a:lnTo>
                      <a:pt x="926306" y="119062"/>
                    </a:lnTo>
                    <a:cubicBezTo>
                      <a:pt x="927100" y="87312"/>
                      <a:pt x="927893" y="55562"/>
                      <a:pt x="928687" y="23812"/>
                    </a:cubicBezTo>
                    <a:lnTo>
                      <a:pt x="976312" y="0"/>
                    </a:lnTo>
                    <a:lnTo>
                      <a:pt x="1081087" y="28575"/>
                    </a:lnTo>
                    <a:lnTo>
                      <a:pt x="1062037" y="64293"/>
                    </a:lnTo>
                    <a:lnTo>
                      <a:pt x="1050131" y="180975"/>
                    </a:lnTo>
                    <a:lnTo>
                      <a:pt x="1064419" y="323850"/>
                    </a:lnTo>
                    <a:lnTo>
                      <a:pt x="1031081" y="614362"/>
                    </a:lnTo>
                    <a:lnTo>
                      <a:pt x="1076325" y="704850"/>
                    </a:lnTo>
                    <a:lnTo>
                      <a:pt x="1045369" y="857250"/>
                    </a:lnTo>
                    <a:lnTo>
                      <a:pt x="852487" y="1126331"/>
                    </a:lnTo>
                    <a:lnTo>
                      <a:pt x="831056" y="1202531"/>
                    </a:lnTo>
                    <a:lnTo>
                      <a:pt x="647700" y="1157287"/>
                    </a:lnTo>
                    <a:lnTo>
                      <a:pt x="576262" y="1147762"/>
                    </a:lnTo>
                    <a:lnTo>
                      <a:pt x="511969" y="1095375"/>
                    </a:lnTo>
                    <a:lnTo>
                      <a:pt x="392906" y="1069181"/>
                    </a:lnTo>
                    <a:lnTo>
                      <a:pt x="364331" y="1121568"/>
                    </a:lnTo>
                    <a:lnTo>
                      <a:pt x="321469" y="1152525"/>
                    </a:lnTo>
                    <a:lnTo>
                      <a:pt x="321469" y="1269206"/>
                    </a:lnTo>
                    <a:lnTo>
                      <a:pt x="307181" y="1223962"/>
                    </a:lnTo>
                    <a:lnTo>
                      <a:pt x="192881" y="1143000"/>
                    </a:lnTo>
                    <a:lnTo>
                      <a:pt x="88106" y="1138237"/>
                    </a:lnTo>
                    <a:cubicBezTo>
                      <a:pt x="87312" y="1097756"/>
                      <a:pt x="86519" y="1057274"/>
                      <a:pt x="85725" y="1016793"/>
                    </a:cubicBez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Полилиния 58"/>
              <p:cNvSpPr/>
              <p:nvPr/>
            </p:nvSpPr>
            <p:spPr>
              <a:xfrm>
                <a:off x="446040" y="2042640"/>
                <a:ext cx="933480" cy="571320"/>
              </a:xfrm>
              <a:custGeom>
                <a:avLst/>
                <a:gdLst/>
                <a:ahLst/>
                <a:rect l="l" t="t" r="r" b="b"/>
                <a:pathLst>
                  <a:path w="1371600" h="840582">
                    <a:moveTo>
                      <a:pt x="500062" y="0"/>
                    </a:moveTo>
                    <a:lnTo>
                      <a:pt x="616743" y="90488"/>
                    </a:lnTo>
                    <a:lnTo>
                      <a:pt x="907256" y="64294"/>
                    </a:lnTo>
                    <a:lnTo>
                      <a:pt x="916781" y="157163"/>
                    </a:lnTo>
                    <a:lnTo>
                      <a:pt x="945356" y="176213"/>
                    </a:lnTo>
                    <a:lnTo>
                      <a:pt x="928687" y="273844"/>
                    </a:lnTo>
                    <a:lnTo>
                      <a:pt x="942975" y="326232"/>
                    </a:lnTo>
                    <a:lnTo>
                      <a:pt x="1371600" y="514350"/>
                    </a:lnTo>
                    <a:lnTo>
                      <a:pt x="1312068" y="542925"/>
                    </a:lnTo>
                    <a:lnTo>
                      <a:pt x="1307306" y="631032"/>
                    </a:lnTo>
                    <a:lnTo>
                      <a:pt x="1281112" y="678657"/>
                    </a:lnTo>
                    <a:lnTo>
                      <a:pt x="1138237" y="676275"/>
                    </a:lnTo>
                    <a:lnTo>
                      <a:pt x="1085850" y="773907"/>
                    </a:lnTo>
                    <a:lnTo>
                      <a:pt x="988218" y="840582"/>
                    </a:lnTo>
                    <a:lnTo>
                      <a:pt x="742950" y="821532"/>
                    </a:lnTo>
                    <a:lnTo>
                      <a:pt x="438150" y="812007"/>
                    </a:lnTo>
                    <a:lnTo>
                      <a:pt x="497681" y="619125"/>
                    </a:lnTo>
                    <a:lnTo>
                      <a:pt x="397668" y="628650"/>
                    </a:lnTo>
                    <a:lnTo>
                      <a:pt x="316706" y="690563"/>
                    </a:lnTo>
                    <a:lnTo>
                      <a:pt x="242887" y="704850"/>
                    </a:lnTo>
                    <a:lnTo>
                      <a:pt x="23812" y="628650"/>
                    </a:lnTo>
                    <a:lnTo>
                      <a:pt x="0" y="454819"/>
                    </a:lnTo>
                    <a:lnTo>
                      <a:pt x="78581" y="431007"/>
                    </a:lnTo>
                    <a:lnTo>
                      <a:pt x="235743" y="450057"/>
                    </a:lnTo>
                    <a:lnTo>
                      <a:pt x="309562" y="421482"/>
                    </a:lnTo>
                    <a:cubicBezTo>
                      <a:pt x="308768" y="380207"/>
                      <a:pt x="307975" y="338932"/>
                      <a:pt x="307181" y="297657"/>
                    </a:cubicBezTo>
                    <a:lnTo>
                      <a:pt x="416718" y="95250"/>
                    </a:lnTo>
                    <a:lnTo>
                      <a:pt x="500062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Полилиния 59"/>
              <p:cNvSpPr/>
              <p:nvPr/>
            </p:nvSpPr>
            <p:spPr>
              <a:xfrm>
                <a:off x="1919160" y="3188880"/>
                <a:ext cx="636480" cy="865080"/>
              </a:xfrm>
              <a:custGeom>
                <a:avLst/>
                <a:gdLst/>
                <a:ahLst/>
                <a:rect l="l" t="t" r="r" b="b"/>
                <a:pathLst>
                  <a:path w="935832" h="1273969">
                    <a:moveTo>
                      <a:pt x="171450" y="0"/>
                    </a:moveTo>
                    <a:lnTo>
                      <a:pt x="414338" y="40482"/>
                    </a:lnTo>
                    <a:lnTo>
                      <a:pt x="450057" y="321469"/>
                    </a:lnTo>
                    <a:lnTo>
                      <a:pt x="704850" y="371475"/>
                    </a:lnTo>
                    <a:lnTo>
                      <a:pt x="588169" y="431007"/>
                    </a:lnTo>
                    <a:lnTo>
                      <a:pt x="628650" y="621507"/>
                    </a:lnTo>
                    <a:lnTo>
                      <a:pt x="711994" y="726282"/>
                    </a:lnTo>
                    <a:lnTo>
                      <a:pt x="740569" y="873919"/>
                    </a:lnTo>
                    <a:lnTo>
                      <a:pt x="845344" y="985838"/>
                    </a:lnTo>
                    <a:lnTo>
                      <a:pt x="935832" y="995363"/>
                    </a:lnTo>
                    <a:lnTo>
                      <a:pt x="871538" y="1197769"/>
                    </a:lnTo>
                    <a:lnTo>
                      <a:pt x="788194" y="1228725"/>
                    </a:lnTo>
                    <a:lnTo>
                      <a:pt x="766763" y="1273969"/>
                    </a:lnTo>
                    <a:lnTo>
                      <a:pt x="547688" y="1159669"/>
                    </a:lnTo>
                    <a:lnTo>
                      <a:pt x="497682" y="983457"/>
                    </a:lnTo>
                    <a:lnTo>
                      <a:pt x="280988" y="1009650"/>
                    </a:lnTo>
                    <a:lnTo>
                      <a:pt x="230982" y="1026319"/>
                    </a:lnTo>
                    <a:lnTo>
                      <a:pt x="159544" y="1026319"/>
                    </a:lnTo>
                    <a:lnTo>
                      <a:pt x="97632" y="942975"/>
                    </a:lnTo>
                    <a:lnTo>
                      <a:pt x="4763" y="892969"/>
                    </a:lnTo>
                    <a:lnTo>
                      <a:pt x="50007" y="859632"/>
                    </a:lnTo>
                    <a:lnTo>
                      <a:pt x="116682" y="752475"/>
                    </a:lnTo>
                    <a:lnTo>
                      <a:pt x="130969" y="707232"/>
                    </a:lnTo>
                    <a:lnTo>
                      <a:pt x="138113" y="631032"/>
                    </a:lnTo>
                    <a:lnTo>
                      <a:pt x="121444" y="592932"/>
                    </a:lnTo>
                    <a:lnTo>
                      <a:pt x="42863" y="542925"/>
                    </a:lnTo>
                    <a:lnTo>
                      <a:pt x="0" y="481013"/>
                    </a:lnTo>
                    <a:lnTo>
                      <a:pt x="2382" y="433388"/>
                    </a:lnTo>
                    <a:lnTo>
                      <a:pt x="100013" y="326232"/>
                    </a:lnTo>
                    <a:lnTo>
                      <a:pt x="104775" y="209550"/>
                    </a:lnTo>
                    <a:lnTo>
                      <a:pt x="142875" y="216694"/>
                    </a:lnTo>
                    <a:lnTo>
                      <a:pt x="171450" y="0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Полилиния 60"/>
              <p:cNvSpPr/>
              <p:nvPr/>
            </p:nvSpPr>
            <p:spPr>
              <a:xfrm>
                <a:off x="3322800" y="3060360"/>
                <a:ext cx="622080" cy="961920"/>
              </a:xfrm>
              <a:custGeom>
                <a:avLst/>
                <a:gdLst/>
                <a:ahLst/>
                <a:rect l="l" t="t" r="r" b="b"/>
                <a:pathLst>
                  <a:path w="914400" h="1416843">
                    <a:moveTo>
                      <a:pt x="0" y="0"/>
                    </a:moveTo>
                    <a:lnTo>
                      <a:pt x="171450" y="14287"/>
                    </a:lnTo>
                    <a:lnTo>
                      <a:pt x="323850" y="80962"/>
                    </a:lnTo>
                    <a:lnTo>
                      <a:pt x="454819" y="114300"/>
                    </a:lnTo>
                    <a:lnTo>
                      <a:pt x="447675" y="147637"/>
                    </a:lnTo>
                    <a:lnTo>
                      <a:pt x="531019" y="392906"/>
                    </a:lnTo>
                    <a:lnTo>
                      <a:pt x="742950" y="395287"/>
                    </a:lnTo>
                    <a:lnTo>
                      <a:pt x="804863" y="371475"/>
                    </a:lnTo>
                    <a:lnTo>
                      <a:pt x="902494" y="454818"/>
                    </a:lnTo>
                    <a:lnTo>
                      <a:pt x="881063" y="550068"/>
                    </a:lnTo>
                    <a:lnTo>
                      <a:pt x="833438" y="631031"/>
                    </a:lnTo>
                    <a:lnTo>
                      <a:pt x="878681" y="819150"/>
                    </a:lnTo>
                    <a:lnTo>
                      <a:pt x="914400" y="881062"/>
                    </a:lnTo>
                    <a:lnTo>
                      <a:pt x="883444" y="947737"/>
                    </a:lnTo>
                    <a:lnTo>
                      <a:pt x="814388" y="1007268"/>
                    </a:lnTo>
                    <a:lnTo>
                      <a:pt x="778669" y="1154906"/>
                    </a:lnTo>
                    <a:lnTo>
                      <a:pt x="866775" y="1316831"/>
                    </a:lnTo>
                    <a:lnTo>
                      <a:pt x="783431" y="1328737"/>
                    </a:lnTo>
                    <a:lnTo>
                      <a:pt x="673894" y="1373981"/>
                    </a:lnTo>
                    <a:lnTo>
                      <a:pt x="535781" y="1416843"/>
                    </a:lnTo>
                    <a:lnTo>
                      <a:pt x="366713" y="1252537"/>
                    </a:lnTo>
                    <a:lnTo>
                      <a:pt x="290513" y="1266825"/>
                    </a:lnTo>
                    <a:lnTo>
                      <a:pt x="171450" y="1169193"/>
                    </a:lnTo>
                    <a:lnTo>
                      <a:pt x="111919" y="990600"/>
                    </a:lnTo>
                    <a:lnTo>
                      <a:pt x="197644" y="721518"/>
                    </a:lnTo>
                    <a:lnTo>
                      <a:pt x="238125" y="571500"/>
                    </a:lnTo>
                    <a:lnTo>
                      <a:pt x="347663" y="452437"/>
                    </a:lnTo>
                    <a:lnTo>
                      <a:pt x="280988" y="402431"/>
                    </a:lnTo>
                    <a:lnTo>
                      <a:pt x="142875" y="357187"/>
                    </a:lnTo>
                    <a:lnTo>
                      <a:pt x="14288" y="354806"/>
                    </a:lnTo>
                    <a:lnTo>
                      <a:pt x="61913" y="642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Полилиния 61"/>
              <p:cNvSpPr/>
              <p:nvPr/>
            </p:nvSpPr>
            <p:spPr>
              <a:xfrm>
                <a:off x="2814840" y="3271680"/>
                <a:ext cx="749160" cy="755640"/>
              </a:xfrm>
              <a:custGeom>
                <a:avLst/>
                <a:gdLst/>
                <a:ahLst/>
                <a:rect l="l" t="t" r="r" b="b"/>
                <a:pathLst>
                  <a:path w="1100137" h="1112044">
                    <a:moveTo>
                      <a:pt x="0" y="400050"/>
                    </a:moveTo>
                    <a:lnTo>
                      <a:pt x="161925" y="364332"/>
                    </a:lnTo>
                    <a:lnTo>
                      <a:pt x="319087" y="411957"/>
                    </a:lnTo>
                    <a:lnTo>
                      <a:pt x="354806" y="283369"/>
                    </a:lnTo>
                    <a:cubicBezTo>
                      <a:pt x="354012" y="230188"/>
                      <a:pt x="353219" y="177006"/>
                      <a:pt x="352425" y="123825"/>
                    </a:cubicBezTo>
                    <a:lnTo>
                      <a:pt x="383381" y="104775"/>
                    </a:lnTo>
                    <a:lnTo>
                      <a:pt x="373856" y="47625"/>
                    </a:lnTo>
                    <a:lnTo>
                      <a:pt x="450056" y="0"/>
                    </a:lnTo>
                    <a:lnTo>
                      <a:pt x="626268" y="109538"/>
                    </a:lnTo>
                    <a:lnTo>
                      <a:pt x="762000" y="69057"/>
                    </a:lnTo>
                    <a:lnTo>
                      <a:pt x="762000" y="33338"/>
                    </a:lnTo>
                    <a:lnTo>
                      <a:pt x="885825" y="38100"/>
                    </a:lnTo>
                    <a:lnTo>
                      <a:pt x="1033462" y="92869"/>
                    </a:lnTo>
                    <a:lnTo>
                      <a:pt x="1100137" y="140494"/>
                    </a:lnTo>
                    <a:lnTo>
                      <a:pt x="983456" y="257175"/>
                    </a:lnTo>
                    <a:lnTo>
                      <a:pt x="859631" y="678657"/>
                    </a:lnTo>
                    <a:lnTo>
                      <a:pt x="914400" y="852488"/>
                    </a:lnTo>
                    <a:lnTo>
                      <a:pt x="1042987" y="954882"/>
                    </a:lnTo>
                    <a:lnTo>
                      <a:pt x="1000125" y="954882"/>
                    </a:lnTo>
                    <a:lnTo>
                      <a:pt x="966787" y="1102519"/>
                    </a:lnTo>
                    <a:lnTo>
                      <a:pt x="752475" y="1112044"/>
                    </a:lnTo>
                    <a:lnTo>
                      <a:pt x="604837" y="1052513"/>
                    </a:lnTo>
                    <a:lnTo>
                      <a:pt x="466725" y="1042988"/>
                    </a:lnTo>
                    <a:lnTo>
                      <a:pt x="381000" y="1035844"/>
                    </a:lnTo>
                    <a:lnTo>
                      <a:pt x="419100" y="914400"/>
                    </a:lnTo>
                    <a:lnTo>
                      <a:pt x="300037" y="900113"/>
                    </a:lnTo>
                    <a:lnTo>
                      <a:pt x="183356" y="869157"/>
                    </a:lnTo>
                    <a:lnTo>
                      <a:pt x="207168" y="726282"/>
                    </a:lnTo>
                    <a:lnTo>
                      <a:pt x="92868" y="750094"/>
                    </a:lnTo>
                    <a:lnTo>
                      <a:pt x="30956" y="557213"/>
                    </a:lnTo>
                    <a:lnTo>
                      <a:pt x="0" y="400050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Полилиния 62"/>
              <p:cNvSpPr/>
              <p:nvPr/>
            </p:nvSpPr>
            <p:spPr>
              <a:xfrm>
                <a:off x="2320920" y="2966760"/>
                <a:ext cx="736560" cy="892080"/>
              </a:xfrm>
              <a:custGeom>
                <a:avLst/>
                <a:gdLst/>
                <a:ahLst/>
                <a:rect l="l" t="t" r="r" b="b"/>
                <a:pathLst>
                  <a:path w="1085850" h="1312069">
                    <a:moveTo>
                      <a:pt x="862013" y="0"/>
                    </a:moveTo>
                    <a:lnTo>
                      <a:pt x="973931" y="135731"/>
                    </a:lnTo>
                    <a:lnTo>
                      <a:pt x="1047750" y="240506"/>
                    </a:lnTo>
                    <a:lnTo>
                      <a:pt x="973931" y="261938"/>
                    </a:lnTo>
                    <a:lnTo>
                      <a:pt x="935831" y="335756"/>
                    </a:lnTo>
                    <a:lnTo>
                      <a:pt x="950119" y="390525"/>
                    </a:lnTo>
                    <a:lnTo>
                      <a:pt x="897731" y="531019"/>
                    </a:lnTo>
                    <a:lnTo>
                      <a:pt x="1004888" y="621506"/>
                    </a:lnTo>
                    <a:lnTo>
                      <a:pt x="1081088" y="576263"/>
                    </a:lnTo>
                    <a:lnTo>
                      <a:pt x="1085850" y="738188"/>
                    </a:lnTo>
                    <a:lnTo>
                      <a:pt x="1047750" y="862013"/>
                    </a:lnTo>
                    <a:lnTo>
                      <a:pt x="890588" y="821531"/>
                    </a:lnTo>
                    <a:lnTo>
                      <a:pt x="731044" y="840581"/>
                    </a:lnTo>
                    <a:lnTo>
                      <a:pt x="754856" y="1012031"/>
                    </a:lnTo>
                    <a:lnTo>
                      <a:pt x="814388" y="1202531"/>
                    </a:lnTo>
                    <a:lnTo>
                      <a:pt x="769144" y="1176338"/>
                    </a:lnTo>
                    <a:lnTo>
                      <a:pt x="488156" y="1135856"/>
                    </a:lnTo>
                    <a:lnTo>
                      <a:pt x="447675" y="1312069"/>
                    </a:lnTo>
                    <a:lnTo>
                      <a:pt x="261938" y="1312069"/>
                    </a:lnTo>
                    <a:lnTo>
                      <a:pt x="152400" y="1202531"/>
                    </a:lnTo>
                    <a:lnTo>
                      <a:pt x="121444" y="1047750"/>
                    </a:lnTo>
                    <a:lnTo>
                      <a:pt x="40481" y="942975"/>
                    </a:lnTo>
                    <a:lnTo>
                      <a:pt x="0" y="759619"/>
                    </a:lnTo>
                    <a:lnTo>
                      <a:pt x="100013" y="700088"/>
                    </a:lnTo>
                    <a:lnTo>
                      <a:pt x="197644" y="707231"/>
                    </a:lnTo>
                    <a:lnTo>
                      <a:pt x="209550" y="485775"/>
                    </a:lnTo>
                    <a:lnTo>
                      <a:pt x="259556" y="361950"/>
                    </a:lnTo>
                    <a:lnTo>
                      <a:pt x="361950" y="369094"/>
                    </a:lnTo>
                    <a:lnTo>
                      <a:pt x="483394" y="450056"/>
                    </a:lnTo>
                    <a:lnTo>
                      <a:pt x="692944" y="342900"/>
                    </a:lnTo>
                    <a:cubicBezTo>
                      <a:pt x="693738" y="285750"/>
                      <a:pt x="694531" y="228600"/>
                      <a:pt x="695325" y="171450"/>
                    </a:cubicBezTo>
                    <a:lnTo>
                      <a:pt x="733425" y="19050"/>
                    </a:lnTo>
                    <a:lnTo>
                      <a:pt x="862013" y="0"/>
                    </a:lnTo>
                    <a:close/>
                  </a:path>
                </a:pathLst>
              </a:custGeom>
              <a:solidFill>
                <a:srgbClr val="0066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Полилиния 63"/>
              <p:cNvSpPr/>
              <p:nvPr/>
            </p:nvSpPr>
            <p:spPr>
              <a:xfrm>
                <a:off x="2819520" y="2325240"/>
                <a:ext cx="974520" cy="1057320"/>
              </a:xfrm>
              <a:custGeom>
                <a:avLst/>
                <a:gdLst/>
                <a:ahLst/>
                <a:rect l="l" t="t" r="r" b="b"/>
                <a:pathLst>
                  <a:path w="1435894" h="1557338">
                    <a:moveTo>
                      <a:pt x="0" y="435769"/>
                    </a:moveTo>
                    <a:lnTo>
                      <a:pt x="192881" y="185738"/>
                    </a:lnTo>
                    <a:lnTo>
                      <a:pt x="250031" y="64294"/>
                    </a:lnTo>
                    <a:lnTo>
                      <a:pt x="307181" y="0"/>
                    </a:lnTo>
                    <a:lnTo>
                      <a:pt x="671513" y="121444"/>
                    </a:lnTo>
                    <a:lnTo>
                      <a:pt x="978694" y="102394"/>
                    </a:lnTo>
                    <a:lnTo>
                      <a:pt x="1183481" y="126206"/>
                    </a:lnTo>
                    <a:lnTo>
                      <a:pt x="1250156" y="28575"/>
                    </a:lnTo>
                    <a:lnTo>
                      <a:pt x="1340644" y="152400"/>
                    </a:lnTo>
                    <a:lnTo>
                      <a:pt x="1435894" y="338138"/>
                    </a:lnTo>
                    <a:lnTo>
                      <a:pt x="1402556" y="747713"/>
                    </a:lnTo>
                    <a:lnTo>
                      <a:pt x="1302544" y="776288"/>
                    </a:lnTo>
                    <a:cubicBezTo>
                      <a:pt x="1303338" y="858838"/>
                      <a:pt x="1304131" y="941388"/>
                      <a:pt x="1304925" y="1023938"/>
                    </a:cubicBezTo>
                    <a:lnTo>
                      <a:pt x="1204913" y="1195388"/>
                    </a:lnTo>
                    <a:lnTo>
                      <a:pt x="1054894" y="1166813"/>
                    </a:lnTo>
                    <a:lnTo>
                      <a:pt x="921544" y="1092994"/>
                    </a:lnTo>
                    <a:lnTo>
                      <a:pt x="745331" y="1078706"/>
                    </a:lnTo>
                    <a:lnTo>
                      <a:pt x="795338" y="1138238"/>
                    </a:lnTo>
                    <a:lnTo>
                      <a:pt x="759619" y="1459706"/>
                    </a:lnTo>
                    <a:lnTo>
                      <a:pt x="631031" y="1497806"/>
                    </a:lnTo>
                    <a:lnTo>
                      <a:pt x="445294" y="1393031"/>
                    </a:lnTo>
                    <a:lnTo>
                      <a:pt x="371475" y="1438275"/>
                    </a:lnTo>
                    <a:lnTo>
                      <a:pt x="378619" y="1493044"/>
                    </a:lnTo>
                    <a:lnTo>
                      <a:pt x="271463" y="1557338"/>
                    </a:lnTo>
                    <a:lnTo>
                      <a:pt x="164306" y="1471613"/>
                    </a:lnTo>
                    <a:lnTo>
                      <a:pt x="214313" y="1333500"/>
                    </a:lnTo>
                    <a:lnTo>
                      <a:pt x="204788" y="1273969"/>
                    </a:lnTo>
                    <a:lnTo>
                      <a:pt x="240506" y="1200150"/>
                    </a:lnTo>
                    <a:lnTo>
                      <a:pt x="314325" y="1183481"/>
                    </a:lnTo>
                    <a:lnTo>
                      <a:pt x="126206" y="938213"/>
                    </a:lnTo>
                    <a:lnTo>
                      <a:pt x="135731" y="769144"/>
                    </a:lnTo>
                    <a:lnTo>
                      <a:pt x="0" y="435769"/>
                    </a:lnTo>
                    <a:close/>
                  </a:path>
                </a:pathLst>
              </a:custGeom>
              <a:solidFill>
                <a:srgbClr val="0066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Полилиния 64"/>
              <p:cNvSpPr/>
              <p:nvPr/>
            </p:nvSpPr>
            <p:spPr>
              <a:xfrm>
                <a:off x="2027160" y="2553840"/>
                <a:ext cx="887400" cy="892080"/>
              </a:xfrm>
              <a:custGeom>
                <a:avLst/>
                <a:gdLst/>
                <a:ahLst/>
                <a:rect l="l" t="t" r="r" b="b"/>
                <a:pathLst>
                  <a:path w="1307306" h="1312069">
                    <a:moveTo>
                      <a:pt x="7143" y="928688"/>
                    </a:moveTo>
                    <a:lnTo>
                      <a:pt x="0" y="826294"/>
                    </a:lnTo>
                    <a:lnTo>
                      <a:pt x="50006" y="566738"/>
                    </a:lnTo>
                    <a:lnTo>
                      <a:pt x="171450" y="535782"/>
                    </a:lnTo>
                    <a:lnTo>
                      <a:pt x="109537" y="457200"/>
                    </a:lnTo>
                    <a:lnTo>
                      <a:pt x="100012" y="381000"/>
                    </a:lnTo>
                    <a:lnTo>
                      <a:pt x="278606" y="409575"/>
                    </a:lnTo>
                    <a:lnTo>
                      <a:pt x="264318" y="345282"/>
                    </a:lnTo>
                    <a:lnTo>
                      <a:pt x="400050" y="311944"/>
                    </a:lnTo>
                    <a:lnTo>
                      <a:pt x="440531" y="261938"/>
                    </a:lnTo>
                    <a:lnTo>
                      <a:pt x="700087" y="252413"/>
                    </a:lnTo>
                    <a:lnTo>
                      <a:pt x="714375" y="166688"/>
                    </a:lnTo>
                    <a:lnTo>
                      <a:pt x="797718" y="47625"/>
                    </a:lnTo>
                    <a:lnTo>
                      <a:pt x="904875" y="0"/>
                    </a:lnTo>
                    <a:lnTo>
                      <a:pt x="1057275" y="47625"/>
                    </a:lnTo>
                    <a:lnTo>
                      <a:pt x="1097756" y="164307"/>
                    </a:lnTo>
                    <a:lnTo>
                      <a:pt x="1164431" y="97632"/>
                    </a:lnTo>
                    <a:lnTo>
                      <a:pt x="1307306" y="431007"/>
                    </a:lnTo>
                    <a:lnTo>
                      <a:pt x="1288256" y="600075"/>
                    </a:lnTo>
                    <a:lnTo>
                      <a:pt x="1171575" y="621507"/>
                    </a:lnTo>
                    <a:lnTo>
                      <a:pt x="1123950" y="783432"/>
                    </a:lnTo>
                    <a:lnTo>
                      <a:pt x="1114425" y="945357"/>
                    </a:lnTo>
                    <a:lnTo>
                      <a:pt x="1121568" y="945357"/>
                    </a:lnTo>
                    <a:lnTo>
                      <a:pt x="914400" y="1054894"/>
                    </a:lnTo>
                    <a:lnTo>
                      <a:pt x="785812" y="971550"/>
                    </a:lnTo>
                    <a:lnTo>
                      <a:pt x="702468" y="971550"/>
                    </a:lnTo>
                    <a:lnTo>
                      <a:pt x="638175" y="1104900"/>
                    </a:lnTo>
                    <a:lnTo>
                      <a:pt x="628650" y="1312069"/>
                    </a:lnTo>
                    <a:lnTo>
                      <a:pt x="523875" y="1307307"/>
                    </a:lnTo>
                    <a:lnTo>
                      <a:pt x="295275" y="1252538"/>
                    </a:lnTo>
                    <a:lnTo>
                      <a:pt x="254793" y="978694"/>
                    </a:lnTo>
                    <a:lnTo>
                      <a:pt x="7143" y="928688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Овал 66"/>
              <p:cNvSpPr/>
              <p:nvPr/>
            </p:nvSpPr>
            <p:spPr>
              <a:xfrm>
                <a:off x="2495520" y="3649320"/>
                <a:ext cx="4752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Овал 69"/>
              <p:cNvSpPr/>
              <p:nvPr/>
            </p:nvSpPr>
            <p:spPr>
              <a:xfrm>
                <a:off x="1665360" y="4027320"/>
                <a:ext cx="4752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Овал 70"/>
              <p:cNvSpPr/>
              <p:nvPr/>
            </p:nvSpPr>
            <p:spPr>
              <a:xfrm>
                <a:off x="2129040" y="3895560"/>
                <a:ext cx="4752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Овал 85"/>
              <p:cNvSpPr/>
              <p:nvPr/>
            </p:nvSpPr>
            <p:spPr>
              <a:xfrm>
                <a:off x="2095560" y="520380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Овал 88"/>
              <p:cNvSpPr/>
              <p:nvPr/>
            </p:nvSpPr>
            <p:spPr>
              <a:xfrm>
                <a:off x="2714760" y="608796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Овал 102"/>
              <p:cNvSpPr/>
              <p:nvPr/>
            </p:nvSpPr>
            <p:spPr>
              <a:xfrm>
                <a:off x="838080" y="195840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Овал 104"/>
              <p:cNvSpPr/>
              <p:nvPr/>
            </p:nvSpPr>
            <p:spPr>
              <a:xfrm>
                <a:off x="2490840" y="3646080"/>
                <a:ext cx="507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Овал 105"/>
              <p:cNvSpPr/>
              <p:nvPr/>
            </p:nvSpPr>
            <p:spPr>
              <a:xfrm>
                <a:off x="3152880" y="3150720"/>
                <a:ext cx="4752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Овал 106"/>
              <p:cNvSpPr/>
              <p:nvPr/>
            </p:nvSpPr>
            <p:spPr>
              <a:xfrm>
                <a:off x="3132360" y="376524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108"/>
              <p:cNvSpPr/>
              <p:nvPr/>
            </p:nvSpPr>
            <p:spPr>
              <a:xfrm>
                <a:off x="879480" y="1888560"/>
                <a:ext cx="41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ЛУЗА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113"/>
              <p:cNvSpPr/>
              <p:nvPr/>
            </p:nvSpPr>
            <p:spPr>
              <a:xfrm>
                <a:off x="2995920" y="3031200"/>
                <a:ext cx="421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КИР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Box 115"/>
              <p:cNvSpPr/>
              <p:nvPr/>
            </p:nvSpPr>
            <p:spPr>
              <a:xfrm>
                <a:off x="3105720" y="3778560"/>
                <a:ext cx="74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МУТНИНСК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117"/>
              <p:cNvSpPr/>
              <p:nvPr/>
            </p:nvSpPr>
            <p:spPr>
              <a:xfrm>
                <a:off x="2380680" y="3467880"/>
                <a:ext cx="1020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БЕЛАЯ ХОЛУНИЦА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124"/>
              <p:cNvSpPr/>
              <p:nvPr/>
            </p:nvSpPr>
            <p:spPr>
              <a:xfrm>
                <a:off x="1514160" y="4098960"/>
                <a:ext cx="49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ИЧ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126"/>
              <p:cNvSpPr/>
              <p:nvPr/>
            </p:nvSpPr>
            <p:spPr>
              <a:xfrm>
                <a:off x="2090520" y="3861720"/>
                <a:ext cx="58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КИРОВО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ЧЕПЕЦК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135"/>
              <p:cNvSpPr/>
              <p:nvPr/>
            </p:nvSpPr>
            <p:spPr>
              <a:xfrm>
                <a:off x="1985400" y="5207760"/>
                <a:ext cx="502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РЖУМ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46"/>
              <p:cNvSpPr/>
              <p:nvPr/>
            </p:nvSpPr>
            <p:spPr>
              <a:xfrm>
                <a:off x="2511360" y="5894280"/>
                <a:ext cx="1037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000000"/>
                    </a:solidFill>
                    <a:latin typeface="Arial"/>
                  </a:rPr>
                  <a:t>ВЯТСКИЕ ПОЛЯН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Группа 149"/>
          <p:cNvGrpSpPr/>
          <p:nvPr/>
        </p:nvGrpSpPr>
        <p:grpSpPr>
          <a:xfrm>
            <a:off x="115560" y="157320"/>
            <a:ext cx="3592800" cy="1116720"/>
            <a:chOff x="115560" y="157320"/>
            <a:chExt cx="3592800" cy="1116720"/>
          </a:xfrm>
        </p:grpSpPr>
        <p:sp>
          <p:nvSpPr>
            <p:cNvPr id="207" name="Прямоугольник 150"/>
            <p:cNvSpPr/>
            <p:nvPr/>
          </p:nvSpPr>
          <p:spPr>
            <a:xfrm>
              <a:off x="123840" y="157320"/>
              <a:ext cx="3584520" cy="647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оддержка малого бизнес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 моногород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Равнобедренный треугольник 151"/>
            <p:cNvSpPr/>
            <p:nvPr/>
          </p:nvSpPr>
          <p:spPr>
            <a:xfrm rot="2271600">
              <a:off x="126360" y="77760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Номер слайда 2"/>
          <p:cNvSpPr/>
          <p:nvPr/>
        </p:nvSpPr>
        <p:spPr>
          <a:xfrm>
            <a:off x="655308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91C-DC74-47CB-B36A-C3F035E89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4284720" y="1287360"/>
            <a:ext cx="470844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офинансирование муниципальных программ поддержки малого предпринимательства 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моногородов</a:t>
            </a: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Вятские Поля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Кирово-Чепец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Белая Холу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Урж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Омутнин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Л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Кир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гт Крас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гт Стри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4097880" y="349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7"/>
          <p:cNvSpPr/>
          <p:nvPr/>
        </p:nvSpPr>
        <p:spPr>
          <a:xfrm>
            <a:off x="3726720" y="60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9"/>
          <p:cNvSpPr/>
          <p:nvPr/>
        </p:nvSpPr>
        <p:spPr>
          <a:xfrm>
            <a:off x="4284720" y="4676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Направления поддерж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Прямоугольник 80"/>
          <p:cNvGrpSpPr/>
          <p:nvPr/>
        </p:nvGrpSpPr>
        <p:grpSpPr>
          <a:xfrm>
            <a:off x="5095800" y="103320"/>
            <a:ext cx="3975120" cy="631440"/>
            <a:chOff x="5095800" y="103320"/>
            <a:chExt cx="3975120" cy="631440"/>
          </a:xfrm>
        </p:grpSpPr>
        <p:pic>
          <p:nvPicPr>
            <p:cNvPr id="215" name="Прямоугольник 80" descr=""/>
            <p:cNvPicPr/>
            <p:nvPr/>
          </p:nvPicPr>
          <p:blipFill>
            <a:blip r:embed="rId1"/>
            <a:stretch/>
          </p:blipFill>
          <p:spPr>
            <a:xfrm>
              <a:off x="5095800" y="103320"/>
              <a:ext cx="3975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80040" y="154080"/>
              <a:ext cx="383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федеральный бюджет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60,8 млн. ру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Прямоугольник 81"/>
          <p:cNvGrpSpPr/>
          <p:nvPr/>
        </p:nvGrpSpPr>
        <p:grpSpPr>
          <a:xfrm>
            <a:off x="5095800" y="596880"/>
            <a:ext cx="3975120" cy="536760"/>
            <a:chOff x="5095800" y="596880"/>
            <a:chExt cx="3975120" cy="536760"/>
          </a:xfrm>
        </p:grpSpPr>
        <p:pic>
          <p:nvPicPr>
            <p:cNvPr id="218" name="Прямоугольник 81" descr=""/>
            <p:cNvPicPr/>
            <p:nvPr/>
          </p:nvPicPr>
          <p:blipFill>
            <a:blip r:embed="rId2"/>
            <a:stretch/>
          </p:blipFill>
          <p:spPr>
            <a:xfrm>
              <a:off x="5095800" y="596880"/>
              <a:ext cx="39751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80040" y="642960"/>
              <a:ext cx="383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областной бюджет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3,2  млн. ру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Прямоугольник 6"/>
          <p:cNvSpPr/>
          <p:nvPr/>
        </p:nvSpPr>
        <p:spPr>
          <a:xfrm>
            <a:off x="4148280" y="5013360"/>
            <a:ext cx="48654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убсидии на возмещение затрат по уплате первых взносов (авансовых платежей) по договорам финансовой аренды (лизинг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убсидии на возмещение части затрат субъектов малого предпринимательства, осуществляющих социально ориентированную дея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Прямоугольник 2"/>
          <p:cNvGrpSpPr/>
          <p:nvPr/>
        </p:nvGrpSpPr>
        <p:grpSpPr>
          <a:xfrm>
            <a:off x="225360" y="2073240"/>
            <a:ext cx="8717040" cy="699840"/>
            <a:chOff x="225360" y="2073240"/>
            <a:chExt cx="8717040" cy="699840"/>
          </a:xfrm>
        </p:grpSpPr>
        <p:pic>
          <p:nvPicPr>
            <p:cNvPr id="22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25360" y="2073240"/>
              <a:ext cx="871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30120" y="2130480"/>
              <a:ext cx="855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Льготные займы</a:t>
              </a:r>
              <a:r>
                <a:rPr b="1" lang="en-US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до </a:t>
              </a:r>
              <a:r>
                <a:rPr b="1" lang="en-US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2</a:t>
              </a: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млн. рублей сроком до 3-х лет под</a:t>
              </a:r>
              <a:r>
                <a:rPr b="1" lang="en-US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7-10% годов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3"/>
          <p:cNvGrpSpPr/>
          <p:nvPr/>
        </p:nvGrpSpPr>
        <p:grpSpPr>
          <a:xfrm>
            <a:off x="69840" y="878040"/>
            <a:ext cx="3710160" cy="1240920"/>
            <a:chOff x="69840" y="878040"/>
            <a:chExt cx="3710160" cy="1240920"/>
          </a:xfrm>
        </p:grpSpPr>
        <p:sp>
          <p:nvSpPr>
            <p:cNvPr id="225" name="Прямоугольник 1"/>
            <p:cNvSpPr/>
            <p:nvPr/>
          </p:nvSpPr>
          <p:spPr>
            <a:xfrm>
              <a:off x="69840" y="878040"/>
              <a:ext cx="3710160" cy="741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Льготное кредит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Равнобедренный треугольник 2"/>
            <p:cNvSpPr/>
            <p:nvPr/>
          </p:nvSpPr>
          <p:spPr>
            <a:xfrm rot="2599200">
              <a:off x="107280" y="1587240"/>
              <a:ext cx="698400" cy="33804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Диаграмма 6" descr=""/>
          <p:cNvPicPr/>
          <p:nvPr/>
        </p:nvPicPr>
        <p:blipFill>
          <a:blip r:embed="rId2"/>
          <a:stretch/>
        </p:blipFill>
        <p:spPr>
          <a:xfrm>
            <a:off x="-34920" y="7174080"/>
            <a:ext cx="4572000" cy="43192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10642680" y="4530600"/>
            <a:ext cx="2930400" cy="22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9"/>
          <p:cNvSpPr/>
          <p:nvPr/>
        </p:nvSpPr>
        <p:spPr>
          <a:xfrm>
            <a:off x="4537080" y="7605720"/>
            <a:ext cx="4464000" cy="5713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ъем выданных займов (2009 - 2016 гг) </a:t>
            </a:r>
            <a:r>
              <a:rPr b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,5 млрд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4546440" y="8605800"/>
            <a:ext cx="4464360" cy="2408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оциально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экономический 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т финансовой поддержки за 2015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оздано рабочих мест, чел – 6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охранено рабочих мест, чел – 7 4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ъем выручки, тыс. руб. – 11 750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ъем налоговых отчислений, тыс. руб.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37 7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3618000" y="880920"/>
            <a:ext cx="13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923,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лн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5389560" y="880920"/>
            <a:ext cx="375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616,6 млн. руб .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областной фо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307,2 млн. руб .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районные фонды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8"/>
          <p:cNvSpPr/>
          <p:nvPr/>
        </p:nvSpPr>
        <p:spPr>
          <a:xfrm>
            <a:off x="4788000" y="1004760"/>
            <a:ext cx="7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в т.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68400" y="2881440"/>
            <a:ext cx="3855960" cy="750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арантийное  кредит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O:\201\Поляева\12.10.2016\Логотип КОФПМСП\logo_znak.png"/>
          <p:cNvPicPr/>
          <p:nvPr/>
        </p:nvPicPr>
        <p:blipFill>
          <a:blip r:embed="rId3"/>
          <a:stretch/>
        </p:blipFill>
        <p:spPr>
          <a:xfrm>
            <a:off x="-1836720" y="3143160"/>
            <a:ext cx="133200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25"/>
          <p:cNvSpPr/>
          <p:nvPr/>
        </p:nvSpPr>
        <p:spPr>
          <a:xfrm>
            <a:off x="3851280" y="293040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148,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млн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5292720" y="297648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общий объем средств направл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на гарантийное кредит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30"/>
          <p:cNvGrpSpPr/>
          <p:nvPr/>
        </p:nvGrpSpPr>
        <p:grpSpPr>
          <a:xfrm>
            <a:off x="85680" y="5883120"/>
            <a:ext cx="8856720" cy="871560"/>
            <a:chOff x="85680" y="5883120"/>
            <a:chExt cx="8856720" cy="871560"/>
          </a:xfrm>
        </p:grpSpPr>
        <p:pic>
          <p:nvPicPr>
            <p:cNvPr id="239" name="Прямоугольник 30" descr=""/>
            <p:cNvPicPr/>
            <p:nvPr/>
          </p:nvPicPr>
          <p:blipFill>
            <a:blip r:embed="rId4"/>
            <a:stretch/>
          </p:blipFill>
          <p:spPr>
            <a:xfrm>
              <a:off x="85680" y="5883120"/>
              <a:ext cx="88567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38240" y="5942160"/>
              <a:ext cx="87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Областной фонд</a:t>
              </a:r>
              <a:r>
                <a:rPr b="1" lang="en-US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является представителем АО «Корпорация МСП»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Фонда развития промышленности</a:t>
              </a: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000" y="3806640"/>
            <a:ext cx="67676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Партнерами программы являются 9 банков:</a:t>
            </a:r>
            <a:br>
              <a:rPr sz="2000"/>
            </a:br>
            <a:endParaRPr b="0" lang="en-US" sz="2000" spc="-1" strike="noStrike">
              <a:solidFill>
                <a:srgbClr val="37302a"/>
              </a:solidFill>
              <a:latin typeface="Arial"/>
            </a:endParaRPr>
          </a:p>
        </p:txBody>
      </p:sp>
      <p:pic>
        <p:nvPicPr>
          <p:cNvPr id="242" name="Picture 18" descr=""/>
          <p:cNvPicPr/>
          <p:nvPr/>
        </p:nvPicPr>
        <p:blipFill>
          <a:blip r:embed="rId5"/>
          <a:stretch/>
        </p:blipFill>
        <p:spPr>
          <a:xfrm>
            <a:off x="6372360" y="4838760"/>
            <a:ext cx="2447640" cy="476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"/>
          <p:cNvPicPr/>
          <p:nvPr/>
        </p:nvPicPr>
        <p:blipFill>
          <a:blip r:embed="rId6"/>
          <a:stretch/>
        </p:blipFill>
        <p:spPr>
          <a:xfrm>
            <a:off x="900000" y="4292640"/>
            <a:ext cx="2089440" cy="280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Картинки по запросу сбербанк лого"/>
          <p:cNvPicPr/>
          <p:nvPr/>
        </p:nvPicPr>
        <p:blipFill>
          <a:blip r:embed="rId7"/>
          <a:srcRect l="0" t="0" r="0" b="74585"/>
          <a:stretch/>
        </p:blipFill>
        <p:spPr>
          <a:xfrm>
            <a:off x="6659640" y="5373720"/>
            <a:ext cx="1649160" cy="385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Похожее изображение"/>
          <p:cNvPicPr/>
          <p:nvPr/>
        </p:nvPicPr>
        <p:blipFill>
          <a:blip r:embed="rId8"/>
          <a:stretch/>
        </p:blipFill>
        <p:spPr>
          <a:xfrm>
            <a:off x="1332000" y="5157720"/>
            <a:ext cx="1150920" cy="579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Картинки по запросу промсвязьбанк лого"/>
          <p:cNvPicPr/>
          <p:nvPr/>
        </p:nvPicPr>
        <p:blipFill>
          <a:blip r:embed="rId9"/>
          <a:srcRect l="0" t="31814" r="0" b="36372"/>
          <a:stretch/>
        </p:blipFill>
        <p:spPr>
          <a:xfrm>
            <a:off x="3995640" y="4344840"/>
            <a:ext cx="2044800" cy="527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Картинки по запросу втб24 лого"/>
          <p:cNvPicPr/>
          <p:nvPr/>
        </p:nvPicPr>
        <p:blipFill>
          <a:blip r:embed="rId10"/>
          <a:srcRect l="0" t="0" r="0" b="18804"/>
          <a:stretch/>
        </p:blipFill>
        <p:spPr>
          <a:xfrm>
            <a:off x="6372360" y="4302000"/>
            <a:ext cx="1512720" cy="474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" descr=""/>
          <p:cNvPicPr/>
          <p:nvPr/>
        </p:nvPicPr>
        <p:blipFill>
          <a:blip r:embed="rId11"/>
          <a:srcRect l="0" t="0" r="36787" b="0"/>
          <a:stretch/>
        </p:blipFill>
        <p:spPr>
          <a:xfrm>
            <a:off x="539640" y="4765680"/>
            <a:ext cx="1871640" cy="35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Картинки по запросу нбд банк лого"/>
          <p:cNvPicPr/>
          <p:nvPr/>
        </p:nvPicPr>
        <p:blipFill>
          <a:blip r:embed="rId12"/>
          <a:stretch/>
        </p:blipFill>
        <p:spPr>
          <a:xfrm>
            <a:off x="4859280" y="4797360"/>
            <a:ext cx="122544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Картинки по запросу россельхозбанк лого"/>
          <p:cNvPicPr/>
          <p:nvPr/>
        </p:nvPicPr>
        <p:blipFill>
          <a:blip r:embed="rId13"/>
          <a:stretch/>
        </p:blipFill>
        <p:spPr>
          <a:xfrm>
            <a:off x="2700360" y="4869000"/>
            <a:ext cx="2016000" cy="625320"/>
          </a:xfrm>
          <a:prstGeom prst="rect">
            <a:avLst/>
          </a:prstGeom>
          <a:ln w="0">
            <a:noFill/>
          </a:ln>
        </p:spPr>
      </p:pic>
      <p:sp>
        <p:nvSpPr>
          <p:cNvPr id="251" name="Номер слайда 1"/>
          <p:cNvSpPr/>
          <p:nvPr/>
        </p:nvSpPr>
        <p:spPr>
          <a:xfrm>
            <a:off x="7047000" y="6581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DD7D-95A9-4D4A-876E-609F1C564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"/>
          <p:cNvPicPr/>
          <p:nvPr/>
        </p:nvPicPr>
        <p:blipFill>
          <a:blip r:embed="rId14"/>
          <a:stretch/>
        </p:blipFill>
        <p:spPr>
          <a:xfrm>
            <a:off x="992160" y="-65160"/>
            <a:ext cx="1003320" cy="1005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4"/>
          <p:cNvSpPr/>
          <p:nvPr/>
        </p:nvSpPr>
        <p:spPr>
          <a:xfrm>
            <a:off x="1835280" y="11592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Финансовая поддержка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Равнобедренный треугольник 32"/>
          <p:cNvSpPr/>
          <p:nvPr/>
        </p:nvSpPr>
        <p:spPr>
          <a:xfrm rot="2632800">
            <a:off x="85680" y="3600360"/>
            <a:ext cx="698400" cy="3384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11"/>
          <p:cNvSpPr/>
          <p:nvPr/>
        </p:nvSpPr>
        <p:spPr>
          <a:xfrm>
            <a:off x="8675640" y="6453360"/>
            <a:ext cx="103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F9D1-9871-4158-9C96-F5C8DA030F2A}" type="slidenum"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66680" y="1960560"/>
            <a:ext cx="89042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центная ставка –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10,6%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СМП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9,6%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ССП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ли для лизинговых компа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ок льготного фондирования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до 3 лет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Проекты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1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приоритетных отраслей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539640" y="3141720"/>
            <a:ext cx="8583840" cy="22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льское хозяйство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предоставление услуг в эт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батывающе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т.ч. производство пищевых продуктов, первичная и последующая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работка с/х продукт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изводство и распределение электроэнерги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газа и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ительство, транспорт и связь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утренний туризм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окотехнологичные прое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1"/>
          <p:cNvSpPr/>
          <p:nvPr/>
        </p:nvSpPr>
        <p:spPr>
          <a:xfrm>
            <a:off x="200160" y="5516640"/>
            <a:ext cx="8746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Размер кредита: от</a:t>
            </a: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10 млн. рублей</a:t>
            </a: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до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1 млрд. рублей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щий кредитный лимит на заемщика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до 4 млрд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1"/>
          <p:cNvSpPr/>
          <p:nvPr/>
        </p:nvSpPr>
        <p:spPr>
          <a:xfrm>
            <a:off x="3708360" y="765000"/>
            <a:ext cx="5435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Программа 6,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"/>
          <p:cNvSpPr/>
          <p:nvPr/>
        </p:nvSpPr>
        <p:spPr>
          <a:xfrm>
            <a:off x="155520" y="1405080"/>
            <a:ext cx="87375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just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rcRect l="27883" t="5962" r="18554" b="64403"/>
          <a:stretch/>
        </p:blipFill>
        <p:spPr>
          <a:xfrm>
            <a:off x="0" y="160200"/>
            <a:ext cx="2484360" cy="103680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ая соединительная линия 24" descr=""/>
          <p:cNvPicPr/>
          <p:nvPr/>
        </p:nvPicPr>
        <p:blipFill>
          <a:blip r:embed="rId2"/>
          <a:stretch/>
        </p:blipFill>
        <p:spPr>
          <a:xfrm>
            <a:off x="176040" y="1822320"/>
            <a:ext cx="8839440" cy="255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15"/>
          <p:cNvSpPr/>
          <p:nvPr/>
        </p:nvSpPr>
        <p:spPr>
          <a:xfrm>
            <a:off x="2700360" y="26028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Финансовая поддержка СМС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5364000" y="1851120"/>
            <a:ext cx="361332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АО «Банк Интез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ПАО «Банк «Санкт-Петербург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Банк «Возрождение» (ПАО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КБ «Кубань Кредит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РНКБ (ПАО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АО «ЮниКредит Банк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ПАО «СКБ-банк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Банк «Левобережный» (ПАО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«СИБСОЦБАНК» ОО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ПАО Банк «Кузнецкий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Картинки по запросу ао «альфа-банк»"/>
          <p:cNvPicPr/>
          <p:nvPr/>
        </p:nvPicPr>
        <p:blipFill>
          <a:blip r:embed="rId1"/>
          <a:stretch/>
        </p:blipFill>
        <p:spPr>
          <a:xfrm>
            <a:off x="2631960" y="5811840"/>
            <a:ext cx="1774800" cy="52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Картинки по запросу Банк ГПБ"/>
          <p:cNvPicPr/>
          <p:nvPr/>
        </p:nvPicPr>
        <p:blipFill>
          <a:blip r:embed="rId2"/>
          <a:stretch/>
        </p:blipFill>
        <p:spPr>
          <a:xfrm>
            <a:off x="357120" y="4905360"/>
            <a:ext cx="2090880" cy="45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Картинки по запросу ПАО «НБД-Банк"/>
          <p:cNvPicPr/>
          <p:nvPr/>
        </p:nvPicPr>
        <p:blipFill>
          <a:blip r:embed="rId3"/>
          <a:stretch/>
        </p:blipFill>
        <p:spPr>
          <a:xfrm>
            <a:off x="2776680" y="2060640"/>
            <a:ext cx="1304640" cy="841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7"/>
          <p:cNvSpPr/>
          <p:nvPr/>
        </p:nvSpPr>
        <p:spPr>
          <a:xfrm>
            <a:off x="-14400" y="1425600"/>
            <a:ext cx="6386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irce"/>
                <a:ea typeface="Arial Unicode MS"/>
              </a:rPr>
              <a:t>Филиалы,</a:t>
            </a:r>
            <a:r>
              <a:rPr b="1" lang="en-US" sz="1600" spc="-1" strike="noStrike">
                <a:solidFill>
                  <a:srgbClr val="000000"/>
                </a:solidFill>
                <a:latin typeface="Circe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irce"/>
                <a:ea typeface="Arial Unicode MS"/>
              </a:rPr>
              <a:t>представленные в 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2"/>
          <p:cNvSpPr/>
          <p:nvPr/>
        </p:nvSpPr>
        <p:spPr>
          <a:xfrm>
            <a:off x="179280" y="1341360"/>
            <a:ext cx="88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11"/>
          <p:cNvSpPr/>
          <p:nvPr/>
        </p:nvSpPr>
        <p:spPr>
          <a:xfrm>
            <a:off x="8874000" y="6524640"/>
            <a:ext cx="103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9F2F-3191-4DD7-9555-7F1E82EDF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2"/>
          <p:cNvSpPr/>
          <p:nvPr/>
        </p:nvSpPr>
        <p:spPr>
          <a:xfrm>
            <a:off x="155520" y="907920"/>
            <a:ext cx="6870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irce"/>
              </a:rPr>
              <a:t>Уполномоченные б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4"/>
          <a:srcRect l="27883" t="5962" r="18554" b="64403"/>
          <a:stretch/>
        </p:blipFill>
        <p:spPr>
          <a:xfrm>
            <a:off x="0" y="36360"/>
            <a:ext cx="1908000" cy="75420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3"/>
          <p:cNvSpPr/>
          <p:nvPr/>
        </p:nvSpPr>
        <p:spPr>
          <a:xfrm>
            <a:off x="-110880" y="11930040"/>
            <a:ext cx="14331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21240" bIns="21240" anchor="t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066704F7-1C98-4E1E-9DAD-ADFEE1ACAE7A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4" descr="Картинки по запросу сбербанк логотип без фона"/>
          <p:cNvPicPr/>
          <p:nvPr/>
        </p:nvPicPr>
        <p:blipFill>
          <a:blip r:embed="rId5"/>
          <a:stretch/>
        </p:blipFill>
        <p:spPr>
          <a:xfrm>
            <a:off x="406440" y="2133720"/>
            <a:ext cx="1865160" cy="544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Картинки по запросу ПАО «НБД-Банк"/>
          <p:cNvPicPr/>
          <p:nvPr/>
        </p:nvPicPr>
        <p:blipFill>
          <a:blip r:embed="rId6"/>
          <a:stretch/>
        </p:blipFill>
        <p:spPr>
          <a:xfrm>
            <a:off x="2889360" y="10363320"/>
            <a:ext cx="1446120" cy="1108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4" descr="Картинки по запросу банк открытие"/>
          <p:cNvPicPr/>
          <p:nvPr/>
        </p:nvPicPr>
        <p:blipFill>
          <a:blip r:embed="rId7"/>
          <a:stretch/>
        </p:blipFill>
        <p:spPr>
          <a:xfrm>
            <a:off x="196920" y="4076640"/>
            <a:ext cx="1873080" cy="828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Картинки по запросу райффайзен"/>
          <p:cNvPicPr/>
          <p:nvPr/>
        </p:nvPicPr>
        <p:blipFill>
          <a:blip r:embed="rId8"/>
          <a:stretch/>
        </p:blipFill>
        <p:spPr>
          <a:xfrm>
            <a:off x="393840" y="5697360"/>
            <a:ext cx="1995480" cy="641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Картинки по запросу втб24"/>
          <p:cNvPicPr/>
          <p:nvPr/>
        </p:nvPicPr>
        <p:blipFill>
          <a:blip r:embed="rId9"/>
          <a:stretch/>
        </p:blipFill>
        <p:spPr>
          <a:xfrm>
            <a:off x="2725560" y="3141720"/>
            <a:ext cx="1587600" cy="639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Картинки по запросу втб"/>
          <p:cNvPicPr/>
          <p:nvPr/>
        </p:nvPicPr>
        <p:blipFill>
          <a:blip r:embed="rId10"/>
          <a:stretch/>
        </p:blipFill>
        <p:spPr>
          <a:xfrm>
            <a:off x="2725560" y="3935520"/>
            <a:ext cx="1252800" cy="628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Картинки по запросу росбанк лого"/>
          <p:cNvPicPr/>
          <p:nvPr/>
        </p:nvPicPr>
        <p:blipFill>
          <a:blip r:embed="rId11"/>
          <a:stretch/>
        </p:blipFill>
        <p:spPr>
          <a:xfrm>
            <a:off x="2816280" y="4784760"/>
            <a:ext cx="1441440" cy="768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Картинки по запросу промсвязьбанк вектор"/>
          <p:cNvPicPr/>
          <p:nvPr/>
        </p:nvPicPr>
        <p:blipFill>
          <a:blip r:embed="rId12"/>
          <a:stretch/>
        </p:blipFill>
        <p:spPr>
          <a:xfrm>
            <a:off x="357120" y="3500280"/>
            <a:ext cx="2097000" cy="48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Картинки по запросу россельхозбанк векторо"/>
          <p:cNvPicPr/>
          <p:nvPr/>
        </p:nvPicPr>
        <p:blipFill>
          <a:blip r:embed="rId13"/>
          <a:stretch/>
        </p:blipFill>
        <p:spPr>
          <a:xfrm>
            <a:off x="393840" y="2781360"/>
            <a:ext cx="1830240" cy="50472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35"/>
          <p:cNvSpPr/>
          <p:nvPr/>
        </p:nvSpPr>
        <p:spPr>
          <a:xfrm>
            <a:off x="3276720" y="44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Финансовая поддержка СМС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36"/>
          <p:cNvSpPr/>
          <p:nvPr/>
        </p:nvSpPr>
        <p:spPr>
          <a:xfrm>
            <a:off x="4067280" y="561960"/>
            <a:ext cx="3168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irce"/>
              </a:rPr>
              <a:t>Программа 6,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5"/>
          <p:cNvSpPr/>
          <p:nvPr/>
        </p:nvSpPr>
        <p:spPr>
          <a:xfrm>
            <a:off x="155520" y="3603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07800" y="512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460440" y="665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>
            <a:off x="612720" y="8175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765000" y="969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2"/>
          <p:cNvSpPr/>
          <p:nvPr/>
        </p:nvSpPr>
        <p:spPr>
          <a:xfrm>
            <a:off x="-47520" y="404640"/>
            <a:ext cx="91915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irce"/>
              </a:rPr>
              <a:t>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доставление синдицированных гаран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rcRect l="27883" t="5962" r="18554" b="64403"/>
          <a:stretch/>
        </p:blipFill>
        <p:spPr>
          <a:xfrm>
            <a:off x="1476360" y="752400"/>
            <a:ext cx="2879640" cy="113364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24" descr=""/>
          <p:cNvPicPr/>
          <p:nvPr/>
        </p:nvPicPr>
        <p:blipFill>
          <a:blip r:embed="rId2"/>
          <a:stretch/>
        </p:blipFill>
        <p:spPr>
          <a:xfrm>
            <a:off x="182520" y="2000160"/>
            <a:ext cx="8839080" cy="23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0" descr=""/>
          <p:cNvPicPr/>
          <p:nvPr/>
        </p:nvPicPr>
        <p:blipFill>
          <a:blip r:embed="rId3"/>
          <a:stretch/>
        </p:blipFill>
        <p:spPr>
          <a:xfrm>
            <a:off x="5148360" y="461880"/>
            <a:ext cx="2160360" cy="1887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Users\polyaeva_es\YandexDisk\Скриншоты\2017-02-14_13-57-25.png"/>
          <p:cNvPicPr/>
          <p:nvPr/>
        </p:nvPicPr>
        <p:blipFill>
          <a:blip r:embed="rId4"/>
          <a:srcRect l="0" t="0" r="0" b="26463"/>
          <a:stretch/>
        </p:blipFill>
        <p:spPr>
          <a:xfrm>
            <a:off x="179280" y="2133720"/>
            <a:ext cx="8785440" cy="3260520"/>
          </a:xfrm>
          <a:prstGeom prst="rect">
            <a:avLst/>
          </a:prstGeom>
          <a:ln w="0">
            <a:noFill/>
          </a:ln>
        </p:spPr>
      </p:pic>
      <p:grpSp>
        <p:nvGrpSpPr>
          <p:cNvPr id="311" name="Группа 7"/>
          <p:cNvGrpSpPr/>
          <p:nvPr/>
        </p:nvGrpSpPr>
        <p:grpSpPr>
          <a:xfrm>
            <a:off x="0" y="5300640"/>
            <a:ext cx="9144000" cy="1389240"/>
            <a:chOff x="0" y="5300640"/>
            <a:chExt cx="9144000" cy="1389240"/>
          </a:xfrm>
        </p:grpSpPr>
        <p:sp>
          <p:nvSpPr>
            <p:cNvPr id="312" name="Прямоугольник 2"/>
            <p:cNvSpPr/>
            <p:nvPr/>
          </p:nvSpPr>
          <p:spPr>
            <a:xfrm>
              <a:off x="2081160" y="5300640"/>
              <a:ext cx="7062840" cy="1356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т всей суммы кредита обеспечивает государство через Кировский областной фонд поддержки малого и среднего предпринимательства совместно с ОАО «НДКО «Агентство кредитных гарант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срок до 15 лет, максимальная сумма гарантийного обеспечения — 2 млрд. рублей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рямоугольник 19"/>
            <p:cNvSpPr/>
            <p:nvPr/>
          </p:nvSpPr>
          <p:spPr>
            <a:xfrm>
              <a:off x="0" y="5300640"/>
              <a:ext cx="2089080" cy="1356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Диаграмма 3" descr=""/>
            <p:cNvPicPr/>
            <p:nvPr/>
          </p:nvPicPr>
          <p:blipFill>
            <a:blip r:embed="rId5"/>
            <a:stretch/>
          </p:blipFill>
          <p:spPr>
            <a:xfrm>
              <a:off x="655200" y="5300640"/>
              <a:ext cx="16470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6"/>
            <p:cNvSpPr/>
            <p:nvPr/>
          </p:nvSpPr>
          <p:spPr>
            <a:xfrm>
              <a:off x="1078200" y="564984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9"/>
          <p:cNvSpPr/>
          <p:nvPr/>
        </p:nvSpPr>
        <p:spPr>
          <a:xfrm>
            <a:off x="4572000" y="10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3"/>
          <p:cNvSpPr/>
          <p:nvPr/>
        </p:nvSpPr>
        <p:spPr>
          <a:xfrm>
            <a:off x="-12600" y="-25560"/>
            <a:ext cx="91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Финансовая поддержка СМС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11"/>
          <p:cNvSpPr/>
          <p:nvPr/>
        </p:nvSpPr>
        <p:spPr>
          <a:xfrm>
            <a:off x="8674200" y="6578640"/>
            <a:ext cx="1015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4C91-2074-42F3-80DA-823811E89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http://image.shutterstock.com/z/stock-vector-new-labels-vector-89004448.jpg"/>
          <p:cNvPicPr/>
          <p:nvPr/>
        </p:nvPicPr>
        <p:blipFill>
          <a:blip r:embed="rId1"/>
          <a:srcRect l="17170" t="14014" r="34536" b="61961"/>
          <a:stretch/>
        </p:blipFill>
        <p:spPr>
          <a:xfrm>
            <a:off x="3851280" y="4581360"/>
            <a:ext cx="797040" cy="424080"/>
          </a:xfrm>
          <a:prstGeom prst="rect">
            <a:avLst/>
          </a:prstGeom>
          <a:ln w="0">
            <a:noFill/>
          </a:ln>
        </p:spPr>
      </p:pic>
      <p:grpSp>
        <p:nvGrpSpPr>
          <p:cNvPr id="320" name="Прямоугольник 2"/>
          <p:cNvGrpSpPr/>
          <p:nvPr/>
        </p:nvGrpSpPr>
        <p:grpSpPr>
          <a:xfrm>
            <a:off x="665280" y="4187880"/>
            <a:ext cx="7704000" cy="450720"/>
            <a:chOff x="665280" y="4187880"/>
            <a:chExt cx="7704000" cy="450720"/>
          </a:xfrm>
        </p:grpSpPr>
        <p:pic>
          <p:nvPicPr>
            <p:cNvPr id="32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65280" y="4187880"/>
              <a:ext cx="77040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22160" y="4221000"/>
              <a:ext cx="7594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Региональный «Инновационный конвент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26"/>
          <p:cNvSpPr/>
          <p:nvPr/>
        </p:nvSpPr>
        <p:spPr>
          <a:xfrm>
            <a:off x="-7920" y="31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Информационно-консультационная поддержка 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Прямоугольник 1"/>
          <p:cNvGrpSpPr/>
          <p:nvPr/>
        </p:nvGrpSpPr>
        <p:grpSpPr>
          <a:xfrm>
            <a:off x="682560" y="3286080"/>
            <a:ext cx="7705800" cy="450720"/>
            <a:chOff x="682560" y="3286080"/>
            <a:chExt cx="7705800" cy="450720"/>
          </a:xfrm>
        </p:grpSpPr>
        <p:pic>
          <p:nvPicPr>
            <p:cNvPr id="325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82560" y="3286080"/>
              <a:ext cx="77058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41240" y="3321000"/>
              <a:ext cx="7594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Региональный форум «Предпринимательство на Вятке»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Прямоугольник 2"/>
          <p:cNvGrpSpPr/>
          <p:nvPr/>
        </p:nvGrpSpPr>
        <p:grpSpPr>
          <a:xfrm>
            <a:off x="665280" y="3724200"/>
            <a:ext cx="7704000" cy="463680"/>
            <a:chOff x="665280" y="3724200"/>
            <a:chExt cx="7704000" cy="463680"/>
          </a:xfrm>
        </p:grpSpPr>
        <p:pic>
          <p:nvPicPr>
            <p:cNvPr id="328" name="Прямоугольник 2" descr=""/>
            <p:cNvPicPr/>
            <p:nvPr/>
          </p:nvPicPr>
          <p:blipFill>
            <a:blip r:embed="rId4"/>
            <a:stretch/>
          </p:blipFill>
          <p:spPr>
            <a:xfrm>
              <a:off x="665280" y="3724200"/>
              <a:ext cx="77040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22160" y="3760920"/>
              <a:ext cx="7594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Межрегиональный форум «Франчайзинговые решения для малого бизнеса»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2" descr="C:\Users\polyaeva_es\YandexDisk\Скриншоты\2016-11-24_11-31-05.png"/>
          <p:cNvPicPr/>
          <p:nvPr/>
        </p:nvPicPr>
        <p:blipFill>
          <a:blip r:embed="rId5"/>
          <a:srcRect l="0" t="0" r="7240" b="42818"/>
          <a:stretch/>
        </p:blipFill>
        <p:spPr>
          <a:xfrm>
            <a:off x="3564000" y="679320"/>
            <a:ext cx="5580000" cy="2266920"/>
          </a:xfrm>
          <a:prstGeom prst="rect">
            <a:avLst/>
          </a:prstGeom>
          <a:ln w="0">
            <a:noFill/>
          </a:ln>
        </p:spPr>
      </p:pic>
      <p:grpSp>
        <p:nvGrpSpPr>
          <p:cNvPr id="331" name="Группа 24"/>
          <p:cNvGrpSpPr/>
          <p:nvPr/>
        </p:nvGrpSpPr>
        <p:grpSpPr>
          <a:xfrm>
            <a:off x="34560" y="450720"/>
            <a:ext cx="3592800" cy="1117080"/>
            <a:chOff x="34560" y="450720"/>
            <a:chExt cx="3592800" cy="1117080"/>
          </a:xfrm>
        </p:grpSpPr>
        <p:sp>
          <p:nvSpPr>
            <p:cNvPr id="332" name="Прямоугольник 25"/>
            <p:cNvSpPr/>
            <p:nvPr/>
          </p:nvSpPr>
          <p:spPr>
            <a:xfrm>
              <a:off x="42840" y="450720"/>
              <a:ext cx="3584520" cy="64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Интернет-портал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www.mbko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Равнобедренный треугольник 26"/>
            <p:cNvSpPr/>
            <p:nvPr/>
          </p:nvSpPr>
          <p:spPr>
            <a:xfrm rot="2271600">
              <a:off x="45360" y="107136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Прямоугольник 1"/>
          <p:cNvGrpSpPr/>
          <p:nvPr/>
        </p:nvGrpSpPr>
        <p:grpSpPr>
          <a:xfrm>
            <a:off x="609480" y="1847880"/>
            <a:ext cx="3097440" cy="769680"/>
            <a:chOff x="609480" y="1847880"/>
            <a:chExt cx="3097440" cy="769680"/>
          </a:xfrm>
        </p:grpSpPr>
        <p:pic>
          <p:nvPicPr>
            <p:cNvPr id="335" name="Прямоугольник 1" descr=""/>
            <p:cNvPicPr/>
            <p:nvPr/>
          </p:nvPicPr>
          <p:blipFill>
            <a:blip r:embed="rId6"/>
            <a:stretch/>
          </p:blipFill>
          <p:spPr>
            <a:xfrm>
              <a:off x="609480" y="1847880"/>
              <a:ext cx="30974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76440" y="1884240"/>
              <a:ext cx="297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Ежегодно боле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100</a:t>
              </a: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бесплатных консульта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Прямоугольник 20"/>
          <p:cNvGrpSpPr/>
          <p:nvPr/>
        </p:nvGrpSpPr>
        <p:grpSpPr>
          <a:xfrm>
            <a:off x="669960" y="1200240"/>
            <a:ext cx="2689200" cy="769680"/>
            <a:chOff x="669960" y="1200240"/>
            <a:chExt cx="2689200" cy="769680"/>
          </a:xfrm>
        </p:grpSpPr>
        <p:pic>
          <p:nvPicPr>
            <p:cNvPr id="338" name="Прямоугольник 20" descr=""/>
            <p:cNvPicPr/>
            <p:nvPr/>
          </p:nvPicPr>
          <p:blipFill>
            <a:blip r:embed="rId7"/>
            <a:stretch/>
          </p:blipFill>
          <p:spPr>
            <a:xfrm>
              <a:off x="669960" y="1200240"/>
              <a:ext cx="26892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39800" y="1236600"/>
              <a:ext cx="256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Ежегодно боле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170 000 </a:t>
              </a: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визитов на Порт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Группа 28"/>
          <p:cNvGrpSpPr/>
          <p:nvPr/>
        </p:nvGrpSpPr>
        <p:grpSpPr>
          <a:xfrm>
            <a:off x="39960" y="2565360"/>
            <a:ext cx="3595320" cy="1066680"/>
            <a:chOff x="39960" y="2565360"/>
            <a:chExt cx="3595320" cy="1066680"/>
          </a:xfrm>
        </p:grpSpPr>
        <p:sp>
          <p:nvSpPr>
            <p:cNvPr id="341" name="Прямоугольник 29"/>
            <p:cNvSpPr/>
            <p:nvPr/>
          </p:nvSpPr>
          <p:spPr>
            <a:xfrm>
              <a:off x="42840" y="2565360"/>
              <a:ext cx="3592440" cy="61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Организация форумов и фестива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Равнобедренный треугольник 30"/>
            <p:cNvSpPr/>
            <p:nvPr/>
          </p:nvSpPr>
          <p:spPr>
            <a:xfrm rot="2271600">
              <a:off x="45360" y="3151080"/>
              <a:ext cx="757080" cy="27792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Номер слайда 2"/>
          <p:cNvSpPr/>
          <p:nvPr/>
        </p:nvSpPr>
        <p:spPr>
          <a:xfrm>
            <a:off x="6980400" y="6531120"/>
            <a:ext cx="2133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01E0-2D1D-4B6E-A6AD-C6973CF5D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Прямоугольник 4"/>
          <p:cNvGrpSpPr/>
          <p:nvPr/>
        </p:nvGrpSpPr>
        <p:grpSpPr>
          <a:xfrm>
            <a:off x="835200" y="5261040"/>
            <a:ext cx="7759440" cy="1639800"/>
            <a:chOff x="835200" y="5261040"/>
            <a:chExt cx="7759440" cy="1639800"/>
          </a:xfrm>
        </p:grpSpPr>
        <p:pic>
          <p:nvPicPr>
            <p:cNvPr id="345" name="Прямоугольник 4" descr=""/>
            <p:cNvPicPr/>
            <p:nvPr/>
          </p:nvPicPr>
          <p:blipFill>
            <a:blip r:embed="rId8"/>
            <a:stretch/>
          </p:blipFill>
          <p:spPr>
            <a:xfrm>
              <a:off x="835200" y="5261040"/>
              <a:ext cx="77594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893880" y="5294160"/>
              <a:ext cx="7646760" cy="14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Консультационные услуги по вопросам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финансового планирова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маркетингового сопровождения деятельности и бизнес-планированию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атентно-лицензионного сопровождения деятельности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авового обеспечения деятельности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информационного сопровождения деятельности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одбора персонала, по вопросам применения трудового законодательства РФ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Группа 19" descr=""/>
          <p:cNvPicPr/>
          <p:nvPr/>
        </p:nvPicPr>
        <p:blipFill>
          <a:blip r:embed="rId9"/>
          <a:stretch/>
        </p:blipFill>
        <p:spPr>
          <a:xfrm>
            <a:off x="182520" y="4584600"/>
            <a:ext cx="3603600" cy="11210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0" descr=""/>
          <p:cNvPicPr/>
          <p:nvPr/>
        </p:nvPicPr>
        <p:blipFill>
          <a:blip r:embed="rId10"/>
          <a:stretch/>
        </p:blipFill>
        <p:spPr>
          <a:xfrm>
            <a:off x="4716360" y="436572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0" descr=""/>
          <p:cNvPicPr/>
          <p:nvPr/>
        </p:nvPicPr>
        <p:blipFill>
          <a:blip r:embed="rId1"/>
          <a:stretch/>
        </p:blipFill>
        <p:spPr>
          <a:xfrm>
            <a:off x="689040" y="987480"/>
            <a:ext cx="1852560" cy="18525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21"/>
          <p:cNvSpPr/>
          <p:nvPr/>
        </p:nvSpPr>
        <p:spPr>
          <a:xfrm>
            <a:off x="115920" y="115920"/>
            <a:ext cx="4024440" cy="649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азвитие системы бизнес -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омер слайда 7"/>
          <p:cNvSpPr/>
          <p:nvPr/>
        </p:nvSpPr>
        <p:spPr>
          <a:xfrm>
            <a:off x="682452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8DF2-02B6-4CA1-84C9-7525D753C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Прямоугольник 23"/>
          <p:cNvGrpSpPr/>
          <p:nvPr/>
        </p:nvGrpSpPr>
        <p:grpSpPr>
          <a:xfrm>
            <a:off x="2766960" y="847800"/>
            <a:ext cx="6224760" cy="628200"/>
            <a:chOff x="2766960" y="847800"/>
            <a:chExt cx="6224760" cy="628200"/>
          </a:xfrm>
        </p:grpSpPr>
        <p:pic>
          <p:nvPicPr>
            <p:cNvPr id="354" name="Прямоугольник 23" descr=""/>
            <p:cNvPicPr/>
            <p:nvPr/>
          </p:nvPicPr>
          <p:blipFill>
            <a:blip r:embed="rId2"/>
            <a:stretch/>
          </p:blipFill>
          <p:spPr>
            <a:xfrm>
              <a:off x="2766960" y="847800"/>
              <a:ext cx="6224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51200" y="895320"/>
              <a:ext cx="608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оект «Начинающий предприниматель»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апрель</a:t>
              </a:r>
              <a:r>
                <a:rPr b="1" lang="en-US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–</a:t>
              </a:r>
              <a:r>
                <a:rPr b="1" lang="en-US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ию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Прямоугольник 24"/>
          <p:cNvGrpSpPr/>
          <p:nvPr/>
        </p:nvGrpSpPr>
        <p:grpSpPr>
          <a:xfrm>
            <a:off x="2835360" y="1487520"/>
            <a:ext cx="6143400" cy="785880"/>
            <a:chOff x="2835360" y="1487520"/>
            <a:chExt cx="6143400" cy="785880"/>
          </a:xfrm>
        </p:grpSpPr>
        <p:pic>
          <p:nvPicPr>
            <p:cNvPr id="357" name="Прямоугольник 24" descr=""/>
            <p:cNvPicPr/>
            <p:nvPr/>
          </p:nvPicPr>
          <p:blipFill>
            <a:blip r:embed="rId3"/>
            <a:stretch/>
          </p:blipFill>
          <p:spPr>
            <a:xfrm>
              <a:off x="2835360" y="1487520"/>
              <a:ext cx="6143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922480" y="1538280"/>
              <a:ext cx="598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овышение квалификации действующих предпринимателей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сентябрь – ноябр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Прямоугольник 25"/>
          <p:cNvGrpSpPr/>
          <p:nvPr/>
        </p:nvGrpSpPr>
        <p:grpSpPr>
          <a:xfrm>
            <a:off x="2835360" y="2359080"/>
            <a:ext cx="6126120" cy="603360"/>
            <a:chOff x="2835360" y="2359080"/>
            <a:chExt cx="6126120" cy="603360"/>
          </a:xfrm>
        </p:grpSpPr>
        <p:pic>
          <p:nvPicPr>
            <p:cNvPr id="360" name="Прямоугольник 25" descr=""/>
            <p:cNvPicPr/>
            <p:nvPr/>
          </p:nvPicPr>
          <p:blipFill>
            <a:blip r:embed="rId4"/>
            <a:stretch/>
          </p:blipFill>
          <p:spPr>
            <a:xfrm>
              <a:off x="2835360" y="2359080"/>
              <a:ext cx="6126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919240" y="2409840"/>
              <a:ext cx="59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оект «Школа инноваторов»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сентябрь – ноябр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Прямоугольник 26"/>
          <p:cNvGrpSpPr/>
          <p:nvPr/>
        </p:nvGrpSpPr>
        <p:grpSpPr>
          <a:xfrm>
            <a:off x="96840" y="2938320"/>
            <a:ext cx="8875800" cy="779760"/>
            <a:chOff x="96840" y="2938320"/>
            <a:chExt cx="8875800" cy="779760"/>
          </a:xfrm>
        </p:grpSpPr>
        <p:pic>
          <p:nvPicPr>
            <p:cNvPr id="363" name="Прямоугольник 26" descr=""/>
            <p:cNvPicPr/>
            <p:nvPr/>
          </p:nvPicPr>
          <p:blipFill>
            <a:blip r:embed="rId5"/>
            <a:stretch/>
          </p:blipFill>
          <p:spPr>
            <a:xfrm>
              <a:off x="96840" y="2938320"/>
              <a:ext cx="887580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84320" y="2987640"/>
              <a:ext cx="873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Обучение экспортеров Кировской области по вопросам внешнеэкономической деятельности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5 семин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Прямоугольник 27"/>
          <p:cNvGrpSpPr/>
          <p:nvPr/>
        </p:nvGrpSpPr>
        <p:grpSpPr>
          <a:xfrm>
            <a:off x="122400" y="3968640"/>
            <a:ext cx="8869320" cy="1176480"/>
            <a:chOff x="122400" y="3968640"/>
            <a:chExt cx="8869320" cy="1176480"/>
          </a:xfrm>
        </p:grpSpPr>
        <p:pic>
          <p:nvPicPr>
            <p:cNvPr id="366" name="Прямоугольник 27" descr=""/>
            <p:cNvPicPr/>
            <p:nvPr/>
          </p:nvPicPr>
          <p:blipFill>
            <a:blip r:embed="rId6"/>
            <a:stretch/>
          </p:blipFill>
          <p:spPr>
            <a:xfrm>
              <a:off x="122400" y="3968640"/>
              <a:ext cx="88693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09520" y="4016520"/>
              <a:ext cx="872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Обучение специалистов туриндустрии - развитие событийного туризма, создание брендовых туристических маршрутов, развитие сельского туризма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2 семина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Прямоугольник 29"/>
          <p:cNvSpPr/>
          <p:nvPr/>
        </p:nvSpPr>
        <p:spPr>
          <a:xfrm>
            <a:off x="1187280" y="2205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Прямоугольник 32"/>
          <p:cNvGrpSpPr/>
          <p:nvPr/>
        </p:nvGrpSpPr>
        <p:grpSpPr>
          <a:xfrm>
            <a:off x="122400" y="5248440"/>
            <a:ext cx="8869320" cy="1023840"/>
            <a:chOff x="122400" y="5248440"/>
            <a:chExt cx="8869320" cy="1023840"/>
          </a:xfrm>
        </p:grpSpPr>
        <p:pic>
          <p:nvPicPr>
            <p:cNvPr id="370" name="Прямоугольник 32" descr=""/>
            <p:cNvPicPr/>
            <p:nvPr/>
          </p:nvPicPr>
          <p:blipFill>
            <a:blip r:embed="rId7"/>
            <a:stretch/>
          </p:blipFill>
          <p:spPr>
            <a:xfrm>
              <a:off x="122400" y="5248440"/>
              <a:ext cx="88693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09520" y="5294160"/>
              <a:ext cx="872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оведение ряда бесплатных образовательных мероприятий по темам, предложенным предпринимательским сообществом Кировской области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10 семин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Равнобедренный треугольник 14"/>
          <p:cNvSpPr/>
          <p:nvPr/>
        </p:nvSpPr>
        <p:spPr>
          <a:xfrm rot="2271600">
            <a:off x="126720" y="7473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8:33:39Z</dcterms:created>
  <dc:creator>Пользователь</dc:creator>
  <dc:description/>
  <dc:language>en-US</dc:language>
  <cp:lastModifiedBy>user</cp:lastModifiedBy>
  <cp:lastPrinted>2017-02-28T12:31:17Z</cp:lastPrinted>
  <dcterms:modified xsi:type="dcterms:W3CDTF">2017-03-03T07:37:26Z</dcterms:modified>
  <cp:revision>863</cp:revision>
  <dc:subject/>
  <dc:title>Презентация PowerPoint</dc:title>
</cp:coreProperties>
</file>