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AE77-4C30-42BB-8D43-B0342B11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F98E-C762-4C04-9B8F-4CB20D9E2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3D70-54CA-4068-A70C-6464EA10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86C8-623E-46F5-A3B5-DA8837804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6574-F3D7-432F-B3F6-A317BCE2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4248-9A86-471C-8880-F79123316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1DC-2931-4D69-84F5-B5D938A8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2CF-CC42-46A3-B9DD-68D714C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7E5-108B-4423-879A-F90E24BA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BF8-73E8-4E4D-A4CE-CBBECF2B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731-DB77-4DB6-8F98-B3E9ACF4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7AC-F230-4656-B487-38D9B7F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3D2-03BF-4C37-A09C-0E46F1B4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3C5-AB69-4025-BEAF-F10912F2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297-C6A2-4601-938A-DBE8E8D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EB0-DB4F-4022-A5C1-DF8B847C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E18-7729-4AEC-983C-3BF106B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280-F5CA-41B1-A3CA-42888DF1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PresentationPr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0C9E-F7C8-49D0-953E-D03AB2C285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51055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Молочный комплекс 2400 дойных к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www.rosmaket.ru/old2/makets/kp14/2-4-2.jpg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3597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Nobel-Agro_logo"/>
          <p:cNvPicPr/>
          <p:nvPr/>
        </p:nvPicPr>
        <p:blipFill>
          <a:blip r:embed="rId2"/>
          <a:stretch/>
        </p:blipFill>
        <p:spPr>
          <a:xfrm>
            <a:off x="7848720" y="228600"/>
            <a:ext cx="1003320" cy="927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04920" y="304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</a:rPr>
              <a:t>АО “Орёл Нобель-Агро</a:t>
            </a:r>
            <a:r>
              <a:rPr b="1" lang="ru-RU" sz="4000" spc="-1" strike="noStrike">
                <a:solidFill>
                  <a:srgbClr val="604a7b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7360"/>
            <a:ext cx="41911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Calibri"/>
              </a:rPr>
              <a:t>АО “Орёл Нобель-Агро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160" y="990720"/>
            <a:ext cx="7391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03 год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чало деятельности агробизнеса в Орловской обла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АО “Орёл Нобель-Агро”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f79646"/>
                </a:solidFill>
                <a:latin typeface="Calibri"/>
              </a:rPr>
              <a:t>ЗАО </a:t>
            </a:r>
            <a:r>
              <a:rPr b="1" lang="en-US" sz="1400" spc="-1" strike="noStrike">
                <a:solidFill>
                  <a:srgbClr val="f79646"/>
                </a:solidFill>
                <a:latin typeface="Calibri"/>
              </a:rPr>
              <a:t>“</a:t>
            </a:r>
            <a:r>
              <a:rPr b="1" lang="ru-RU" sz="1400" spc="-1" strike="noStrike">
                <a:solidFill>
                  <a:srgbClr val="f79646"/>
                </a:solidFill>
                <a:latin typeface="Calibri"/>
              </a:rPr>
              <a:t>Колпнянский Элеватор</a:t>
            </a:r>
            <a:r>
              <a:rPr b="1" lang="en-US" sz="1400" spc="-1" strike="noStrike">
                <a:solidFill>
                  <a:srgbClr val="f79646"/>
                </a:solidFill>
                <a:latin typeface="Calibri"/>
              </a:rPr>
              <a:t>”</a:t>
            </a:r>
            <a:r>
              <a:rPr b="1" lang="ru-RU" sz="1400" spc="-1" strike="noStrike">
                <a:solidFill>
                  <a:srgbClr val="f79646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активе </a:t>
            </a: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АО “Орёл Нобель-Агро</a:t>
            </a:r>
            <a:r>
              <a:rPr b="0" lang="ru-RU" sz="1400" spc="-1" strike="noStrike">
                <a:solidFill>
                  <a:srgbClr val="4f81bd"/>
                </a:solidFill>
                <a:latin typeface="Calibri"/>
              </a:rPr>
              <a:t>”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кол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0 тыс г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емли в Орловской области (Колпнянский, Новосильский район), из них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8 тыс. г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обрабатываемы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жегодно вводится +2-3 тыс 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обственности порядка 25 тыс га сельхозугод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ые выращиваемые культуры: озимая пшеница, ячмень, гречиха, подсолнечн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ъем производства порядка 150 тыс тн/год, урожайность пшеницы 50-60 ц/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довой оборот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,5 млрд ру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ый персонал порядка 250 чело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арк техники – боле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50 единиц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временной техники. Оборудован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PS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тчи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щности действующего элеватора составляют 83 тыс. т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изводительность приемки 4700 тн/сут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грузки ж/д транспортом (12 вагонов)  и автотранспорт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орудованная лаборато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017-2018гг планируется расширение элеватора на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+50 тыс т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ализуемый проект по животноводств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восильский район : на стадии проектирования проект строительства животноводческого комплекса на 3000 фуражных ко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927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"/>
          <p:cNvPicPr/>
          <p:nvPr/>
        </p:nvPicPr>
        <p:blipFill>
          <a:blip r:embed="rId2"/>
          <a:stretch/>
        </p:blipFill>
        <p:spPr>
          <a:xfrm>
            <a:off x="7010280" y="5672160"/>
            <a:ext cx="1890720" cy="923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Nobel-Agro_logo"/>
          <p:cNvPicPr/>
          <p:nvPr/>
        </p:nvPicPr>
        <p:blipFill>
          <a:blip r:embed="rId3"/>
          <a:stretch/>
        </p:blipFill>
        <p:spPr>
          <a:xfrm>
            <a:off x="7848720" y="228600"/>
            <a:ext cx="1003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Операционные мощности компле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371600"/>
          <a:ext cx="7848720" cy="4957920"/>
        </p:xfrm>
        <a:graphic>
          <a:graphicData uri="http://schemas.openxmlformats.org/drawingml/2006/table">
            <a:tbl>
              <a:tblPr/>
              <a:tblGrid>
                <a:gridCol w="4149720"/>
                <a:gridCol w="2075040"/>
                <a:gridCol w="1623960"/>
              </a:tblGrid>
              <a:tr h="39672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Ед.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84636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Общее погол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Поголовье фура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в т.ч дой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г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5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2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2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180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Расчетная продук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Кг/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9 500-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216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Суточный объем мо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тн/с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3344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Объем сочных кор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т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8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7132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Требуемая площадь для заготовки кор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180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Требуемая площадь застройки и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9528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Численность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1452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Средняя заработная 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тыс.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1452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Уплата налогов в 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83114"/>
                          </a:solidFill>
                          <a:latin typeface="Calibri"/>
                        </a:rPr>
                        <a:t>млн.руб/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pic>
        <p:nvPicPr>
          <p:cNvPr id="59" name="Рисунок 1" descr="Nobel-Agro_logo"/>
          <p:cNvPicPr/>
          <p:nvPr/>
        </p:nvPicPr>
        <p:blipFill>
          <a:blip r:embed="rId1"/>
          <a:stretch/>
        </p:blipFill>
        <p:spPr>
          <a:xfrm>
            <a:off x="7848720" y="228600"/>
            <a:ext cx="1003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3"/>
          <p:cNvSpPr/>
          <p:nvPr/>
        </p:nvSpPr>
        <p:spPr>
          <a:xfrm>
            <a:off x="2819520" y="2743200"/>
            <a:ext cx="761760" cy="106668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2514600" y="3733920"/>
            <a:ext cx="4191120" cy="15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Концепт 24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62920" y="1142640"/>
            <a:ext cx="1828800" cy="3962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-ДМБ(селекц. бл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-спец Д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3-нас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4-вет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5-сепаратор нав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-8 – корпуса дой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9-13-ремонтный молод</a:t>
            </a: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14-врем хранение нав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15-16 лаг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17-компостная площ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18- модуль для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19- модуль для конск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0-сенохран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1-соломохран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2-31 –траншеи для силоса и сен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2-кремат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562720" y="2743200"/>
            <a:ext cx="53316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3429000" y="3886200"/>
            <a:ext cx="457200" cy="38088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5"/>
          <p:cNvSpPr/>
          <p:nvPr/>
        </p:nvSpPr>
        <p:spPr>
          <a:xfrm rot="5400000">
            <a:off x="151920" y="4190760"/>
            <a:ext cx="9144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6"/>
          <p:cNvSpPr/>
          <p:nvPr/>
        </p:nvSpPr>
        <p:spPr>
          <a:xfrm rot="5400000">
            <a:off x="151920" y="3047760"/>
            <a:ext cx="9144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7"/>
          <p:cNvSpPr/>
          <p:nvPr/>
        </p:nvSpPr>
        <p:spPr>
          <a:xfrm>
            <a:off x="609480" y="5334120"/>
            <a:ext cx="533520" cy="4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83114"/>
                </a:solidFill>
                <a:latin typeface="Calibri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8"/>
          <p:cNvSpPr/>
          <p:nvPr/>
        </p:nvSpPr>
        <p:spPr>
          <a:xfrm>
            <a:off x="990720" y="4038480"/>
            <a:ext cx="228600" cy="76212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9"/>
          <p:cNvSpPr/>
          <p:nvPr/>
        </p:nvSpPr>
        <p:spPr>
          <a:xfrm>
            <a:off x="5105520" y="3429000"/>
            <a:ext cx="457200" cy="30492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20"/>
          <p:cNvSpPr/>
          <p:nvPr/>
        </p:nvSpPr>
        <p:spPr>
          <a:xfrm>
            <a:off x="1523880" y="3733920"/>
            <a:ext cx="762120" cy="15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5715000" y="5715000"/>
            <a:ext cx="1295280" cy="83808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6"/>
          <p:cNvSpPr/>
          <p:nvPr/>
        </p:nvSpPr>
        <p:spPr>
          <a:xfrm rot="5400000">
            <a:off x="5638320" y="1295280"/>
            <a:ext cx="1295640" cy="38124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27"/>
          <p:cNvSpPr/>
          <p:nvPr/>
        </p:nvSpPr>
        <p:spPr>
          <a:xfrm>
            <a:off x="4267080" y="1600200"/>
            <a:ext cx="1447920" cy="3808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28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22-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29"/>
          <p:cNvSpPr/>
          <p:nvPr/>
        </p:nvSpPr>
        <p:spPr>
          <a:xfrm rot="5400000">
            <a:off x="4457880" y="5448240"/>
            <a:ext cx="838080" cy="1371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0"/>
          <p:cNvSpPr/>
          <p:nvPr/>
        </p:nvSpPr>
        <p:spPr>
          <a:xfrm>
            <a:off x="609480" y="5943600"/>
            <a:ext cx="2362320" cy="60948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1"/>
          <p:cNvSpPr/>
          <p:nvPr/>
        </p:nvSpPr>
        <p:spPr>
          <a:xfrm>
            <a:off x="2819520" y="3886200"/>
            <a:ext cx="609480" cy="762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32"/>
          <p:cNvSpPr/>
          <p:nvPr/>
        </p:nvSpPr>
        <p:spPr>
          <a:xfrm>
            <a:off x="4267080" y="838080"/>
            <a:ext cx="1447920" cy="38124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33"/>
          <p:cNvSpPr/>
          <p:nvPr/>
        </p:nvSpPr>
        <p:spPr>
          <a:xfrm rot="5400000">
            <a:off x="2895120" y="1295280"/>
            <a:ext cx="1295640" cy="38124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38"/>
          <p:cNvSpPr/>
          <p:nvPr/>
        </p:nvSpPr>
        <p:spPr>
          <a:xfrm>
            <a:off x="3276720" y="6095880"/>
            <a:ext cx="533160" cy="38124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4648320" y="2743200"/>
            <a:ext cx="45720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3886200" y="2743200"/>
            <a:ext cx="45720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34"/>
          <p:cNvSpPr/>
          <p:nvPr/>
        </p:nvSpPr>
        <p:spPr>
          <a:xfrm>
            <a:off x="6400800" y="2743200"/>
            <a:ext cx="53352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1981080" y="2743200"/>
            <a:ext cx="53352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1219320" y="2743200"/>
            <a:ext cx="45720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3114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кругленный прямоугольник 35"/>
          <p:cNvSpPr/>
          <p:nvPr/>
        </p:nvSpPr>
        <p:spPr>
          <a:xfrm>
            <a:off x="380880" y="685800"/>
            <a:ext cx="6324840" cy="1600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кругленный прямоугольник 36"/>
          <p:cNvSpPr/>
          <p:nvPr/>
        </p:nvSpPr>
        <p:spPr>
          <a:xfrm>
            <a:off x="4495680" y="2590920"/>
            <a:ext cx="2514600" cy="2361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39"/>
          <p:cNvSpPr/>
          <p:nvPr/>
        </p:nvSpPr>
        <p:spPr>
          <a:xfrm>
            <a:off x="838080" y="2590920"/>
            <a:ext cx="3581640" cy="2361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кругленный прямоугольник 40"/>
          <p:cNvSpPr/>
          <p:nvPr/>
        </p:nvSpPr>
        <p:spPr>
          <a:xfrm>
            <a:off x="304920" y="5181480"/>
            <a:ext cx="6858000" cy="15242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Рисунок 1" descr="Nobel-Agro_logo"/>
          <p:cNvPicPr/>
          <p:nvPr/>
        </p:nvPicPr>
        <p:blipFill>
          <a:blip r:embed="rId1"/>
          <a:stretch/>
        </p:blipFill>
        <p:spPr>
          <a:xfrm>
            <a:off x="7848720" y="152280"/>
            <a:ext cx="10033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Сроки ввода мощностей проекта, </a:t>
            </a:r>
            <a:br>
              <a:rPr sz="2400"/>
            </a:b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голов дойных к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1295280"/>
          <a:ext cx="7162560" cy="2835360"/>
        </p:xfrm>
        <a:graphic>
          <a:graphicData uri="http://schemas.openxmlformats.org/drawingml/2006/table">
            <a:tbl>
              <a:tblPr/>
              <a:tblGrid>
                <a:gridCol w="1977840"/>
                <a:gridCol w="955800"/>
                <a:gridCol w="1568520"/>
                <a:gridCol w="2660400"/>
              </a:tblGrid>
              <a:tr h="73188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a62a8"/>
                          </a:solidFill>
                          <a:latin typeface="Calibri"/>
                        </a:rPr>
                        <a:t>Этап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a62a8"/>
                          </a:solidFill>
                          <a:latin typeface="Calibri"/>
                        </a:rPr>
                        <a:t>Мощность голов, дой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a62a8"/>
                          </a:solidFill>
                          <a:latin typeface="Calibri"/>
                        </a:rPr>
                        <a:t>Сроки в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a62a8"/>
                          </a:solidFill>
                          <a:latin typeface="Calibri"/>
                        </a:rPr>
                        <a:t>Краткое 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720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этап (12,5% мощ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/ 6 мес от начала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ск корпуса спец назначения, покупка 300 не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2224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этап (50% мощ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/з 1 год от начала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ск ДМБ с корпусами для содержания 1200 голов дойного со шлейфом, покупка  1000 нетелей (3 парт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2404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этап (100% мощ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/з 3 года от начала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ск корпусов для содержания дополнительно 1200 гол дойного со шлейфом  покупка 1000 нетелей (3 парт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pic>
        <p:nvPicPr>
          <p:cNvPr id="94" name="Рисунок 1" descr="Nobel-Agro_logo"/>
          <p:cNvPicPr/>
          <p:nvPr/>
        </p:nvPicPr>
        <p:blipFill>
          <a:blip r:embed="rId1"/>
          <a:stretch/>
        </p:blipFill>
        <p:spPr>
          <a:xfrm>
            <a:off x="7848720" y="228600"/>
            <a:ext cx="1003320" cy="92700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6" descr=""/>
          <p:cNvPicPr/>
          <p:nvPr/>
        </p:nvPicPr>
        <p:blipFill>
          <a:blip r:embed="rId2"/>
          <a:stretch/>
        </p:blipFill>
        <p:spPr>
          <a:xfrm>
            <a:off x="603360" y="4340160"/>
            <a:ext cx="7248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ценка структуры инвести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219320"/>
          <a:ext cx="4876560" cy="4190760"/>
        </p:xfrm>
        <a:graphic>
          <a:graphicData uri="http://schemas.openxmlformats.org/drawingml/2006/table">
            <a:tbl>
              <a:tblPr/>
              <a:tblGrid>
                <a:gridCol w="2971800"/>
                <a:gridCol w="1904760"/>
              </a:tblGrid>
              <a:tr h="70416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ья зат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5028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1804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ительство , вкл благоустро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1356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4560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  доильн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1804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ика животноводство в т.ч 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5784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ика растение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5784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упка не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3768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 18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87720">
                <a:tc>
                  <a:txBody>
                    <a:bodyPr lIns="67320" rIns="67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одного ското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7320" rIns="673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98" name="Заголовок 1"/>
          <p:cNvSpPr/>
          <p:nvPr/>
        </p:nvSpPr>
        <p:spPr>
          <a:xfrm>
            <a:off x="685800" y="55627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Окупаемость проекта 9 лет с начала строительств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реднегодовой доход при выходе на полную мощность 750 млн ру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1" descr="Nobel-Agro_logo"/>
          <p:cNvPicPr/>
          <p:nvPr/>
        </p:nvPicPr>
        <p:blipFill>
          <a:blip r:embed="rId1"/>
          <a:stretch/>
        </p:blipFill>
        <p:spPr>
          <a:xfrm>
            <a:off x="7848720" y="228600"/>
            <a:ext cx="1003320" cy="927000"/>
          </a:xfrm>
          <a:prstGeom prst="rect">
            <a:avLst/>
          </a:prstGeom>
          <a:ln w="0">
            <a:noFill/>
          </a:ln>
        </p:spPr>
      </p:pic>
      <p:pic>
        <p:nvPicPr>
          <p:cNvPr id="100" name="Диаграмма 7" descr=""/>
          <p:cNvPicPr/>
          <p:nvPr/>
        </p:nvPicPr>
        <p:blipFill>
          <a:blip r:embed="rId2"/>
          <a:stretch/>
        </p:blipFill>
        <p:spPr>
          <a:xfrm>
            <a:off x="5254560" y="1749600"/>
            <a:ext cx="38959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http://www.redusers.com/noticias/wp-content/uploads/2012/01/DebateSoftDesarrollo1-515x313.jpg"/>
          <p:cNvPicPr/>
          <p:nvPr/>
        </p:nvPicPr>
        <p:blipFill>
          <a:blip r:embed="rId1"/>
          <a:stretch/>
        </p:blipFill>
        <p:spPr>
          <a:xfrm>
            <a:off x="1371600" y="4267080"/>
            <a:ext cx="3882960" cy="2359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Calibri"/>
              </a:rPr>
              <a:t>Потребность в господдержке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ключение проекта в программу по возмещению части понесенных прямых затрат (на текущий момент 20% ФБ +1,1% Р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ключение долгосрочного Инвестиционного соглашения с МСХ Кировской области о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Участие в действующих программах Кир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" descr="Nobel-Agro_logo"/>
          <p:cNvPicPr/>
          <p:nvPr/>
        </p:nvPicPr>
        <p:blipFill>
          <a:blip r:embed="rId2"/>
          <a:stretch/>
        </p:blipFill>
        <p:spPr>
          <a:xfrm>
            <a:off x="7924680" y="228600"/>
            <a:ext cx="1003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Рисунок 1" descr="Nobel-Agro_logo"/>
          <p:cNvPicPr/>
          <p:nvPr/>
        </p:nvPicPr>
        <p:blipFill>
          <a:blip r:embed="rId1"/>
          <a:stretch/>
        </p:blipFill>
        <p:spPr>
          <a:xfrm>
            <a:off x="7924680" y="228600"/>
            <a:ext cx="1003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>Федорова</dc:creator>
  <dc:description/>
  <dc:language>en-US</dc:language>
  <cp:lastModifiedBy>Федорова</cp:lastModifiedBy>
  <cp:lastPrinted>2016-10-25T14:26:17Z</cp:lastPrinted>
  <dcterms:modified xsi:type="dcterms:W3CDTF">2017-03-04T06:38:47Z</dcterms:modified>
  <cp:revision>290</cp:revision>
  <dc:subject/>
  <dc:title>Менеджмент молочного стада КРС</dc:title>
</cp:coreProperties>
</file>