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99CD-9C87-4215-B896-4CCF737E0E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FEBD-6FA4-467A-B239-B58B71BE22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5CBC-C0FD-4477-8B74-5A0A78282C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A6A4-8BD0-4301-BEC3-D690BFCBB1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E359-7256-4023-AAE9-32880B06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596-EB41-4A47-A509-AC9DDA30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613-BD3E-4D85-82A1-341A6290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8EB-780F-4C7E-A75C-5AA3C172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BC2B-6888-4DD0-B7E4-52B7C277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D8F-575C-414F-A4AA-DF7F609A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DFF-89BA-46C0-A9A5-45C88E8E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D008-AA05-447D-BBA5-4E6CF190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56BC-4A8F-482E-AE82-74F72377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5930-5302-431A-8A33-FB5E9F0D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B6FD-51E5-4B3D-AA70-52163F7E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F403-D661-4312-8B0A-5E6BD77A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addc"/>
            </a:gs>
            <a:gs pos="50000">
              <a:srgbClr val="cddaff"/>
            </a:gs>
            <a:gs pos="100000">
              <a:srgbClr val="82a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AECE-93D9-4202-BE3B-08AA9A8FC88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5.pn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17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214200" y="836640"/>
            <a:ext cx="87598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5" descr="https://avatars.mds.yandex.net/i?id=3ff9cdca700494abccb907292d4cb6249acb8d08-8496972-images-thumbs&amp;n=13"/>
          <p:cNvPicPr/>
          <p:nvPr/>
        </p:nvPicPr>
        <p:blipFill>
          <a:blip r:embed="rId1"/>
          <a:stretch/>
        </p:blipFill>
        <p:spPr>
          <a:xfrm>
            <a:off x="285840" y="1214280"/>
            <a:ext cx="8643960" cy="4619880"/>
          </a:xfrm>
          <a:prstGeom prst="rect">
            <a:avLst/>
          </a:prstGeom>
          <a:ln w="0">
            <a:noFill/>
          </a:ln>
        </p:spPr>
      </p:pic>
      <p:pic>
        <p:nvPicPr>
          <p:cNvPr id="50" name="Объект 3" descr=""/>
          <p:cNvPicPr/>
          <p:nvPr/>
        </p:nvPicPr>
        <p:blipFill>
          <a:blip r:embed="rId2"/>
          <a:srcRect l="0" t="0" r="13866" b="41136"/>
          <a:stretch/>
        </p:blipFill>
        <p:spPr>
          <a:xfrm>
            <a:off x="0" y="0"/>
            <a:ext cx="3000240" cy="857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9" descr=""/>
          <p:cNvPicPr/>
          <p:nvPr/>
        </p:nvPicPr>
        <p:blipFill>
          <a:blip r:embed="rId3"/>
          <a:srcRect l="7533" t="4719" r="6412" b="2111"/>
          <a:stretch/>
        </p:blipFill>
        <p:spPr>
          <a:xfrm>
            <a:off x="0" y="0"/>
            <a:ext cx="857160" cy="928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2"/>
          <p:cNvSpPr/>
          <p:nvPr/>
        </p:nvSpPr>
        <p:spPr>
          <a:xfrm>
            <a:off x="3000240" y="142920"/>
            <a:ext cx="5929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МИНИСТЕРСТВО ПРОМЫШЛЕННОСТИ, ПРЕДПРИНИМАТЕЛЬСТВА И ТОРГОВЛ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3"/>
          <p:cNvSpPr/>
          <p:nvPr/>
        </p:nvSpPr>
        <p:spPr>
          <a:xfrm>
            <a:off x="285840" y="1214280"/>
            <a:ext cx="85723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БУЧЕНИЕ ИНВЕСТИЦИОННЫХ УПОЛНОМОЧ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ЛОК: РАЗВИТИЕ ПРОМЫШЛ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4"/>
          <p:cNvSpPr/>
          <p:nvPr/>
        </p:nvSpPr>
        <p:spPr>
          <a:xfrm>
            <a:off x="3463920" y="5929200"/>
            <a:ext cx="22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8.02.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Г. КИ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 flipH="1" flipV="1">
            <a:off x="0" y="928800"/>
            <a:ext cx="91440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4"/>
          <p:cNvSpPr/>
          <p:nvPr/>
        </p:nvSpPr>
        <p:spPr>
          <a:xfrm>
            <a:off x="317520" y="836640"/>
            <a:ext cx="865656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5"/>
          <p:cNvSpPr/>
          <p:nvPr/>
        </p:nvSpPr>
        <p:spPr>
          <a:xfrm>
            <a:off x="3571920" y="142920"/>
            <a:ext cx="5446800" cy="71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Microsoft YaHei UI"/>
              </a:rPr>
              <a:t>ИНФОРМАЦИЯ ПО ОБРАБАТЫВАЮЩИМ ПРОИЗВОДСТВ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Microsoft YaHei UI"/>
              </a:rPr>
              <a:t>за  декабрь  2022 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1114560" y="3716280"/>
            <a:ext cx="28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Декабрь 202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3714840" y="1000080"/>
            <a:ext cx="54291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Microsoft YaHei UI"/>
              </a:rPr>
              <a:t>Индекс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Microsoft YaHei UI"/>
              </a:rPr>
              <a:t>промышленного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Microsoft YaHei UI"/>
              </a:rPr>
              <a:t> производства составляет  </a:t>
            </a:r>
            <a:r>
              <a:rPr b="1" lang="ru-RU" sz="1600" spc="-1" strike="noStrike" u="sng">
                <a:solidFill>
                  <a:srgbClr val="c00000"/>
                </a:solidFill>
                <a:uFillTx/>
                <a:latin typeface="Arial"/>
                <a:ea typeface="Microsoft YaHei UI"/>
              </a:rPr>
              <a:t>102,6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184320" y="4071960"/>
            <a:ext cx="1887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отгружено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c00000"/>
                </a:solidFill>
                <a:uFillTx/>
                <a:latin typeface="Arial"/>
              </a:rPr>
              <a:t>358 млрд . руб</a:t>
            </a:r>
            <a:r>
              <a:rPr b="1" lang="ru-RU" sz="12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9"/>
          <p:cNvSpPr/>
          <p:nvPr/>
        </p:nvSpPr>
        <p:spPr>
          <a:xfrm>
            <a:off x="184320" y="1125360"/>
            <a:ext cx="212724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отгружено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00000"/>
                </a:solidFill>
                <a:uFillTx/>
                <a:latin typeface="Arial"/>
              </a:rPr>
              <a:t>372 млрд 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f497d"/>
                </a:solidFill>
                <a:uFillTx/>
                <a:latin typeface="Arial"/>
              </a:rPr>
              <a:t>темп роста </a:t>
            </a:r>
            <a:r>
              <a:rPr b="1" lang="ru-RU" sz="1200" spc="-1" strike="noStrike" u="sng">
                <a:solidFill>
                  <a:srgbClr val="c00000"/>
                </a:solidFill>
                <a:uFillTx/>
                <a:latin typeface="Arial"/>
              </a:rPr>
              <a:t>106,2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Диаграмма 26"/>
          <p:cNvGraphicFramePr/>
          <p:nvPr/>
        </p:nvGraphicFramePr>
        <p:xfrm>
          <a:off x="923760" y="3933720"/>
          <a:ext cx="3219480" cy="29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Диаграмма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3933720"/>
                    <a:ext cx="321948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000680" y="1500120"/>
          <a:ext cx="4984560" cy="4837320"/>
        </p:xfrm>
        <a:graphic>
          <a:graphicData uri="http://schemas.openxmlformats.org/drawingml/2006/table">
            <a:tbl>
              <a:tblPr/>
              <a:tblGrid>
                <a:gridCol w="280800"/>
                <a:gridCol w="1579680"/>
                <a:gridCol w="865080"/>
                <a:gridCol w="731880"/>
                <a:gridCol w="623880"/>
                <a:gridCol w="903240"/>
              </a:tblGrid>
              <a:tr h="576360">
                <a:tc gridSpan="2">
                  <a:txBody>
                    <a:bodyPr lIns="84240" rIns="84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Обрабатывающие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Отгружено продукции, млрд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Темп роста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Числен-ность, 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Средняя ЗП, 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Химическое производ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92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92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9 3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51 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Машиностроительный комплек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12,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11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27 6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50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Лесоперерабатывающий комплек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41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85,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1 2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39 4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Производство пищевых продук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53,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22,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2 4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40 6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Металлургическое производ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24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18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3 8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57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Производство лекарственных сред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20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08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 7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50 1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Производство меб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6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76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2 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40 3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Легкая промышлен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9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21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7 8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21 2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Прочие</a:t>
                      </a:r>
                      <a:r>
                        <a:rPr b="1" lang="ru-RU" sz="1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 (</a:t>
                      </a:r>
                      <a:r>
                        <a:rPr b="1" i="1" lang="ru-RU" sz="1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соц.знач. товары, полиграф. деят-ть, пр-во прочей немет. минер. прод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2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15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4 1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36 9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Овал 27"/>
          <p:cNvSpPr/>
          <p:nvPr/>
        </p:nvSpPr>
        <p:spPr>
          <a:xfrm>
            <a:off x="4173480" y="4365720"/>
            <a:ext cx="133560" cy="131760"/>
          </a:xfrm>
          <a:prstGeom prst="ellipse">
            <a:avLst/>
          </a:prstGeom>
          <a:solidFill>
            <a:srgbClr val="38a5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8"/>
          <p:cNvSpPr/>
          <p:nvPr/>
        </p:nvSpPr>
        <p:spPr>
          <a:xfrm>
            <a:off x="4173480" y="3933720"/>
            <a:ext cx="133560" cy="131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41"/>
          <p:cNvSpPr/>
          <p:nvPr/>
        </p:nvSpPr>
        <p:spPr>
          <a:xfrm>
            <a:off x="4173480" y="3500280"/>
            <a:ext cx="133560" cy="131760"/>
          </a:xfrm>
          <a:prstGeom prst="ellipse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42"/>
          <p:cNvSpPr/>
          <p:nvPr/>
        </p:nvSpPr>
        <p:spPr>
          <a:xfrm>
            <a:off x="4173480" y="3068640"/>
            <a:ext cx="133560" cy="131760"/>
          </a:xfrm>
          <a:prstGeom prst="ellipse">
            <a:avLst/>
          </a:prstGeom>
          <a:solidFill>
            <a:srgbClr val="bbe2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44"/>
          <p:cNvSpPr/>
          <p:nvPr/>
        </p:nvSpPr>
        <p:spPr>
          <a:xfrm>
            <a:off x="4173480" y="2637000"/>
            <a:ext cx="133560" cy="144360"/>
          </a:xfrm>
          <a:prstGeom prst="ellipse">
            <a:avLst/>
          </a:prstGeom>
          <a:solidFill>
            <a:srgbClr val="853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45"/>
          <p:cNvSpPr/>
          <p:nvPr/>
        </p:nvSpPr>
        <p:spPr>
          <a:xfrm>
            <a:off x="4173480" y="2205000"/>
            <a:ext cx="133560" cy="144360"/>
          </a:xfrm>
          <a:prstGeom prst="ellipse">
            <a:avLst/>
          </a:prstGeom>
          <a:solidFill>
            <a:srgbClr val="f565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46"/>
          <p:cNvSpPr/>
          <p:nvPr/>
        </p:nvSpPr>
        <p:spPr>
          <a:xfrm>
            <a:off x="4173480" y="4797360"/>
            <a:ext cx="133560" cy="131760"/>
          </a:xfrm>
          <a:prstGeom prst="ellipse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47"/>
          <p:cNvSpPr/>
          <p:nvPr/>
        </p:nvSpPr>
        <p:spPr>
          <a:xfrm>
            <a:off x="4173480" y="5229360"/>
            <a:ext cx="133560" cy="131760"/>
          </a:xfrm>
          <a:prstGeom prst="ellips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8"/>
          <p:cNvSpPr/>
          <p:nvPr/>
        </p:nvSpPr>
        <p:spPr>
          <a:xfrm>
            <a:off x="4173480" y="5589720"/>
            <a:ext cx="133560" cy="131760"/>
          </a:xfrm>
          <a:prstGeom prst="ellipse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785880" y="1143000"/>
          <a:ext cx="3357360" cy="2735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5880" y="1143000"/>
                    <a:ext cx="33573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Объект 3" descr=""/>
          <p:cNvPicPr/>
          <p:nvPr/>
        </p:nvPicPr>
        <p:blipFill>
          <a:blip r:embed="rId5"/>
          <a:srcRect l="0" t="0" r="13866" b="41136"/>
          <a:stretch/>
        </p:blipFill>
        <p:spPr>
          <a:xfrm>
            <a:off x="0" y="0"/>
            <a:ext cx="3000240" cy="8571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9" descr=""/>
          <p:cNvPicPr/>
          <p:nvPr/>
        </p:nvPicPr>
        <p:blipFill>
          <a:blip r:embed="rId6"/>
          <a:srcRect l="7533" t="4719" r="6412" b="2111"/>
          <a:stretch/>
        </p:blipFill>
        <p:spPr>
          <a:xfrm>
            <a:off x="0" y="0"/>
            <a:ext cx="857160" cy="9288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ая соединительная линия 21"/>
          <p:cNvSpPr/>
          <p:nvPr/>
        </p:nvSpPr>
        <p:spPr>
          <a:xfrm flipH="1" flipV="1">
            <a:off x="0" y="928800"/>
            <a:ext cx="91440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ая соединительная линия 24"/>
          <p:cNvSpPr/>
          <p:nvPr/>
        </p:nvSpPr>
        <p:spPr>
          <a:xfrm flipH="1">
            <a:off x="3141360" y="1571760"/>
            <a:ext cx="6002280" cy="25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3111480" y="428760"/>
            <a:ext cx="61531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Инвестиции в основной капитал по крупным и средним организациям Кировской области  по чистым видам экономической деятельности                        за январь-сентябрь 202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Объект 3" descr=""/>
          <p:cNvPicPr/>
          <p:nvPr/>
        </p:nvPicPr>
        <p:blipFill>
          <a:blip r:embed="rId1"/>
          <a:srcRect l="0" t="0" r="13866" b="41136"/>
          <a:stretch/>
        </p:blipFill>
        <p:spPr>
          <a:xfrm>
            <a:off x="0" y="0"/>
            <a:ext cx="3000240" cy="8571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"/>
          <p:cNvPicPr/>
          <p:nvPr/>
        </p:nvPicPr>
        <p:blipFill>
          <a:blip r:embed="rId2"/>
          <a:srcRect l="7533" t="4719" r="6412" b="2111"/>
          <a:stretch/>
        </p:blipFill>
        <p:spPr>
          <a:xfrm>
            <a:off x="0" y="0"/>
            <a:ext cx="857160" cy="9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122400" y="1830240"/>
          <a:ext cx="4449600" cy="3981600"/>
        </p:xfrm>
        <a:graphic>
          <a:graphicData uri="http://schemas.openxmlformats.org/drawingml/2006/table">
            <a:tbl>
              <a:tblPr/>
              <a:tblGrid>
                <a:gridCol w="2217600"/>
                <a:gridCol w="792000"/>
                <a:gridCol w="863640"/>
                <a:gridCol w="576360"/>
              </a:tblGrid>
              <a:tr h="108432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период с начала отчетного года, тыс. 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соответст-вующий период прошлого года, тыс. 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620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фанасьевский муниципальны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2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620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охолуницкий муниципальны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620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городский муниципальный окр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6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хнекамский муниципальный окр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 8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,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160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ятскополянский муниципальны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6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620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овской муниципальны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1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9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620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уевский муниципальны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142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рово-Чепецкий муниципальны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8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 2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6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тельничский муниципальны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8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293,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620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мёнский муниципальны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 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620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зский муниципальный окр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 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620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мыжский муниципальны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620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рашинский муниципальный окр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5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9 3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6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линский муниципальны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,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620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мутнинский муниципальны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 0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3 3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,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620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ичевский муниципальны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 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 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670280" y="3271680"/>
          <a:ext cx="4337280" cy="2538720"/>
        </p:xfrm>
        <a:graphic>
          <a:graphicData uri="http://schemas.openxmlformats.org/drawingml/2006/table">
            <a:tbl>
              <a:tblPr/>
              <a:tblGrid>
                <a:gridCol w="2206800"/>
                <a:gridCol w="687240"/>
                <a:gridCol w="865440"/>
                <a:gridCol w="577800"/>
              </a:tblGrid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бодской муниципальны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 5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 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,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7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етский муниципальны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6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73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нинский муниципальный окр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5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7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жумский муниципальны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8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4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,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7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ленский муниципальный окр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7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ловский муниципальны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8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73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рьянский муниципальны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 7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6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7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ранский муниципальны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7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Ки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462 5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501 2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7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 Вятские Поля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6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9,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1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 Кирово-Чепец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29 6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66 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73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Котельн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 7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7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Слободск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7 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 3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,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232 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767 4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667400" y="1830240"/>
          <a:ext cx="4336920" cy="1084320"/>
        </p:xfrm>
        <a:graphic>
          <a:graphicData uri="http://schemas.openxmlformats.org/drawingml/2006/table">
            <a:tbl>
              <a:tblPr/>
              <a:tblGrid>
                <a:gridCol w="2208240"/>
                <a:gridCol w="688680"/>
                <a:gridCol w="863640"/>
                <a:gridCol w="576360"/>
              </a:tblGrid>
              <a:tr h="108432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период с начала отчетного года, тыс. 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соответст-вующий период прошлого года, тыс. 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672080" y="2913120"/>
          <a:ext cx="4336920" cy="174600"/>
        </p:xfrm>
        <a:graphic>
          <a:graphicData uri="http://schemas.openxmlformats.org/drawingml/2006/table">
            <a:tbl>
              <a:tblPr/>
              <a:tblGrid>
                <a:gridCol w="2205000"/>
                <a:gridCol w="692280"/>
                <a:gridCol w="863280"/>
                <a:gridCol w="576360"/>
              </a:tblGrid>
              <a:tr h="17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жанский муниципальный окр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8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667400" y="3087720"/>
          <a:ext cx="4336920" cy="187200"/>
        </p:xfrm>
        <a:graphic>
          <a:graphicData uri="http://schemas.openxmlformats.org/drawingml/2006/table">
            <a:tbl>
              <a:tblPr/>
              <a:tblGrid>
                <a:gridCol w="2208240"/>
                <a:gridCol w="688680"/>
                <a:gridCol w="863640"/>
                <a:gridCol w="576360"/>
              </a:tblGrid>
              <a:tr h="18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осиновский муниципальны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8,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8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ая соединительная линия 24"/>
          <p:cNvSpPr/>
          <p:nvPr/>
        </p:nvSpPr>
        <p:spPr>
          <a:xfrm flipH="1" flipV="1">
            <a:off x="0" y="121392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3000240" y="285840"/>
            <a:ext cx="5929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  <a:ea typeface="Arial"/>
              </a:rPr>
              <a:t>ГОСУДАРСТВЕННАЯ ИНФОРМАЦИОННАЯ СИСТЕМА ПРОМЫШЛ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  <a:ea typeface="Arial"/>
              </a:rPr>
              <a:t>(ГИСП) (</a:t>
            </a:r>
            <a:r>
              <a:rPr b="1" lang="en-US" sz="1800" spc="-1" strike="noStrike">
                <a:solidFill>
                  <a:srgbClr val="002060"/>
                </a:solidFill>
                <a:latin typeface="Arial Black"/>
                <a:ea typeface="Arial"/>
              </a:rPr>
              <a:t>www.gisp.gov.ru</a:t>
            </a:r>
            <a:r>
              <a:rPr b="1" lang="ru-RU" sz="1800" spc="-1" strike="noStrike">
                <a:solidFill>
                  <a:srgbClr val="002060"/>
                </a:solidFill>
                <a:latin typeface="Arial Black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Объект 3" descr=""/>
          <p:cNvPicPr/>
          <p:nvPr/>
        </p:nvPicPr>
        <p:blipFill>
          <a:blip r:embed="rId1"/>
          <a:srcRect l="0" t="0" r="13866" b="41136"/>
          <a:stretch/>
        </p:blipFill>
        <p:spPr>
          <a:xfrm>
            <a:off x="0" y="0"/>
            <a:ext cx="3000240" cy="8571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9" descr=""/>
          <p:cNvPicPr/>
          <p:nvPr/>
        </p:nvPicPr>
        <p:blipFill>
          <a:blip r:embed="rId2"/>
          <a:srcRect l="7533" t="4719" r="6412" b="2111"/>
          <a:stretch/>
        </p:blipFill>
        <p:spPr>
          <a:xfrm>
            <a:off x="0" y="0"/>
            <a:ext cx="857160" cy="928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9" descr="https://t43.ru/upload/iblock/d09/fcte07ail6uhdcqadzsq0w4khe0k7yn6.png"/>
          <p:cNvPicPr/>
          <p:nvPr/>
        </p:nvPicPr>
        <p:blipFill>
          <a:blip r:embed="rId3"/>
          <a:stretch/>
        </p:blipFill>
        <p:spPr>
          <a:xfrm>
            <a:off x="7429680" y="500040"/>
            <a:ext cx="1714320" cy="7142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32"/>
          <p:cNvSpPr/>
          <p:nvPr/>
        </p:nvSpPr>
        <p:spPr>
          <a:xfrm>
            <a:off x="357120" y="1357200"/>
            <a:ext cx="77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Ключевые функционирующие сервисы ГИСП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3"/>
          <p:cNvSpPr/>
          <p:nvPr/>
        </p:nvSpPr>
        <p:spPr>
          <a:xfrm>
            <a:off x="928800" y="18572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Государственная поддержка промышленности                                                                      </a:t>
            </a:r>
            <a:r>
              <a:rPr b="0" i="1" lang="ru-RU" sz="1200" spc="-1" strike="noStrike">
                <a:solidFill>
                  <a:srgbClr val="002060"/>
                </a:solidFill>
                <a:latin typeface="Arial"/>
              </a:rPr>
              <a:t>(меры поддержки и инструменты импортозамещен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4"/>
          <p:cNvSpPr/>
          <p:nvPr/>
        </p:nvSpPr>
        <p:spPr>
          <a:xfrm>
            <a:off x="928800" y="2567160"/>
            <a:ext cx="442908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Продвижение продукции и развитие производства </a:t>
            </a:r>
            <a:r>
              <a:rPr b="0" i="1" lang="ru-RU" sz="1200" spc="-1" strike="noStrike">
                <a:solidFill>
                  <a:srgbClr val="002060"/>
                </a:solidFill>
                <a:latin typeface="Arial"/>
              </a:rPr>
              <a:t>(сервис Импортозамещения, каталог промышленной продукции, маркетплейс для малого и среднего бизнеса и др.)  )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35"/>
          <p:cNvSpPr/>
          <p:nvPr/>
        </p:nvSpPr>
        <p:spPr>
          <a:xfrm>
            <a:off x="6215040" y="4071960"/>
            <a:ext cx="264312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Отчет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Arial"/>
              </a:rPr>
              <a:t>(отчетность СИЗ, инвентаризация химических  веществ, информация о высвобождаемом персонале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6"/>
          <p:cNvSpPr/>
          <p:nvPr/>
        </p:nvSpPr>
        <p:spPr>
          <a:xfrm>
            <a:off x="1000080" y="3429000"/>
            <a:ext cx="450072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Информационные сервисы                                            (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база знаний, видео-инструкции, каталог предприятий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7"/>
          <p:cNvSpPr/>
          <p:nvPr/>
        </p:nvSpPr>
        <p:spPr>
          <a:xfrm>
            <a:off x="928800" y="4071960"/>
            <a:ext cx="44290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Проектное упр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(отраслевые планы импортозамещения, ведомственные проекты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8"/>
          <p:cNvSpPr/>
          <p:nvPr/>
        </p:nvSpPr>
        <p:spPr>
          <a:xfrm>
            <a:off x="928800" y="4786200"/>
            <a:ext cx="4500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Сервисы для малого и среднего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(подбор помещения или производственной площад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9"/>
          <p:cNvSpPr/>
          <p:nvPr/>
        </p:nvSpPr>
        <p:spPr>
          <a:xfrm>
            <a:off x="6215040" y="5572080"/>
            <a:ext cx="27147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Финансовые серви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Arial"/>
              </a:rPr>
              <a:t>(факторинг, лизинг, банковская гарантия, тендерный кред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0"/>
          <p:cNvSpPr/>
          <p:nvPr/>
        </p:nvSpPr>
        <p:spPr>
          <a:xfrm>
            <a:off x="928800" y="5500800"/>
            <a:ext cx="421488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Анали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Arial"/>
              </a:rPr>
              <a:t>(производственные мощности предприятий, атлас промышленности, мониторинг финансово-экономической отчетности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1"/>
          <p:cNvSpPr/>
          <p:nvPr/>
        </p:nvSpPr>
        <p:spPr>
          <a:xfrm>
            <a:off x="6143760" y="1928880"/>
            <a:ext cx="25714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Отраслевые порта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Arial"/>
              </a:rPr>
              <a:t>(мониторинг трудоустройства инвалидов, отечественное пищевое оборудование для образовательных организ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3"/>
          <p:cNvSpPr/>
          <p:nvPr/>
        </p:nvSpPr>
        <p:spPr>
          <a:xfrm>
            <a:off x="6143760" y="3000240"/>
            <a:ext cx="28573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Сервисы торговой площадки 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(поиск заказов на торговой площадке, публикация прайс-листа, поиск закупок по 44-ФЗ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7" descr="C:\Users\user\Desktop\НАЦ. ПРОЕКТЫ\КАРТИНКИ\ОСНОВНЫЕ\icon_basic (84).png"/>
          <p:cNvPicPr/>
          <p:nvPr/>
        </p:nvPicPr>
        <p:blipFill>
          <a:blip r:embed="rId4"/>
          <a:stretch/>
        </p:blipFill>
        <p:spPr>
          <a:xfrm>
            <a:off x="5500800" y="3071880"/>
            <a:ext cx="428400" cy="357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8" descr="C:\Users\user\Desktop\НАЦ. ПРОЕКТЫ\КАРТИНКИ\ОСНОВНЫЕ\icon_basic (4).png"/>
          <p:cNvPicPr/>
          <p:nvPr/>
        </p:nvPicPr>
        <p:blipFill>
          <a:blip r:embed="rId5"/>
          <a:stretch/>
        </p:blipFill>
        <p:spPr>
          <a:xfrm>
            <a:off x="5643720" y="4143240"/>
            <a:ext cx="323640" cy="417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9" descr="C:\Users\user\Desktop\НАЦ. ПРОЕКТЫ\КАРТИНКИ\ОСНОВНЫЕ\icon_basic (11).png"/>
          <p:cNvPicPr/>
          <p:nvPr/>
        </p:nvPicPr>
        <p:blipFill>
          <a:blip r:embed="rId6"/>
          <a:stretch/>
        </p:blipFill>
        <p:spPr>
          <a:xfrm>
            <a:off x="428760" y="3429000"/>
            <a:ext cx="436320" cy="485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0" descr="C:\Users\user\Desktop\НАЦ. ПРОЕКТЫ\КАРТИНКИ\ОСНОВНЫЕ\icon_basic (101).png"/>
          <p:cNvPicPr/>
          <p:nvPr/>
        </p:nvPicPr>
        <p:blipFill>
          <a:blip r:embed="rId7"/>
          <a:stretch/>
        </p:blipFill>
        <p:spPr>
          <a:xfrm>
            <a:off x="428760" y="4143240"/>
            <a:ext cx="407880" cy="34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1" descr="C:\Users\user\Desktop\НАЦ. ПРОЕКТЫ\КАРТИНКИ\ОСНОВНЫЕ\icon_basic (16).png"/>
          <p:cNvPicPr/>
          <p:nvPr/>
        </p:nvPicPr>
        <p:blipFill>
          <a:blip r:embed="rId8"/>
          <a:stretch/>
        </p:blipFill>
        <p:spPr>
          <a:xfrm>
            <a:off x="428760" y="4857840"/>
            <a:ext cx="428400" cy="428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2" descr="C:\Users\user\Desktop\НАЦ. ПРОЕКТЫ\КАРТИНКИ\ОСНОВНЫЕ\icon_basic (66).png"/>
          <p:cNvPicPr/>
          <p:nvPr/>
        </p:nvPicPr>
        <p:blipFill>
          <a:blip r:embed="rId9"/>
          <a:stretch/>
        </p:blipFill>
        <p:spPr>
          <a:xfrm>
            <a:off x="5643720" y="5643720"/>
            <a:ext cx="428400" cy="39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3" descr="C:\Users\user\Desktop\НАЦ. ПРОЕКТЫ\КАРТИНКИ\ОСНОВНЫЕ\icon_basic (79).png"/>
          <p:cNvPicPr/>
          <p:nvPr/>
        </p:nvPicPr>
        <p:blipFill>
          <a:blip r:embed="rId10"/>
          <a:stretch/>
        </p:blipFill>
        <p:spPr>
          <a:xfrm>
            <a:off x="428760" y="5572080"/>
            <a:ext cx="487080" cy="406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4" descr="C:\Users\user\Desktop\НАЦ. ПРОЕКТЫ\КАРТИНКИ\ОСНОВНЫЕ\icon_basic (87).png"/>
          <p:cNvPicPr/>
          <p:nvPr/>
        </p:nvPicPr>
        <p:blipFill>
          <a:blip r:embed="rId11"/>
          <a:stretch/>
        </p:blipFill>
        <p:spPr>
          <a:xfrm>
            <a:off x="5500800" y="2000160"/>
            <a:ext cx="473040" cy="428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8" descr="C:\Users\user\Desktop\НАЦ. ПРОЕКТЫ\КАРТИНКИ\ФЕД.ПРОЕКТЫ\icon_p (58).png"/>
          <p:cNvPicPr/>
          <p:nvPr/>
        </p:nvPicPr>
        <p:blipFill>
          <a:blip r:embed="rId12"/>
          <a:stretch/>
        </p:blipFill>
        <p:spPr>
          <a:xfrm>
            <a:off x="357120" y="1928880"/>
            <a:ext cx="428760" cy="426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9" descr="C:\Users\user\Desktop\НАЦ. ПРОЕКТЫ\КАРТИНКИ\ФЕД.ПРОЕКТЫ\icon_p (10).png"/>
          <p:cNvPicPr/>
          <p:nvPr/>
        </p:nvPicPr>
        <p:blipFill>
          <a:blip r:embed="rId13"/>
          <a:stretch/>
        </p:blipFill>
        <p:spPr>
          <a:xfrm>
            <a:off x="285840" y="2571840"/>
            <a:ext cx="500040" cy="452520"/>
          </a:xfrm>
          <a:prstGeom prst="rect">
            <a:avLst/>
          </a:prstGeom>
          <a:ln w="0">
            <a:noFill/>
          </a:ln>
        </p:spPr>
      </p:pic>
      <p:sp>
        <p:nvSpPr>
          <p:cNvPr id="118" name="Нижний колонтитул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ая соединительная линия 24"/>
          <p:cNvSpPr/>
          <p:nvPr/>
        </p:nvSpPr>
        <p:spPr>
          <a:xfrm flipH="1" flipV="1">
            <a:off x="0" y="836640"/>
            <a:ext cx="91440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Заголовок 1"/>
          <p:cNvSpPr/>
          <p:nvPr/>
        </p:nvSpPr>
        <p:spPr>
          <a:xfrm>
            <a:off x="2928960" y="142920"/>
            <a:ext cx="6000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ФЕДЕРАЛЬНЫЕ МЕРЫ ПОДДЕРЖКИ ПРОМЫШЛЕННЫХ ПРЕД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Объект 3" descr=""/>
          <p:cNvPicPr/>
          <p:nvPr/>
        </p:nvPicPr>
        <p:blipFill>
          <a:blip r:embed="rId1"/>
          <a:srcRect l="0" t="0" r="13866" b="41136"/>
          <a:stretch/>
        </p:blipFill>
        <p:spPr>
          <a:xfrm>
            <a:off x="0" y="0"/>
            <a:ext cx="3000240" cy="8571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9" descr=""/>
          <p:cNvPicPr/>
          <p:nvPr/>
        </p:nvPicPr>
        <p:blipFill>
          <a:blip r:embed="rId2"/>
          <a:srcRect l="7533" t="4719" r="6412" b="2111"/>
          <a:stretch/>
        </p:blipFill>
        <p:spPr>
          <a:xfrm>
            <a:off x="0" y="0"/>
            <a:ext cx="857160" cy="9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268200" y="957240"/>
          <a:ext cx="8661600" cy="5532480"/>
        </p:xfrm>
        <a:graphic>
          <a:graphicData uri="http://schemas.openxmlformats.org/drawingml/2006/table">
            <a:tbl>
              <a:tblPr/>
              <a:tblGrid>
                <a:gridCol w="669960"/>
                <a:gridCol w="2600280"/>
                <a:gridCol w="539136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ТАНОВЛЕНИЕ ПРАВИТЕЛЬСТВ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ПРАВЛЕНИЕ РАСХ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ПП РФ от 27.12.2012 № 1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Субсидии производителям сельскохозяйственной техники</a:t>
                      </a:r>
                      <a:r>
                        <a:rPr b="0" lang="en-US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 (</a:t>
                      </a:r>
                      <a:r>
                        <a:rPr b="0" i="1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размер субсидии для производителей, предоставивших скидку на продукцию, от 10 до 15%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ПП РФ от 04.06.2020 № 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Субсидии производителям специализированной техники или оборудования в целях предоставления покупателям скидки при приобретении такой техники или оборудования </a:t>
                      </a:r>
                      <a:r>
                        <a:rPr b="0" i="1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(размер субсидии для производителей, предоставивших скидку на продукцию, не более 15%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0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ПП РФ от 26.04.2017. № 4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Субсидии российским организациям на компенсацию части затрат на транспортировку продукции, в том числе организациям автомобилестроения, сельскохозяйственного машиностроения, транспортного машиностроения, энергетического машиностроения (</a:t>
                      </a:r>
                      <a:r>
                        <a:rPr b="0" i="1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от 20% до 80% понесенных затрат</a:t>
                      </a: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ПП РФ от 25.05.2017 № 6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Субсидии на возмещение затрат на выпуск и реализацию пилотных партий средств производства  </a:t>
                      </a:r>
                      <a:r>
                        <a:rPr b="0" i="1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(не более 50% общего размера понесенных фактических затрат, макс. 300 млн. 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ПП РФ от 10.08.2016 № 1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Субсидии производителям станкоинструментальной продукции в целях предоставления покупателям скидки при приобретении такой продукции </a:t>
                      </a:r>
                      <a:r>
                        <a:rPr b="0" i="1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(размер субсидии не может превышать суммарный объем скидок на дату заявления                            о предоставлении субсиди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3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ПП РФ от 14.09.2020 № 142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Субсидии российским организациям промышленности на возмещение части затрат на обслуживание кредитов, направленных на увеличение объемов реализации продукции и повышение конкурентоспособности российской промышленной продукции, за счет средств резервного фонда Правительства Российской Федерации </a:t>
                      </a:r>
                      <a:r>
                        <a:rPr b="0" i="1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(в размере 70% суммы фактических затрат на уплату процентов по кредиту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ПП РФ от 30.04.2021 № 6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Субсидия на компенсацию части затрат, связанных с сертификацией продукции,                    в том числе фармацевтической и медицинской промышленности на внешних рынках (</a:t>
                      </a:r>
                      <a:r>
                        <a:rPr b="0" i="1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предельный размер субсидии не более 300 млн. руб. на одну организацию</a:t>
                      </a: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ПП РФ от 19.07.2022 № 12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Субсидии на продвижение товаров на телевидении </a:t>
                      </a:r>
                      <a:r>
                        <a:rPr b="0" i="1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(размер субсидии равен сумме затрат на размещение рекламно-информационных материалов на телевидении</a:t>
                      </a: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24"/>
          <p:cNvSpPr/>
          <p:nvPr/>
        </p:nvSpPr>
        <p:spPr>
          <a:xfrm flipH="1" flipV="1">
            <a:off x="0" y="836640"/>
            <a:ext cx="91440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2928960" y="142920"/>
            <a:ext cx="6000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ФЕДЕРАЛЬНЫЕ МЕРЫ ПОДДЕРЖКИ ПРОМЫШЛЕННЫХ ПРЕД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Объект 3" descr=""/>
          <p:cNvPicPr/>
          <p:nvPr/>
        </p:nvPicPr>
        <p:blipFill>
          <a:blip r:embed="rId1"/>
          <a:srcRect l="0" t="0" r="13866" b="41136"/>
          <a:stretch/>
        </p:blipFill>
        <p:spPr>
          <a:xfrm>
            <a:off x="0" y="0"/>
            <a:ext cx="3000240" cy="8571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9" descr=""/>
          <p:cNvPicPr/>
          <p:nvPr/>
        </p:nvPicPr>
        <p:blipFill>
          <a:blip r:embed="rId2"/>
          <a:srcRect l="7533" t="4719" r="6412" b="2111"/>
          <a:stretch/>
        </p:blipFill>
        <p:spPr>
          <a:xfrm>
            <a:off x="0" y="0"/>
            <a:ext cx="857160" cy="9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249120" y="1214280"/>
          <a:ext cx="8609040" cy="3554640"/>
        </p:xfrm>
        <a:graphic>
          <a:graphicData uri="http://schemas.openxmlformats.org/drawingml/2006/table">
            <a:tbl>
              <a:tblPr/>
              <a:tblGrid>
                <a:gridCol w="665280"/>
                <a:gridCol w="2585880"/>
                <a:gridCol w="53578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ТАНОВЛЕНИЕ ПРАВИТЕЛЬСТВ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ПРАВЛЕНИЕ РАСХ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588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ВОЗМЕЩЕНИЕ ЗАТРАТ НА НИОКР И РЕГИСТРАЦИЮ ОИ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ПП РФ от 15.12.2016 № 13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Субсидии российским производителям на финансирование части затрат, связанных                   с регистрацией на внешних рынках объектов интеллектуальной собственности (</a:t>
                      </a:r>
                      <a:r>
                        <a:rPr b="0" i="1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предельный размер субсидии 15 млн. руб</a:t>
                      </a: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5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ПП РФ от 12.12.2019 № 16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Субсидии на компенсацию части затрат на проведение НИОКР по современным технологиям в рамках реализации инновационных проектов (</a:t>
                      </a:r>
                      <a:r>
                        <a:rPr b="0" i="1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70% затрат на проведение НИОКР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ПП от 16.12.2020 № 213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Субсидии на финансовое обеспечение мероприятий по проведению НИОКР в области средств производства электроники, в сфере станкостро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5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ПП РФ от 18.06.2021 № 9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Субсидия на компенсацию части затрат, связанных с проведением НИОКР и омологацией продукции для внешних рынков (</a:t>
                      </a:r>
                      <a:r>
                        <a:rPr b="0" i="1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предельный размер субсидии на НИОКР – 900 млн. рублей, на омологацию – 200 млн рублей</a:t>
                      </a: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30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ая соединительная линия 24"/>
          <p:cNvSpPr/>
          <p:nvPr/>
        </p:nvSpPr>
        <p:spPr>
          <a:xfrm flipH="1" flipV="1">
            <a:off x="0" y="836640"/>
            <a:ext cx="91440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2928960" y="214200"/>
            <a:ext cx="6000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КЛАСТЕРНАЯ ПОЛИ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Объект 3" descr=""/>
          <p:cNvPicPr/>
          <p:nvPr/>
        </p:nvPicPr>
        <p:blipFill>
          <a:blip r:embed="rId1"/>
          <a:srcRect l="0" t="0" r="13866" b="41136"/>
          <a:stretch/>
        </p:blipFill>
        <p:spPr>
          <a:xfrm>
            <a:off x="0" y="0"/>
            <a:ext cx="3000240" cy="8571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9" descr=""/>
          <p:cNvPicPr/>
          <p:nvPr/>
        </p:nvPicPr>
        <p:blipFill>
          <a:blip r:embed="rId2"/>
          <a:srcRect l="7533" t="4719" r="6412" b="2111"/>
          <a:stretch/>
        </p:blipFill>
        <p:spPr>
          <a:xfrm>
            <a:off x="0" y="0"/>
            <a:ext cx="857160" cy="928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7"/>
          <p:cNvSpPr/>
          <p:nvPr/>
        </p:nvSpPr>
        <p:spPr>
          <a:xfrm>
            <a:off x="714240" y="928800"/>
            <a:ext cx="82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Цели государственной поддержки промышленных кластеров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Группа 2"/>
          <p:cNvGrpSpPr/>
          <p:nvPr/>
        </p:nvGrpSpPr>
        <p:grpSpPr>
          <a:xfrm>
            <a:off x="460440" y="1449360"/>
            <a:ext cx="479520" cy="560520"/>
            <a:chOff x="460440" y="1449360"/>
            <a:chExt cx="479520" cy="560520"/>
          </a:xfrm>
        </p:grpSpPr>
        <p:sp>
          <p:nvSpPr>
            <p:cNvPr id="137" name="Стрелка: вправо 3"/>
            <p:cNvSpPr/>
            <p:nvPr/>
          </p:nvSpPr>
          <p:spPr>
            <a:xfrm>
              <a:off x="460440" y="1449360"/>
              <a:ext cx="479520" cy="56052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Стрелка: вправо 4"/>
            <p:cNvSpPr/>
            <p:nvPr/>
          </p:nvSpPr>
          <p:spPr>
            <a:xfrm>
              <a:off x="460440" y="1562040"/>
              <a:ext cx="3351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21"/>
          <p:cNvSpPr/>
          <p:nvPr/>
        </p:nvSpPr>
        <p:spPr>
          <a:xfrm>
            <a:off x="1000080" y="142884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ТИМУЛИРОВАНИЕ ПРОИЗВОДСТВЕННОЙ КООП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Группа 7"/>
          <p:cNvGrpSpPr/>
          <p:nvPr/>
        </p:nvGrpSpPr>
        <p:grpSpPr>
          <a:xfrm>
            <a:off x="5106960" y="1449360"/>
            <a:ext cx="480960" cy="560520"/>
            <a:chOff x="5106960" y="1449360"/>
            <a:chExt cx="480960" cy="560520"/>
          </a:xfrm>
        </p:grpSpPr>
        <p:sp>
          <p:nvSpPr>
            <p:cNvPr id="141" name="Стрелка: вправо 8"/>
            <p:cNvSpPr/>
            <p:nvPr/>
          </p:nvSpPr>
          <p:spPr>
            <a:xfrm>
              <a:off x="5106960" y="1449360"/>
              <a:ext cx="480960" cy="56052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b2c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Стрелка: вправо 4"/>
            <p:cNvSpPr/>
            <p:nvPr/>
          </p:nvSpPr>
          <p:spPr>
            <a:xfrm>
              <a:off x="5106960" y="1562040"/>
              <a:ext cx="336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Прямоугольник 26"/>
          <p:cNvSpPr/>
          <p:nvPr/>
        </p:nvSpPr>
        <p:spPr>
          <a:xfrm>
            <a:off x="5715000" y="150012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ЛОКАЛИЗАЦИЯ ПРОИЗВОД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27"/>
          <p:cNvSpPr/>
          <p:nvPr/>
        </p:nvSpPr>
        <p:spPr>
          <a:xfrm flipV="1">
            <a:off x="460440" y="2054160"/>
            <a:ext cx="8183520" cy="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28"/>
          <p:cNvSpPr/>
          <p:nvPr/>
        </p:nvSpPr>
        <p:spPr>
          <a:xfrm>
            <a:off x="1000080" y="214308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Преференции участникам промышленных кластер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: скругленные углы 19"/>
          <p:cNvSpPr/>
          <p:nvPr/>
        </p:nvSpPr>
        <p:spPr>
          <a:xfrm>
            <a:off x="398520" y="2571840"/>
            <a:ext cx="3948120" cy="3378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0"/>
          <p:cNvSpPr/>
          <p:nvPr/>
        </p:nvSpPr>
        <p:spPr>
          <a:xfrm>
            <a:off x="642960" y="278280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убсидии на приобретение стартовых партий продукции кла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C:\Users\user\Desktop\НАЦ. ПРОЕКТЫ\КАРТИНКИ\ОСНОВНЫЕ\icon_basic (65).png"/>
          <p:cNvPicPr/>
          <p:nvPr/>
        </p:nvPicPr>
        <p:blipFill>
          <a:blip r:embed="rId3"/>
          <a:stretch/>
        </p:blipFill>
        <p:spPr>
          <a:xfrm>
            <a:off x="1714680" y="3929040"/>
            <a:ext cx="1214280" cy="66060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32"/>
          <p:cNvSpPr/>
          <p:nvPr/>
        </p:nvSpPr>
        <p:spPr>
          <a:xfrm>
            <a:off x="571680" y="485784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о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50 млн. рублей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 заявителя (д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0%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затра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: скругленные углы 41"/>
          <p:cNvSpPr/>
          <p:nvPr/>
        </p:nvSpPr>
        <p:spPr>
          <a:xfrm>
            <a:off x="4824360" y="2584440"/>
            <a:ext cx="3949920" cy="3365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4"/>
          <p:cNvSpPr/>
          <p:nvPr/>
        </p:nvSpPr>
        <p:spPr>
          <a:xfrm>
            <a:off x="5286240" y="271476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Льготные кредиты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(3-5% годовых на срок до 15 лет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35"/>
          <p:cNvSpPr/>
          <p:nvPr/>
        </p:nvSpPr>
        <p:spPr>
          <a:xfrm>
            <a:off x="5214960" y="3286080"/>
            <a:ext cx="30002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6"/>
          <p:cNvSpPr/>
          <p:nvPr/>
        </p:nvSpPr>
        <p:spPr>
          <a:xfrm>
            <a:off x="5000760" y="3429000"/>
            <a:ext cx="32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Снижение страховых взносов до 7,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37"/>
          <p:cNvSpPr/>
          <p:nvPr/>
        </p:nvSpPr>
        <p:spPr>
          <a:xfrm>
            <a:off x="5286240" y="3929040"/>
            <a:ext cx="30006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40"/>
          <p:cNvSpPr/>
          <p:nvPr/>
        </p:nvSpPr>
        <p:spPr>
          <a:xfrm>
            <a:off x="5286240" y="4000680"/>
            <a:ext cx="30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Обнуление ста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по налогу на прибы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41"/>
          <p:cNvSpPr/>
          <p:nvPr/>
        </p:nvSpPr>
        <p:spPr>
          <a:xfrm>
            <a:off x="5286240" y="4572000"/>
            <a:ext cx="30718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3"/>
          <p:cNvSpPr/>
          <p:nvPr/>
        </p:nvSpPr>
        <p:spPr>
          <a:xfrm>
            <a:off x="5429160" y="4572000"/>
            <a:ext cx="292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Ограничение на проведение контрольных (надзорных) мероприят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45"/>
          <p:cNvSpPr/>
          <p:nvPr/>
        </p:nvSpPr>
        <p:spPr>
          <a:xfrm>
            <a:off x="5286240" y="5286240"/>
            <a:ext cx="31132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47"/>
          <p:cNvSpPr/>
          <p:nvPr/>
        </p:nvSpPr>
        <p:spPr>
          <a:xfrm>
            <a:off x="5429160" y="535788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Преференции в государственных закупк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2" descr="C:\Users\user\Downloads\warning.gif"/>
          <p:cNvPicPr/>
          <p:nvPr/>
        </p:nvPicPr>
        <p:blipFill>
          <a:blip r:embed="rId4"/>
          <a:stretch/>
        </p:blipFill>
        <p:spPr>
          <a:xfrm>
            <a:off x="628560" y="6087960"/>
            <a:ext cx="500040" cy="50004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49"/>
          <p:cNvSpPr/>
          <p:nvPr/>
        </p:nvSpPr>
        <p:spPr>
          <a:xfrm>
            <a:off x="1143000" y="6143760"/>
            <a:ext cx="800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Кластер и специализированная организация промышленного кластера должны входить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 Реестр кластеров и специализированных организаций промышленного кластера Минпромторга России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ижний колонтитул 3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ая соединительная линия 24"/>
          <p:cNvSpPr/>
          <p:nvPr/>
        </p:nvSpPr>
        <p:spPr>
          <a:xfrm flipH="1" flipV="1">
            <a:off x="0" y="836640"/>
            <a:ext cx="91440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Заголовок 1"/>
          <p:cNvSpPr/>
          <p:nvPr/>
        </p:nvSpPr>
        <p:spPr>
          <a:xfrm>
            <a:off x="2928960" y="214200"/>
            <a:ext cx="6000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ПРОМЫШЛЕННАЯ ИПОТ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Объект 3" descr=""/>
          <p:cNvPicPr/>
          <p:nvPr/>
        </p:nvPicPr>
        <p:blipFill>
          <a:blip r:embed="rId1"/>
          <a:srcRect l="0" t="0" r="13866" b="41136"/>
          <a:stretch/>
        </p:blipFill>
        <p:spPr>
          <a:xfrm>
            <a:off x="0" y="0"/>
            <a:ext cx="3000240" cy="8571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9" descr=""/>
          <p:cNvPicPr/>
          <p:nvPr/>
        </p:nvPicPr>
        <p:blipFill>
          <a:blip r:embed="rId2"/>
          <a:srcRect l="7533" t="4719" r="6412" b="2111"/>
          <a:stretch/>
        </p:blipFill>
        <p:spPr>
          <a:xfrm>
            <a:off x="0" y="0"/>
            <a:ext cx="857160" cy="9288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7"/>
          <p:cNvSpPr/>
          <p:nvPr/>
        </p:nvSpPr>
        <p:spPr>
          <a:xfrm>
            <a:off x="2857680" y="928800"/>
            <a:ext cx="61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остановление Правительства РФ от 06.09.2022 № 157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хема 8" descr=""/>
          <p:cNvPicPr/>
          <p:nvPr/>
        </p:nvPicPr>
        <p:blipFill>
          <a:blip r:embed="rId3"/>
          <a:stretch/>
        </p:blipFill>
        <p:spPr>
          <a:xfrm>
            <a:off x="274680" y="1481040"/>
            <a:ext cx="8686800" cy="15001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9"/>
          <p:cNvSpPr/>
          <p:nvPr/>
        </p:nvSpPr>
        <p:spPr>
          <a:xfrm>
            <a:off x="285840" y="3143160"/>
            <a:ext cx="778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Arial"/>
              </a:rPr>
              <a:t>УСЛОВИЯ ПОЛУЧЕНИЯ МЕРЫ ГОСУДАРСТВЕННОЙ ПОДДЕРЖ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1"/>
          <p:cNvSpPr/>
          <p:nvPr/>
        </p:nvSpPr>
        <p:spPr>
          <a:xfrm>
            <a:off x="928800" y="3714840"/>
            <a:ext cx="671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ЗАЕМЩИК: </a:t>
            </a:r>
            <a:r>
              <a:rPr b="1" lang="ru-RU" sz="1200" spc="-1" strike="noStrike">
                <a:solidFill>
                  <a:srgbClr val="00b050"/>
                </a:solidFill>
                <a:latin typeface="Arial"/>
              </a:rPr>
              <a:t>СУБЪЕКТ ДЕЯТЕЛЬНОСТИ В СФЕРЕ ПРОМЫШЛЕ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C:\Users\user\Desktop\НАЦ. ПРОЕКТЫ\КАРТИНКИ\ОСНОВНЫЕ\icon_basic (65).png"/>
          <p:cNvPicPr/>
          <p:nvPr/>
        </p:nvPicPr>
        <p:blipFill>
          <a:blip r:embed="rId4"/>
          <a:stretch/>
        </p:blipFill>
        <p:spPr>
          <a:xfrm>
            <a:off x="285840" y="4286160"/>
            <a:ext cx="515880" cy="4413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3"/>
          <p:cNvSpPr/>
          <p:nvPr/>
        </p:nvSpPr>
        <p:spPr>
          <a:xfrm>
            <a:off x="1000080" y="4286160"/>
            <a:ext cx="54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МАКСИМАЛЬНЫЙ ОБЪЕМ КРЕДИТА: </a:t>
            </a:r>
            <a:r>
              <a:rPr b="1" lang="ru-RU" sz="1200" spc="-1" strike="noStrike">
                <a:solidFill>
                  <a:srgbClr val="00b050"/>
                </a:solidFill>
                <a:latin typeface="Arial"/>
              </a:rPr>
              <a:t>500 МЛН. РУБ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6"/>
          <p:cNvSpPr/>
          <p:nvPr/>
        </p:nvSpPr>
        <p:spPr>
          <a:xfrm>
            <a:off x="1000080" y="4857840"/>
            <a:ext cx="70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МАКСИМАЛЬНЫЙ СРОК КРЕДИТА: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b050"/>
                </a:solidFill>
                <a:latin typeface="Arial"/>
              </a:rPr>
              <a:t>7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C:\Users\user\Desktop\НАЦ. ПРОЕКТЫ\КАРТИНКИ\ОСНОВНЫЕ\icon_basic (50).png"/>
          <p:cNvPicPr/>
          <p:nvPr/>
        </p:nvPicPr>
        <p:blipFill>
          <a:blip r:embed="rId5"/>
          <a:stretch/>
        </p:blipFill>
        <p:spPr>
          <a:xfrm>
            <a:off x="357120" y="4786200"/>
            <a:ext cx="480960" cy="480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C:\Users\user\Desktop\НАЦ. ПРОЕКТЫ\КАРТИНКИ\ФЕД.ПРОЕКТЫ\icon_p (58).png"/>
          <p:cNvPicPr/>
          <p:nvPr/>
        </p:nvPicPr>
        <p:blipFill>
          <a:blip r:embed="rId6"/>
          <a:stretch/>
        </p:blipFill>
        <p:spPr>
          <a:xfrm>
            <a:off x="285840" y="3643200"/>
            <a:ext cx="476280" cy="474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https://cdn0.iconfinder.com/data/icons/business-and-web-1-1/32/interest_rate_revenue-512.png"/>
          <p:cNvPicPr/>
          <p:nvPr/>
        </p:nvPicPr>
        <p:blipFill>
          <a:blip r:embed="rId7"/>
          <a:stretch/>
        </p:blipFill>
        <p:spPr>
          <a:xfrm>
            <a:off x="353880" y="5425920"/>
            <a:ext cx="511200" cy="51120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20"/>
          <p:cNvSpPr/>
          <p:nvPr/>
        </p:nvSpPr>
        <p:spPr>
          <a:xfrm>
            <a:off x="928800" y="5500800"/>
            <a:ext cx="70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МАКСИМАЛЬНЫЙ РАЗМЕР ЛЬГОТНОЙ ПРОЦЕНТНОЙ СТАВКИ: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b050"/>
                </a:solidFill>
                <a:latin typeface="Arial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2" descr="C:\Users\user\Downloads\warning.gif"/>
          <p:cNvPicPr/>
          <p:nvPr/>
        </p:nvPicPr>
        <p:blipFill>
          <a:blip r:embed="rId8"/>
          <a:stretch/>
        </p:blipFill>
        <p:spPr>
          <a:xfrm>
            <a:off x="357120" y="6000840"/>
            <a:ext cx="500040" cy="50004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31"/>
          <p:cNvSpPr/>
          <p:nvPr/>
        </p:nvSpPr>
        <p:spPr>
          <a:xfrm>
            <a:off x="928800" y="6000840"/>
            <a:ext cx="800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Заемщик обязан использовать не менее 50% площади объекта недвижимого имущества             для промышленного производ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ижний колонтитул 1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ая соединительная линия 24"/>
          <p:cNvSpPr/>
          <p:nvPr/>
        </p:nvSpPr>
        <p:spPr>
          <a:xfrm flipH="1" flipV="1">
            <a:off x="0" y="836640"/>
            <a:ext cx="91440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Заголовок 1"/>
          <p:cNvSpPr/>
          <p:nvPr/>
        </p:nvSpPr>
        <p:spPr>
          <a:xfrm>
            <a:off x="2928960" y="142920"/>
            <a:ext cx="6000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ПОДДЕРЖКА ПРЕДПРИЯТИЙ Л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Объект 3" descr=""/>
          <p:cNvPicPr/>
          <p:nvPr/>
        </p:nvPicPr>
        <p:blipFill>
          <a:blip r:embed="rId1"/>
          <a:srcRect l="0" t="0" r="13866" b="41136"/>
          <a:stretch/>
        </p:blipFill>
        <p:spPr>
          <a:xfrm>
            <a:off x="0" y="0"/>
            <a:ext cx="3000240" cy="8571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9" descr=""/>
          <p:cNvPicPr/>
          <p:nvPr/>
        </p:nvPicPr>
        <p:blipFill>
          <a:blip r:embed="rId2"/>
          <a:srcRect l="7533" t="4719" r="6412" b="2111"/>
          <a:stretch/>
        </p:blipFill>
        <p:spPr>
          <a:xfrm>
            <a:off x="0" y="0"/>
            <a:ext cx="857160" cy="92880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32"/>
          <p:cNvSpPr/>
          <p:nvPr/>
        </p:nvSpPr>
        <p:spPr>
          <a:xfrm>
            <a:off x="414360" y="930240"/>
            <a:ext cx="8588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  <a:ea typeface="Arial"/>
              </a:rPr>
              <a:t>Предоставление льготы при определении платы за аренду лесных участков, используемых для реализации инвестиционных проектов, включенных в Перечень приоритетных инвестиционных проектов в области освоения ле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(ПП от 22.05.2007 № 310, ПП  РФ от 23.02.2018 № 19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09520" y="2071800"/>
          <a:ext cx="8723520" cy="4392360"/>
        </p:xfrm>
        <a:graphic>
          <a:graphicData uri="http://schemas.openxmlformats.org/drawingml/2006/table">
            <a:tbl>
              <a:tblPr/>
              <a:tblGrid>
                <a:gridCol w="8723520"/>
              </a:tblGrid>
              <a:tr h="450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Требования к инвестиционному проек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94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Минимальный объем капитальных вложений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не менее 2 млрд. рублей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– для проектов по модернизации объектов лесоперерабатывающей инфраструктуры, включая переработку древесных отходов,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в том числе в биоэнергетических целя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не менее 3 млрд. рублей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– для проектов по созданию объектов лесной инфраструктуры и лесоперерабатывающей инфраструктуры, включая переработку древесных отходов, в том числе в биоэнергетических целях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Начало реализации инвестиционного проекта: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не ранее чем за 2 год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до дня подачи заявки в заинтересованный орг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Набор минимальной суммы баллов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по целевым показателям критериев оценки инвестиционных проектов, определенным постановлением Правительст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Кировской области от 22.01.2019 № 9-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7" name="Прямая соединительная линия 10"/>
          <p:cNvSpPr/>
          <p:nvPr/>
        </p:nvSpPr>
        <p:spPr>
          <a:xfrm flipV="1">
            <a:off x="285840" y="4428720"/>
            <a:ext cx="835812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13"/>
          <p:cNvSpPr/>
          <p:nvPr/>
        </p:nvSpPr>
        <p:spPr>
          <a:xfrm flipV="1">
            <a:off x="392040" y="5143680"/>
            <a:ext cx="835992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3:33:59Z</dcterms:created>
  <dc:creator>sashach</dc:creator>
  <dc:description/>
  <dc:language>en-US</dc:language>
  <cp:lastModifiedBy>user</cp:lastModifiedBy>
  <cp:lastPrinted>2022-11-03T08:45:15Z</cp:lastPrinted>
  <dcterms:modified xsi:type="dcterms:W3CDTF">2023-02-27T11:33:42Z</dcterms:modified>
  <cp:revision>1094</cp:revision>
  <dc:subject/>
  <dc:title>Схема информационных потоков</dc:title>
</cp:coreProperties>
</file>