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7BE-9D55-42CE-A7F9-A47A8452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949-4538-4584-AEE8-C92EBB1C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5E1-587F-41BB-A61B-5FA5AF55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E54-60D4-4ABE-83C4-8FE303FB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837-6433-4C43-89A5-06B26823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6C9-EBF0-4117-9B76-CA961A48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B55-1C9B-4186-883B-7CA6C61D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BCF-21FA-4988-AC36-682D861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56D-4116-4D4C-A006-66E34D9E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75E-BDEF-44A1-BEA6-BA7A266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28D-BA1B-4664-B708-E6F8231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FF1-A3EA-42F4-B98C-0FC4C9F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addc"/>
            </a:gs>
            <a:gs pos="50000">
              <a:srgbClr val="cddaff"/>
            </a:gs>
            <a:gs pos="100000">
              <a:srgbClr val="82a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9D59-7BDD-4435-B041-8885CE5CE8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frpko_43@mail.ru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0" descr=""/>
          <p:cNvPicPr/>
          <p:nvPr/>
        </p:nvPicPr>
        <p:blipFill>
          <a:blip r:embed="rId1"/>
          <a:stretch/>
        </p:blipFill>
        <p:spPr>
          <a:xfrm>
            <a:off x="8388360" y="11592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755640" y="1052640"/>
            <a:ext cx="7731000" cy="5303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ая соединительная линия 11"/>
          <p:cNvSpPr/>
          <p:nvPr/>
        </p:nvSpPr>
        <p:spPr>
          <a:xfrm flipH="1" flipV="1">
            <a:off x="0" y="87012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ая соединительная линия 24"/>
          <p:cNvSpPr/>
          <p:nvPr/>
        </p:nvSpPr>
        <p:spPr>
          <a:xfrm flipH="1" flipV="1">
            <a:off x="27000" y="69012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08000" y="1104840"/>
          <a:ext cx="8928000" cy="5753160"/>
        </p:xfrm>
        <a:graphic>
          <a:graphicData uri="http://schemas.openxmlformats.org/drawingml/2006/table">
            <a:tbl>
              <a:tblPr/>
              <a:tblGrid>
                <a:gridCol w="1695240"/>
                <a:gridCol w="2341800"/>
                <a:gridCol w="1919160"/>
                <a:gridCol w="1200240"/>
                <a:gridCol w="1771560"/>
              </a:tblGrid>
              <a:tr h="537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200f"/>
                          </a:solidFill>
                          <a:latin typeface="Calibri"/>
                        </a:rPr>
                        <a:t>Проекты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200f"/>
                          </a:solidFill>
                          <a:latin typeface="Calibri"/>
                        </a:rPr>
                        <a:t>Комплектующ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200f"/>
                          </a:solidFill>
                          <a:latin typeface="Calibri"/>
                        </a:rPr>
                        <a:t>Повышение 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200f"/>
                          </a:solidFill>
                          <a:latin typeface="Calibri"/>
                        </a:rPr>
                        <a:t>ности тру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200f"/>
                          </a:solidFill>
                          <a:latin typeface="Calibri"/>
                        </a:rPr>
                        <a:t>Проекты лесной промышленност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7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займа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20 до 100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тная ставка на заем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базовая ставка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при банковской гарантии, а также гарантии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ЭБ.РФ, Корпорации МСП, региональных гарантийны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й (РГО) или Российского агентства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страхованию экспортных кредитов и инвестиций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при покупке российского оборудова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(или) отечественного программного обеспеч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умму ≥ 50 от суммы зай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440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на весь срок займа при банковской гарантии, гарантии ВЭБ.РФ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порации МСП или РГО, а также в первые три года при других вида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я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на оставшийся срок займа при других видах обеспе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795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годо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годовых при условии приобрет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ечественного оборудования на сумму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50% суммы займа или при банковской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ии/поручительстве Корпорации МСП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годовых в иных случая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займа (мес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60 (5лет)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36 (3 л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84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бюджет проекта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ой объем продаж новой прод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 от суммы займа в год, начиная со 2 года серийного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 от суммы займа в год, начиная со 2 года серийного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ой прирост производительности тру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 от суммы займа в год, начиная со 2 года серийного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1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финансирование со стороны заявителя, частных инвесторов или ба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 gridSpan="4">
                  <a:txBody>
                    <a:bodyPr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 бюджета проекта, в том числе за счет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х средств, средств частных инвестор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ба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лата основного дол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следние 2 года срока действия договора зай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ик 2"/>
          <p:cNvSpPr/>
          <p:nvPr/>
        </p:nvSpPr>
        <p:spPr>
          <a:xfrm>
            <a:off x="1095840" y="690480"/>
            <a:ext cx="709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ОСНОВНЫЕ УСЛОВИЯ СОВМЕСТНЫХ ПРОГРАМ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2340000" y="260280"/>
            <a:ext cx="5589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49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2"/>
          <a:stretch/>
        </p:blipFill>
        <p:spPr>
          <a:xfrm>
            <a:off x="138240" y="1268280"/>
            <a:ext cx="8867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53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"/>
          <p:cNvPicPr/>
          <p:nvPr/>
        </p:nvPicPr>
        <p:blipFill>
          <a:blip r:embed="rId2"/>
          <a:stretch/>
        </p:blipFill>
        <p:spPr>
          <a:xfrm>
            <a:off x="162000" y="1073160"/>
            <a:ext cx="88200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2" descr=""/>
          <p:cNvPicPr/>
          <p:nvPr/>
        </p:nvPicPr>
        <p:blipFill>
          <a:blip r:embed="rId2"/>
          <a:stretch/>
        </p:blipFill>
        <p:spPr>
          <a:xfrm>
            <a:off x="177840" y="1020600"/>
            <a:ext cx="8788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61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"/>
          <p:cNvPicPr/>
          <p:nvPr/>
        </p:nvPicPr>
        <p:blipFill>
          <a:blip r:embed="rId2"/>
          <a:stretch/>
        </p:blipFill>
        <p:spPr>
          <a:xfrm>
            <a:off x="119160" y="1069920"/>
            <a:ext cx="89056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230640" cy="5713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27000" y="2637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СОБСТВЕННАЯ ПРОГРАММА ФИНАНСИРОВАНИЯ РЕГИОНАЛЬНОГО ФО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ая соединительная линия 24"/>
          <p:cNvSpPr/>
          <p:nvPr/>
        </p:nvSpPr>
        <p:spPr>
          <a:xfrm flipH="1" flipV="1">
            <a:off x="0" y="98064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295200" y="1515960"/>
          <a:ext cx="8309160" cy="4773600"/>
        </p:xfrm>
        <a:graphic>
          <a:graphicData uri="http://schemas.openxmlformats.org/drawingml/2006/table">
            <a:tbl>
              <a:tblPr/>
              <a:tblGrid>
                <a:gridCol w="2943360"/>
                <a:gridCol w="2682720"/>
                <a:gridCol w="2683080"/>
              </a:tblGrid>
              <a:tr h="53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бственная программа финансир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Развитие промышленно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бственная программа финансир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Оборотный капита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3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займа, 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7 до 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 до 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3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тная ставка на заем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 годо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годовых в первые 3 года при банковской гарантии, ВЭ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при покупке российского оборудования не менее 50% от суммы зай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5% годо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ое назначение програм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портозамещение, НД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полнение оборотных сред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займа (мес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60 (5 лет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месяцев (1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бюджет проекта, млн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39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ой объем продаж новой продук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 от суммы займа в год, начиная со 2 года серийного произ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финансирование со стороны заявителя, частных инвесторов или бан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≥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 бюджета проекта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за счет собственных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 заявителя (к примеру, прибыли)/средств акционера, учредителя (к примеру, займа) ≥ 15% от суммы зай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9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лата основного дол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следние 2 года зай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ты – ежемесячно, основной долг – по решению Наблюдательного совета Фонд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3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ия предостав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явительный характ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конкурсного отбо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sp>
        <p:nvSpPr>
          <p:cNvPr id="170" name="Прямоугольник 2"/>
          <p:cNvSpPr/>
          <p:nvPr/>
        </p:nvSpPr>
        <p:spPr>
          <a:xfrm>
            <a:off x="1927800" y="985680"/>
            <a:ext cx="44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ОСНОВНЫЕ УСЛОВИЯ ЗАЙ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Заголовок 1"/>
          <p:cNvSpPr/>
          <p:nvPr/>
        </p:nvSpPr>
        <p:spPr>
          <a:xfrm>
            <a:off x="2340000" y="260280"/>
            <a:ext cx="5589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230640" cy="5713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27000" y="263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ФЕДЕРАЛЬНЫЕ ЗАЙ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230640" cy="5713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ая соединительная линия 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0" y="1103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сновные условия федеральных программ финан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2"/>
          <a:srcRect l="0" t="14769" r="0" b="0"/>
          <a:stretch/>
        </p:blipFill>
        <p:spPr>
          <a:xfrm>
            <a:off x="125280" y="1695600"/>
            <a:ext cx="8820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80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2" descr=""/>
          <p:cNvPicPr/>
          <p:nvPr/>
        </p:nvPicPr>
        <p:blipFill>
          <a:blip r:embed="rId2"/>
          <a:stretch/>
        </p:blipFill>
        <p:spPr>
          <a:xfrm>
            <a:off x="101520" y="1081080"/>
            <a:ext cx="8940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2340000" y="260280"/>
            <a:ext cx="5589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Заголовок 4" descr=""/>
          <p:cNvPicPr/>
          <p:nvPr/>
        </p:nvPicPr>
        <p:blipFill>
          <a:blip r:embed="rId2"/>
          <a:stretch/>
        </p:blipFill>
        <p:spPr>
          <a:xfrm>
            <a:off x="689040" y="914400"/>
            <a:ext cx="8308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84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2" descr=""/>
          <p:cNvPicPr/>
          <p:nvPr/>
        </p:nvPicPr>
        <p:blipFill>
          <a:blip r:embed="rId2"/>
          <a:stretch/>
        </p:blipFill>
        <p:spPr>
          <a:xfrm>
            <a:off x="162000" y="1073160"/>
            <a:ext cx="8820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88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2"/>
          <a:stretch/>
        </p:blipFill>
        <p:spPr>
          <a:xfrm>
            <a:off x="284040" y="1027080"/>
            <a:ext cx="867744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92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2"/>
          <a:stretch/>
        </p:blipFill>
        <p:spPr>
          <a:xfrm>
            <a:off x="243000" y="1192320"/>
            <a:ext cx="87487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96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" descr=""/>
          <p:cNvPicPr/>
          <p:nvPr/>
        </p:nvPicPr>
        <p:blipFill>
          <a:blip r:embed="rId2"/>
          <a:stretch/>
        </p:blipFill>
        <p:spPr>
          <a:xfrm>
            <a:off x="92160" y="1073160"/>
            <a:ext cx="895968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00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" descr=""/>
          <p:cNvPicPr/>
          <p:nvPr/>
        </p:nvPicPr>
        <p:blipFill>
          <a:blip r:embed="rId2"/>
          <a:stretch/>
        </p:blipFill>
        <p:spPr>
          <a:xfrm>
            <a:off x="147600" y="1046160"/>
            <a:ext cx="88203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04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" descr=""/>
          <p:cNvPicPr/>
          <p:nvPr/>
        </p:nvPicPr>
        <p:blipFill>
          <a:blip r:embed="rId2"/>
          <a:stretch/>
        </p:blipFill>
        <p:spPr>
          <a:xfrm>
            <a:off x="233280" y="1042920"/>
            <a:ext cx="867744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08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2" descr=""/>
          <p:cNvPicPr/>
          <p:nvPr/>
        </p:nvPicPr>
        <p:blipFill>
          <a:blip r:embed="rId2"/>
          <a:stretch/>
        </p:blipFill>
        <p:spPr>
          <a:xfrm>
            <a:off x="92160" y="1046160"/>
            <a:ext cx="8959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12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2" descr=""/>
          <p:cNvPicPr/>
          <p:nvPr/>
        </p:nvPicPr>
        <p:blipFill>
          <a:blip r:embed="rId2"/>
          <a:stretch/>
        </p:blipFill>
        <p:spPr>
          <a:xfrm>
            <a:off x="162000" y="1027080"/>
            <a:ext cx="88200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0"/>
          <p:cNvSpPr/>
          <p:nvPr/>
        </p:nvSpPr>
        <p:spPr>
          <a:xfrm>
            <a:off x="313920" y="1125360"/>
            <a:ext cx="567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РЕБОВАНИЯ К ОБЕСПЕЧЕНИЮ ВОЗВРАТА ЗАЙ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6" descr=""/>
          <p:cNvPicPr/>
          <p:nvPr/>
        </p:nvPicPr>
        <p:blipFill>
          <a:blip r:embed="rId2"/>
          <a:srcRect l="117" t="174" r="9965" b="49815"/>
          <a:stretch/>
        </p:blipFill>
        <p:spPr>
          <a:xfrm>
            <a:off x="250920" y="1685880"/>
            <a:ext cx="7678800" cy="258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0" name="Рисунок 7" descr=""/>
          <p:cNvPicPr/>
          <p:nvPr/>
        </p:nvPicPr>
        <p:blipFill>
          <a:blip r:embed="rId3"/>
          <a:srcRect l="0" t="69080" r="0" b="0"/>
          <a:stretch/>
        </p:blipFill>
        <p:spPr>
          <a:xfrm>
            <a:off x="252360" y="4495680"/>
            <a:ext cx="7677360" cy="159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ая соединительная линия 2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"/>
          <p:cNvSpPr/>
          <p:nvPr/>
        </p:nvSpPr>
        <p:spPr>
          <a:xfrm>
            <a:off x="103320" y="907920"/>
            <a:ext cx="88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НКУРЕНТНЫЕ ПРЕИМУЩЕСТВА ФО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463680" y="1314720"/>
            <a:ext cx="8429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зрачная процедура, базирующаяся на электронном обмене докум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астие Заемщика в процессе принятия ре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ксированные сроки рассмо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можность повторных заимств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можность получения «дешевых» и «длинных» денег для реализации проектов. Процентная ставка от 1% до 5% годов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добный график погашения для реализации проекта – гашение в последние 2 года пользования займом, что позволяет комфортно войти в проект и успешно его реализ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сутствие скрытых комиссий, комиссии за выдачу, за резервирование заемн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сутствие требования по переводу оборо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ояльные подходы к обеспеч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036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дивидуальное сопровождение проекта менеджером фонда (кураторств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2340000" y="260280"/>
            <a:ext cx="5589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168120" y="903240"/>
            <a:ext cx="873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ИДЫ ПОДДЕРЖ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ФОНДА РАЗВИТИЯ ПРОМЫШЛЕННОСТИ КИР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2355840" y="1690560"/>
            <a:ext cx="1674720" cy="24624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327400" y="2009880"/>
            <a:ext cx="1674720" cy="3268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3"/>
          <p:cNvCxnSpPr/>
          <p:nvPr/>
        </p:nvCxnSpPr>
        <p:spPr>
          <a:xfrm flipV="1">
            <a:off x="2103120" y="1821960"/>
            <a:ext cx="25452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23"/>
          <p:cNvCxnSpPr>
            <a:endCxn id="56" idx="1"/>
          </p:cNvCxnSpPr>
          <p:nvPr/>
        </p:nvCxnSpPr>
        <p:spPr>
          <a:xfrm>
            <a:off x="2084040" y="2172960"/>
            <a:ext cx="2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Прямоугольник 41"/>
          <p:cNvSpPr/>
          <p:nvPr/>
        </p:nvSpPr>
        <p:spPr>
          <a:xfrm>
            <a:off x="2335320" y="3605040"/>
            <a:ext cx="1674720" cy="31932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2"/>
          <p:cNvSpPr/>
          <p:nvPr/>
        </p:nvSpPr>
        <p:spPr>
          <a:xfrm>
            <a:off x="2335320" y="4389480"/>
            <a:ext cx="1684080" cy="2793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компон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3"/>
          <p:cNvSpPr/>
          <p:nvPr/>
        </p:nvSpPr>
        <p:spPr>
          <a:xfrm>
            <a:off x="2317680" y="4721400"/>
            <a:ext cx="1701720" cy="2505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48"/>
          <p:cNvCxnSpPr/>
          <p:nvPr/>
        </p:nvCxnSpPr>
        <p:spPr>
          <a:xfrm flipV="1">
            <a:off x="2077560" y="3739320"/>
            <a:ext cx="226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Прямоугольник 57"/>
          <p:cNvSpPr/>
          <p:nvPr/>
        </p:nvSpPr>
        <p:spPr>
          <a:xfrm>
            <a:off x="7272360" y="3129120"/>
            <a:ext cx="1641600" cy="75384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онные (помощь в комплектации пакета докумен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8"/>
          <p:cNvSpPr/>
          <p:nvPr/>
        </p:nvSpPr>
        <p:spPr>
          <a:xfrm>
            <a:off x="7277040" y="3952800"/>
            <a:ext cx="1641600" cy="64764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, в т.ч.по получению субсид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64"/>
          <p:cNvCxnSpPr/>
          <p:nvPr/>
        </p:nvCxnSpPr>
        <p:spPr>
          <a:xfrm>
            <a:off x="7012080" y="246996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Прямая со стрелкой 66"/>
          <p:cNvCxnSpPr>
            <a:endCxn id="64" idx="1"/>
          </p:cNvCxnSpPr>
          <p:nvPr/>
        </p:nvCxnSpPr>
        <p:spPr>
          <a:xfrm>
            <a:off x="6996240" y="4276440"/>
            <a:ext cx="28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Прямоугольник 45"/>
          <p:cNvSpPr/>
          <p:nvPr/>
        </p:nvSpPr>
        <p:spPr>
          <a:xfrm>
            <a:off x="7283520" y="4705200"/>
            <a:ext cx="1639800" cy="8319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– оператор СПИКов, где одна из сторон Киров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6"/>
          <p:cNvSpPr/>
          <p:nvPr/>
        </p:nvSpPr>
        <p:spPr>
          <a:xfrm>
            <a:off x="7273800" y="5640480"/>
            <a:ext cx="1640160" cy="28872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3"/>
          <p:cNvSpPr/>
          <p:nvPr/>
        </p:nvSpPr>
        <p:spPr>
          <a:xfrm>
            <a:off x="7273800" y="5986440"/>
            <a:ext cx="1640160" cy="2872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е ст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4"/>
          <p:cNvSpPr/>
          <p:nvPr/>
        </p:nvSpPr>
        <p:spPr>
          <a:xfrm>
            <a:off x="7292880" y="6343560"/>
            <a:ext cx="1640160" cy="2872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62"/>
          <p:cNvCxnSpPr/>
          <p:nvPr/>
        </p:nvCxnSpPr>
        <p:spPr>
          <a:xfrm>
            <a:off x="6953040" y="5186160"/>
            <a:ext cx="34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63"/>
          <p:cNvCxnSpPr/>
          <p:nvPr/>
        </p:nvCxnSpPr>
        <p:spPr>
          <a:xfrm flipV="1">
            <a:off x="6933960" y="5783040"/>
            <a:ext cx="322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65"/>
          <p:cNvCxnSpPr/>
          <p:nvPr/>
        </p:nvCxnSpPr>
        <p:spPr>
          <a:xfrm>
            <a:off x="6946560" y="6157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68"/>
          <p:cNvCxnSpPr/>
          <p:nvPr/>
        </p:nvCxnSpPr>
        <p:spPr>
          <a:xfrm>
            <a:off x="6933960" y="6484680"/>
            <a:ext cx="369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Прямоугольник 69"/>
          <p:cNvSpPr/>
          <p:nvPr/>
        </p:nvSpPr>
        <p:spPr>
          <a:xfrm>
            <a:off x="219240" y="1677960"/>
            <a:ext cx="1868400" cy="156060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ЬГОТНЫЕ ЗАЙ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ионального фо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рограммы софинанс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0"/>
          <p:cNvSpPr/>
          <p:nvPr/>
        </p:nvSpPr>
        <p:spPr>
          <a:xfrm>
            <a:off x="4889520" y="3067200"/>
            <a:ext cx="2106720" cy="148428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1"/>
          <p:cNvSpPr/>
          <p:nvPr/>
        </p:nvSpPr>
        <p:spPr>
          <a:xfrm>
            <a:off x="162000" y="3301920"/>
            <a:ext cx="1884240" cy="341640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ЬГОТНЫЕ ЗАЙМЫ Федерального фо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2"/>
          <p:cNvSpPr/>
          <p:nvPr/>
        </p:nvSpPr>
        <p:spPr>
          <a:xfrm>
            <a:off x="4908600" y="5648400"/>
            <a:ext cx="2073240" cy="106848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3"/>
          <p:cNvSpPr/>
          <p:nvPr/>
        </p:nvSpPr>
        <p:spPr>
          <a:xfrm>
            <a:off x="4900680" y="4626000"/>
            <a:ext cx="2089080" cy="88740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пециальный инвестиционный контрак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7"/>
          <p:cNvSpPr/>
          <p:nvPr/>
        </p:nvSpPr>
        <p:spPr>
          <a:xfrm>
            <a:off x="2335320" y="3992400"/>
            <a:ext cx="1684080" cy="31932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8"/>
          <p:cNvSpPr/>
          <p:nvPr/>
        </p:nvSpPr>
        <p:spPr>
          <a:xfrm>
            <a:off x="2335320" y="3292560"/>
            <a:ext cx="1674720" cy="2602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9"/>
          <p:cNvSpPr/>
          <p:nvPr/>
        </p:nvSpPr>
        <p:spPr>
          <a:xfrm>
            <a:off x="2336760" y="2378160"/>
            <a:ext cx="1674720" cy="39672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5"/>
          <p:cNvSpPr/>
          <p:nvPr/>
        </p:nvSpPr>
        <p:spPr>
          <a:xfrm>
            <a:off x="2346480" y="2819520"/>
            <a:ext cx="1674720" cy="39672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лесной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9"/>
          <p:cNvSpPr/>
          <p:nvPr/>
        </p:nvSpPr>
        <p:spPr>
          <a:xfrm>
            <a:off x="2319480" y="5024520"/>
            <a:ext cx="1699920" cy="3477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ировка тов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0"/>
          <p:cNvSpPr/>
          <p:nvPr/>
        </p:nvSpPr>
        <p:spPr>
          <a:xfrm>
            <a:off x="2327400" y="5450040"/>
            <a:ext cx="2097000" cy="47772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понентной и  ресурсной б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Прямая со стрелкой 61"/>
          <p:cNvCxnSpPr/>
          <p:nvPr/>
        </p:nvCxnSpPr>
        <p:spPr>
          <a:xfrm>
            <a:off x="2111400" y="257616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67"/>
          <p:cNvCxnSpPr/>
          <p:nvPr/>
        </p:nvCxnSpPr>
        <p:spPr>
          <a:xfrm>
            <a:off x="2081160" y="298728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Прямоугольник 76"/>
          <p:cNvSpPr/>
          <p:nvPr/>
        </p:nvSpPr>
        <p:spPr>
          <a:xfrm>
            <a:off x="2340000" y="6249960"/>
            <a:ext cx="2073240" cy="2350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7"/>
          <p:cNvSpPr/>
          <p:nvPr/>
        </p:nvSpPr>
        <p:spPr>
          <a:xfrm>
            <a:off x="2365200" y="6545160"/>
            <a:ext cx="2291040" cy="2350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ое машиностро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78"/>
          <p:cNvCxnSpPr/>
          <p:nvPr/>
        </p:nvCxnSpPr>
        <p:spPr>
          <a:xfrm>
            <a:off x="2103480" y="450828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79"/>
          <p:cNvCxnSpPr/>
          <p:nvPr/>
        </p:nvCxnSpPr>
        <p:spPr>
          <a:xfrm>
            <a:off x="2087640" y="403812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80"/>
          <p:cNvCxnSpPr/>
          <p:nvPr/>
        </p:nvCxnSpPr>
        <p:spPr>
          <a:xfrm>
            <a:off x="2093760" y="485748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81"/>
          <p:cNvCxnSpPr/>
          <p:nvPr/>
        </p:nvCxnSpPr>
        <p:spPr>
          <a:xfrm>
            <a:off x="2093760" y="519228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82"/>
          <p:cNvCxnSpPr/>
          <p:nvPr/>
        </p:nvCxnSpPr>
        <p:spPr>
          <a:xfrm>
            <a:off x="2077560" y="5551200"/>
            <a:ext cx="22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83"/>
          <p:cNvCxnSpPr/>
          <p:nvPr/>
        </p:nvCxnSpPr>
        <p:spPr>
          <a:xfrm>
            <a:off x="2073240" y="614808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84"/>
          <p:cNvCxnSpPr/>
          <p:nvPr/>
        </p:nvCxnSpPr>
        <p:spPr>
          <a:xfrm>
            <a:off x="2073240" y="6597360"/>
            <a:ext cx="26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85"/>
          <p:cNvCxnSpPr/>
          <p:nvPr/>
        </p:nvCxnSpPr>
        <p:spPr>
          <a:xfrm>
            <a:off x="2092320" y="342216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86"/>
          <p:cNvCxnSpPr/>
          <p:nvPr/>
        </p:nvCxnSpPr>
        <p:spPr>
          <a:xfrm>
            <a:off x="6996240" y="35524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2317680" y="5986440"/>
            <a:ext cx="2097000" cy="32220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5"/>
          <p:cNvCxnSpPr/>
          <p:nvPr/>
        </p:nvCxnSpPr>
        <p:spPr>
          <a:xfrm flipV="1">
            <a:off x="2045880" y="6392520"/>
            <a:ext cx="28188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Прямоугольник 69"/>
          <p:cNvSpPr/>
          <p:nvPr/>
        </p:nvSpPr>
        <p:spPr>
          <a:xfrm>
            <a:off x="4900680" y="1647720"/>
            <a:ext cx="2158920" cy="126216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ЬГОТНЫЕ ЗАЙ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ионального фо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обственные программы  финанс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7329600" y="1722600"/>
            <a:ext cx="1601640" cy="41400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7329600" y="2311560"/>
            <a:ext cx="1620720" cy="3268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0"/>
          <p:cNvCxnSpPr/>
          <p:nvPr/>
        </p:nvCxnSpPr>
        <p:spPr>
          <a:xfrm>
            <a:off x="7023240" y="1981080"/>
            <a:ext cx="24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230640" cy="5713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ая соединительная линия 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0" y="2205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СПЕЦИАЛЬНЫЙ ИНВЕСТИЦИОННЫЙ КОНТРА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(СПИ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5" descr=""/>
          <p:cNvPicPr/>
          <p:nvPr/>
        </p:nvPicPr>
        <p:blipFill>
          <a:blip r:embed="rId2"/>
          <a:srcRect l="0" t="4487" r="0" b="0"/>
          <a:stretch/>
        </p:blipFill>
        <p:spPr>
          <a:xfrm>
            <a:off x="825480" y="1484280"/>
            <a:ext cx="7493040" cy="5019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8"/>
          <p:cNvSpPr/>
          <p:nvPr/>
        </p:nvSpPr>
        <p:spPr>
          <a:xfrm>
            <a:off x="798480" y="94464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ЕРЫ ПОДДЕРЖКИ СП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8"/>
          <p:cNvSpPr/>
          <p:nvPr/>
        </p:nvSpPr>
        <p:spPr>
          <a:xfrm>
            <a:off x="798480" y="944640"/>
            <a:ext cx="7493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тоги деятельности регионального фо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 2018 - 2022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4120" y="1989000"/>
          <a:ext cx="8375760" cy="2557440"/>
        </p:xfrm>
        <a:graphic>
          <a:graphicData uri="http://schemas.openxmlformats.org/drawingml/2006/table">
            <a:tbl>
              <a:tblPr/>
              <a:tblGrid>
                <a:gridCol w="1967040"/>
                <a:gridCol w="1493640"/>
                <a:gridCol w="2060640"/>
                <a:gridCol w="1506600"/>
                <a:gridCol w="1347840"/>
              </a:tblGrid>
              <a:tr h="155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инансировано проектов при участии регионального фо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проекто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н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софинансирования  за счет средств регионального фонд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н. руб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оговые поступления, млн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созданных рабочих мест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03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7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9" name="TextBox 3"/>
          <p:cNvSpPr/>
          <p:nvPr/>
        </p:nvSpPr>
        <p:spPr>
          <a:xfrm>
            <a:off x="2050920" y="4748040"/>
            <a:ext cx="457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итогам 2020 года согласно рейтингу фондов развития промышленности, региональный фонд занял 8 место среди 70 субъектов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 4 место по Приволжскому федеральному окру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8"/>
          <p:cNvSpPr/>
          <p:nvPr/>
        </p:nvSpPr>
        <p:spPr>
          <a:xfrm>
            <a:off x="893880" y="86364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казано финансовой поддержки 2018 – 2022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466560" y="1879560"/>
            <a:ext cx="374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и участии регионального фонда выдан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21 льготный заем  с бюджетом проектов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 037 млн. рублей 13 промышленны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едприятиям регион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: скругленные углы 3"/>
          <p:cNvSpPr/>
          <p:nvPr/>
        </p:nvSpPr>
        <p:spPr>
          <a:xfrm>
            <a:off x="338040" y="2867040"/>
            <a:ext cx="4002120" cy="18032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АО «АВВА-РУС», АО «Кировская фармацевтическая фабрика», ООО «ГалоПолимер Кирово-Чепецк»,</a:t>
            </a: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АО «Искож», АО «Лепсе», ООО «Нанолек», </a:t>
            </a: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ООО «Хольц Хаус»,  СПК-СА (колхоз) «Ударник», </a:t>
            </a: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ООО «Котельничский завод сварочных материалов», АО «Красный  якорь»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ООО «Кировтехгаз», ООО «МК Дороничи»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ООО «Квадрат-С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466560" y="4724280"/>
            <a:ext cx="3745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Реализация проектов 2020 - 2027 г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удет создано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258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овых рабочих мест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Объем налоговых поступлений во все уровни бюджетной системы составит 3,6 млрд. руб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Через региональный фонд профинансировано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7 льготных займ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умма софинансирования со стороны регионального фонда составила  144,4 млн. рубл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3" descr=""/>
          <p:cNvPicPr/>
          <p:nvPr/>
        </p:nvPicPr>
        <p:blipFill>
          <a:blip r:embed="rId2"/>
          <a:stretch/>
        </p:blipFill>
        <p:spPr>
          <a:xfrm>
            <a:off x="5796000" y="1311120"/>
            <a:ext cx="2614680" cy="5619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" descr=""/>
          <p:cNvPicPr/>
          <p:nvPr/>
        </p:nvPicPr>
        <p:blipFill>
          <a:blip r:embed="rId3"/>
          <a:stretch/>
        </p:blipFill>
        <p:spPr>
          <a:xfrm>
            <a:off x="611280" y="1317600"/>
            <a:ext cx="2468520" cy="55548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0"/>
          <p:cNvSpPr/>
          <p:nvPr/>
        </p:nvSpPr>
        <p:spPr>
          <a:xfrm>
            <a:off x="5251320" y="1989000"/>
            <a:ext cx="3527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а оказание финансовой поддержки в форме грантов региональному фонду перечислены средства в размере 36,3 млн. руб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ыдано 34 гранта 14 промышленным предприятиям региона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: скругленные углы 11"/>
          <p:cNvSpPr/>
          <p:nvPr/>
        </p:nvSpPr>
        <p:spPr>
          <a:xfrm>
            <a:off x="4805280" y="3195720"/>
            <a:ext cx="4154400" cy="20714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ООО «Сервисный Металлоцентр ВП», </a:t>
            </a: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ООО «Сервисный Металлоцентр Маркетинг - Бюро», ООО «Литон»,  ПАО «Кировский завод «Маяк»,  ООО «Дизель-С», ООО ПКП «Алмис»,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ООО «Котельничский завод сварочных материалов», ООО «ПромУниверсалЛес», ЗАО НПП «Фармакс», ИП Куприков А.В., ООО «Лестехснаб Плюс», ООО «Вымпел-М», ООО «МЦ5 Групп»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ОО «ГалоПолимер Кирово-Чепец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8"/>
          <p:cNvSpPr/>
          <p:nvPr/>
        </p:nvSpPr>
        <p:spPr>
          <a:xfrm>
            <a:off x="798480" y="94464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ИНА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2340000" y="115920"/>
            <a:ext cx="5589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23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Диаграмма 8" descr=""/>
          <p:cNvPicPr/>
          <p:nvPr/>
        </p:nvPicPr>
        <p:blipFill>
          <a:blip r:embed="rId2"/>
          <a:stretch/>
        </p:blipFill>
        <p:spPr>
          <a:xfrm>
            <a:off x="384120" y="1268280"/>
            <a:ext cx="3913200" cy="2664000"/>
          </a:xfrm>
          <a:prstGeom prst="rect">
            <a:avLst/>
          </a:prstGeom>
          <a:ln w="0">
            <a:noFill/>
          </a:ln>
        </p:spPr>
      </p:pic>
      <p:pic>
        <p:nvPicPr>
          <p:cNvPr id="256" name="Диаграмма 9" descr=""/>
          <p:cNvPicPr/>
          <p:nvPr/>
        </p:nvPicPr>
        <p:blipFill>
          <a:blip r:embed="rId3"/>
          <a:stretch/>
        </p:blipFill>
        <p:spPr>
          <a:xfrm>
            <a:off x="4791240" y="1231920"/>
            <a:ext cx="3919320" cy="2670120"/>
          </a:xfrm>
          <a:prstGeom prst="rect">
            <a:avLst/>
          </a:prstGeom>
          <a:ln w="0">
            <a:noFill/>
          </a:ln>
        </p:spPr>
      </p:pic>
      <p:pic>
        <p:nvPicPr>
          <p:cNvPr id="257" name="Диаграмма 10" descr=""/>
          <p:cNvPicPr/>
          <p:nvPr/>
        </p:nvPicPr>
        <p:blipFill>
          <a:blip r:embed="rId4"/>
          <a:stretch/>
        </p:blipFill>
        <p:spPr>
          <a:xfrm>
            <a:off x="274680" y="3932280"/>
            <a:ext cx="402264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Диаграмма 11" descr=""/>
          <p:cNvPicPr/>
          <p:nvPr/>
        </p:nvPicPr>
        <p:blipFill>
          <a:blip r:embed="rId5"/>
          <a:stretch/>
        </p:blipFill>
        <p:spPr>
          <a:xfrm>
            <a:off x="4468680" y="38527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ая соединительная линия 2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3"/>
          <p:cNvSpPr/>
          <p:nvPr/>
        </p:nvSpPr>
        <p:spPr>
          <a:xfrm>
            <a:off x="1582560" y="1336680"/>
            <a:ext cx="6491520" cy="471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Государственный фо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развития промышл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610000, г. Киров, ул. Динамовский пр-д, д.4, офис 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E-mail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 Black"/>
                <a:hlinkClick r:id="rId2"/>
              </a:rPr>
              <a:t>frpko_43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Сайт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www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frp.kirovreg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Тел.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(8332) 78-28-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Директор Семакова Ольг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Менедже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Мастрикова Елена Пав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Поскребышева Зинаид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2484360" y="189000"/>
            <a:ext cx="5589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ая соединительная линия 24"/>
          <p:cNvSpPr/>
          <p:nvPr/>
        </p:nvSpPr>
        <p:spPr>
          <a:xfrm flipH="1" flipV="1">
            <a:off x="0" y="98064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1252080" y="957240"/>
            <a:ext cx="72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ЩИЕ УСЛОВИЯ ФИНАНСИРОВАНИЯ ПО ЛЬГОТНЫМ ЗАЙМ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2340000" y="260280"/>
            <a:ext cx="5589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9"/>
          <p:cNvSpPr/>
          <p:nvPr/>
        </p:nvSpPr>
        <p:spPr>
          <a:xfrm>
            <a:off x="2620800" y="1479600"/>
            <a:ext cx="4392720" cy="647640"/>
          </a:xfrm>
          <a:prstGeom prst="rect">
            <a:avLst/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тветствие проекта ОТРАСЛЕВЫМ направлениям фонда (перечень ОКВЭ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9"/>
          <p:cNvSpPr/>
          <p:nvPr/>
        </p:nvSpPr>
        <p:spPr>
          <a:xfrm>
            <a:off x="1401840" y="3309840"/>
            <a:ext cx="2952720" cy="133992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направлен на производство ИМПОРТОЗАМЕЩАЮЩЕЙ проду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НОВОГО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9"/>
          <p:cNvSpPr/>
          <p:nvPr/>
        </p:nvSpPr>
        <p:spPr>
          <a:xfrm>
            <a:off x="5291280" y="3282840"/>
            <a:ext cx="3095640" cy="136692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, покупаемое за счет займа, соответствует НАИЛУЧШИМ ДОСТУПНЫ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9"/>
          <p:cNvSpPr/>
          <p:nvPr/>
        </p:nvSpPr>
        <p:spPr>
          <a:xfrm>
            <a:off x="4354560" y="3840120"/>
            <a:ext cx="93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/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9"/>
          <p:cNvSpPr/>
          <p:nvPr/>
        </p:nvSpPr>
        <p:spPr>
          <a:xfrm>
            <a:off x="1036800" y="4759200"/>
            <a:ext cx="7561080" cy="136692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КОМПЛЕКСНАЯ ЭКСПЕРТИЗА ЗАЯ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оответствие Заявителя требованиям фонда (резидент, раскрыта структура собственников, устойчивое финансовое положение, отсутствие задолженностей, положительная кредитная история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соответствие расходов проекта по целевому финансирова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аличие рынка и спроса на продукцию проект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достаточность залогового обеспеч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9"/>
          <p:cNvSpPr/>
          <p:nvPr/>
        </p:nvSpPr>
        <p:spPr>
          <a:xfrm>
            <a:off x="2620800" y="2479680"/>
            <a:ext cx="4464360" cy="720720"/>
          </a:xfrm>
          <a:prstGeom prst="rect">
            <a:avLst/>
          </a:prstGeom>
          <a:solidFill>
            <a:srgbClr val="ff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онахождение производственных активов, место реализации инвестиционного проекта - КИР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9"/>
          <p:cNvSpPr/>
          <p:nvPr/>
        </p:nvSpPr>
        <p:spPr>
          <a:xfrm>
            <a:off x="4643280" y="2130480"/>
            <a:ext cx="287640" cy="325440"/>
          </a:xfrm>
          <a:prstGeom prst="downArrow">
            <a:avLst>
              <a:gd name="adj1" fmla="val 50000"/>
              <a:gd name="adj2" fmla="val 2502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1"/>
          <p:cNvSpPr/>
          <p:nvPr/>
        </p:nvSpPr>
        <p:spPr>
          <a:xfrm>
            <a:off x="4702320" y="4195800"/>
            <a:ext cx="287280" cy="385560"/>
          </a:xfrm>
          <a:prstGeom prst="downArrow">
            <a:avLst>
              <a:gd name="adj1" fmla="val 50000"/>
              <a:gd name="adj2" fmla="val 377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3"/>
          <p:cNvSpPr/>
          <p:nvPr/>
        </p:nvSpPr>
        <p:spPr>
          <a:xfrm>
            <a:off x="4643280" y="3213000"/>
            <a:ext cx="287640" cy="316080"/>
          </a:xfrm>
          <a:prstGeom prst="downArrow">
            <a:avLst>
              <a:gd name="adj1" fmla="val 50000"/>
              <a:gd name="adj2" fmla="val 37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9"/>
          <p:cNvSpPr/>
          <p:nvPr/>
        </p:nvSpPr>
        <p:spPr>
          <a:xfrm>
            <a:off x="1036800" y="6375240"/>
            <a:ext cx="7561080" cy="277920"/>
          </a:xfrm>
          <a:prstGeom prst="rect">
            <a:avLst/>
          </a:prstGeom>
          <a:solidFill>
            <a:srgbClr val="cc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ЙМЫ - ЦЕЛЕВЫЕ, ВОЗВРАТНЫЕ, ЗАЛОГ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2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95280" y="1052640"/>
            <a:ext cx="856440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ТРАСЛЕВЫЕ НАПРАВЛЕНИЯ ДЕЯТЕЛЬНОСТИ,  ФИНАНСИРУЕМЫЕ ФОНДОМ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пищевых продуктов в части промышленных био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текстильных издел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одеж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кожи и изделий из кож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работка древесины и производство изделий из дерева и пробки, кроме мебели, производство изделий из соломки и материалов для плет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бумаги и бумажных издел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химических веществ и химических проду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лекарственных средств и материалов, применяемых в медицинских цел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резиновых и пластмассовых издел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прочей неметаллической минеральной проду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металлургическ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готовых металлических изделий, кроме машин и обору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компьютеров, электронных и оптических издел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электрического обору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машин и оборудования, не включенных в другие группиров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автотранспортных средств, прицепов и полуприцеп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прочих транспортных средств и обору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меб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оизводство прочих готовых издел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емонт и монтаж машин и обору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2340000" y="115920"/>
            <a:ext cx="5589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ая соединительная линия 2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395280" y="1052640"/>
            <a:ext cx="829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ТРАСЛЕВЫЕ НАПРАВЛЕНИЯ ДЕЯТЕЛЬНОСТИ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Е ФИНАНСИРУЕМЫЕ ФОНД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2340000" y="115920"/>
            <a:ext cx="5589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431640" y="1916280"/>
            <a:ext cx="85280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ая соединительная линия 24"/>
          <p:cNvSpPr/>
          <p:nvPr/>
        </p:nvSpPr>
        <p:spPr>
          <a:xfrm flipH="1" flipV="1">
            <a:off x="0" y="836640"/>
            <a:ext cx="91440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"/>
          <p:cNvSpPr/>
          <p:nvPr/>
        </p:nvSpPr>
        <p:spPr>
          <a:xfrm>
            <a:off x="787320" y="907920"/>
            <a:ext cx="47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ЦЕЛЕВОЕ НАЗНАЧЕНИЕ ЗАЙ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484280"/>
          <a:ext cx="8785080" cy="4843440"/>
        </p:xfrm>
        <a:graphic>
          <a:graphicData uri="http://schemas.openxmlformats.org/drawingml/2006/table">
            <a:tbl>
              <a:tblPr/>
              <a:tblGrid>
                <a:gridCol w="5913360"/>
                <a:gridCol w="1428840"/>
                <a:gridCol w="1442880"/>
              </a:tblGrid>
              <a:tr h="4572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ы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ту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3652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нового продукта/технологии, включа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 gridSpan="2"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030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енно-технологические, маркетинговые тестирования и испы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9692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тентные исследования и патентование разработанных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2412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тификация, контрольно-сертификационные процед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41436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бретение расходных материалов для мероприятий по разработке нового продукта/технолог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20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ы зай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414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ий и ценовой аудит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0,3% стоимости проекта, но не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лн.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9692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инир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9512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бретение прав на Р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2318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бретение в собственность промышленного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920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бретение и использование специального оборудования для проведения опытно-конструкторских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906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ТЭО, прединвестиционный анализ, не включая расходы на аналитические исследования ры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4284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хозяйственны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10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ы зай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10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ы зай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2236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 связанные с производством и выводом на рынок пилотных парти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более 50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ы зай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132" name="Заголовок 1"/>
          <p:cNvSpPr/>
          <p:nvPr/>
        </p:nvSpPr>
        <p:spPr>
          <a:xfrm>
            <a:off x="2340000" y="115920"/>
            <a:ext cx="5589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ая соединительная линия 2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179280" y="118116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ФИНАНСИРОВАНИЕ ПО ПРОГРАММАМ НЕ ПРЕДОСТАВЛЯЕ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0" descr=""/>
          <p:cNvPicPr/>
          <p:nvPr/>
        </p:nvPicPr>
        <p:blipFill>
          <a:blip r:embed="rId1"/>
          <a:stretch/>
        </p:blipFill>
        <p:spPr>
          <a:xfrm>
            <a:off x="8291520" y="84240"/>
            <a:ext cx="668160" cy="706320"/>
          </a:xfrm>
          <a:prstGeom prst="rect">
            <a:avLst/>
          </a:prstGeom>
          <a:ln w="0">
            <a:noFill/>
          </a:ln>
        </p:spPr>
      </p:pic>
      <p:sp>
        <p:nvSpPr>
          <p:cNvPr id="136" name="Заголовок 1"/>
          <p:cNvSpPr/>
          <p:nvPr/>
        </p:nvSpPr>
        <p:spPr>
          <a:xfrm>
            <a:off x="2340000" y="115920"/>
            <a:ext cx="5589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r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сударственный фонд развития промышленности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хема 6" descr=""/>
          <p:cNvPicPr/>
          <p:nvPr/>
        </p:nvPicPr>
        <p:blipFill>
          <a:blip r:embed="rId2"/>
          <a:stretch/>
        </p:blipFill>
        <p:spPr>
          <a:xfrm>
            <a:off x="1378080" y="1438200"/>
            <a:ext cx="69120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796000" y="0"/>
            <a:ext cx="3230640" cy="5716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ая соединительная линия 4"/>
          <p:cNvSpPr/>
          <p:nvPr/>
        </p:nvSpPr>
        <p:spPr>
          <a:xfrm flipH="1" flipV="1">
            <a:off x="0" y="907560"/>
            <a:ext cx="91440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10008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СОВМЕСТНЫЕ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ЗАЙ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"/>
          <p:cNvPicPr/>
          <p:nvPr/>
        </p:nvPicPr>
        <p:blipFill>
          <a:blip r:embed="rId2"/>
          <a:srcRect l="0" t="0" r="8456" b="0"/>
          <a:stretch/>
        </p:blipFill>
        <p:spPr>
          <a:xfrm>
            <a:off x="111240" y="115920"/>
            <a:ext cx="685800" cy="64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rcRect l="23168" t="13110" r="44990" b="7378"/>
          <a:stretch/>
        </p:blipFill>
        <p:spPr>
          <a:xfrm>
            <a:off x="755640" y="115920"/>
            <a:ext cx="100800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3:33:59Z</dcterms:created>
  <dc:creator>sashach</dc:creator>
  <dc:description/>
  <dc:language>en-US</dc:language>
  <cp:lastModifiedBy>User</cp:lastModifiedBy>
  <cp:lastPrinted>2023-01-17T12:38:37Z</cp:lastPrinted>
  <dcterms:modified xsi:type="dcterms:W3CDTF">2023-02-27T13:32:50Z</dcterms:modified>
  <cp:revision>951</cp:revision>
  <dc:subject/>
  <dc:title>Схема информационных потоков</dc:title>
</cp:coreProperties>
</file>