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5.png" ContentType="image/png"/>
  <Override PartName="/ppt/media/image10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3.png" ContentType="image/png"/>
  <Override PartName="/ppt/media/image14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.jpeg" ContentType="image/jpeg"/>
  <Override PartName="/ppt/media/image16.jpeg" ContentType="image/jpe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a2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52989-452B-4E0E-8D9D-2783A281F3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C6ABA-A3AA-435F-86C2-7B0AAD0C35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133-1B85-479D-9C82-69D2D0AA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B2A-9BCE-489A-9909-E8C38BBD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EBC-8BA0-4A8F-9C43-A64DE56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CE0-3B00-4F03-9236-537B4935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AD7D-D71C-4D33-9804-0E8AFB1A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7BBB-76B9-4BC6-BB63-97E8B03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F449-F108-4A60-8365-AB1C98F3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B4A1-1C02-4CE4-9805-829F162A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3737-2343-473D-B23F-2B5AC4FC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FF16-1075-4EBF-93FE-06D0E436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4169-3125-4C46-BDEC-F42321A6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CB9-12AE-4F6F-994D-35E4B806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4DC6-D7C9-4F45-B859-C29E0A4B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3E0A-58EA-46B7-85F3-7C022226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C0E3-6B85-43C8-92F5-1A86A030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F1DA-7D98-4442-A791-01A79765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844A-E4F1-4AC1-AB22-8B1E0CF1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14DF-06C9-4C05-A6FF-D270FD74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C8BD-F618-45CC-930C-AEDECD07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304F-D05B-42E3-9BA0-099E36FB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C1F3-488F-410C-9430-6A11430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D880-DCA3-4F51-AA1D-F444D04E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4A2-F27A-4154-AE53-01C80DB6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75EA-6D88-4A97-A745-F830F38A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CE12-1695-4A5A-994B-C8CC5E26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1B41-2BEE-4965-933D-95CA5DB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A982-785C-4C2D-BD64-00E142CF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2839-F4E3-4D24-A738-D9C2B5BA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3EC3-4F94-403C-9B1E-6AF79491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43DB-9DC5-4CA0-B055-465A4F95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46E-81E1-4D96-AEB0-33DF1B96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027-6E5C-4AB5-B3B8-0BC2B503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48A-1203-4B2F-B412-CEF435F2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99A-CDDA-4EC1-8E17-F9C815F7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3AE-287A-443C-99A5-AEBEB30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A9C-4724-415A-8083-B3CEFB25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a2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05C2B-07B5-46AD-8D9D-8E4D5F5877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КДОУ детский сад №1 "Светлячок" города Малмыжа Киров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8C35B-B3C8-41AD-87ED-5B748D953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a2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D91BC-E4B1-48B9-9BB2-2330A2C201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КДОУ детский сад №1 "Светлячок" города Малмыжа Киров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8479A-FCEC-462F-994B-C63BEB82B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a2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a6a2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022FC-CF10-4A57-8873-817A12193F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КДОУ детский сад №1 "Светлячок" города Малмыжа Киров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1F084-7542-4099-88CA-30EEFAE155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7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7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255600" y="1627200"/>
            <a:ext cx="8802720" cy="2176560"/>
          </a:xfrm>
          <a:prstGeom prst="rect">
            <a:avLst/>
          </a:prstGeom>
          <a:ln w="0">
            <a:noFill/>
          </a:ln>
        </p:spPr>
      </p:pic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463680" y="122400"/>
            <a:ext cx="82166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237960" y="907920"/>
            <a:ext cx="8656920" cy="10922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13962" t="15057" r="9854" b="18749"/>
          <a:stretch/>
        </p:blipFill>
        <p:spPr>
          <a:xfrm>
            <a:off x="311040" y="2060640"/>
            <a:ext cx="2306880" cy="356400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7" name="Заголовок 1" descr=""/>
          <p:cNvPicPr/>
          <p:nvPr/>
        </p:nvPicPr>
        <p:blipFill>
          <a:blip r:embed="rId3"/>
          <a:stretch/>
        </p:blipFill>
        <p:spPr>
          <a:xfrm>
            <a:off x="487440" y="158760"/>
            <a:ext cx="8113680" cy="828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rcRect l="0" t="4587" r="7466" b="0"/>
          <a:stretch/>
        </p:blipFill>
        <p:spPr>
          <a:xfrm>
            <a:off x="3322800" y="4197240"/>
            <a:ext cx="2593800" cy="200520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9" name="Picture 3" descr=""/>
          <p:cNvPicPr/>
          <p:nvPr/>
        </p:nvPicPr>
        <p:blipFill>
          <a:blip r:embed="rId5"/>
          <a:srcRect l="0" t="7690" r="8460" b="0"/>
          <a:stretch/>
        </p:blipFill>
        <p:spPr>
          <a:xfrm>
            <a:off x="3316320" y="2060640"/>
            <a:ext cx="2622600" cy="19828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0" name="Picture 5" descr=""/>
          <p:cNvPicPr/>
          <p:nvPr/>
        </p:nvPicPr>
        <p:blipFill>
          <a:blip r:embed="rId6"/>
          <a:srcRect l="4046" t="0" r="8535" b="1770"/>
          <a:stretch/>
        </p:blipFill>
        <p:spPr>
          <a:xfrm>
            <a:off x="6576840" y="2100240"/>
            <a:ext cx="2259360" cy="356400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44600" y="1096920"/>
            <a:ext cx="8254800" cy="11034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Заголовок 1" descr=""/>
          <p:cNvPicPr/>
          <p:nvPr/>
        </p:nvPicPr>
        <p:blipFill>
          <a:blip r:embed="rId2"/>
          <a:stretch/>
        </p:blipFill>
        <p:spPr>
          <a:xfrm>
            <a:off x="487440" y="158760"/>
            <a:ext cx="8113680" cy="8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rcRect l="5914" t="0" r="13063" b="0"/>
          <a:stretch/>
        </p:blipFill>
        <p:spPr>
          <a:xfrm>
            <a:off x="1442880" y="2376360"/>
            <a:ext cx="6037560" cy="342756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225360" y="871560"/>
            <a:ext cx="8528040" cy="9874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s://r1.nubex.ru/s3839-da0/7fc679dadd_fit-in~1280x800~filters:no_upscale()__f4766_5e"/>
          <p:cNvPicPr/>
          <p:nvPr/>
        </p:nvPicPr>
        <p:blipFill>
          <a:blip r:embed="rId2"/>
          <a:stretch/>
        </p:blipFill>
        <p:spPr>
          <a:xfrm>
            <a:off x="1366920" y="1982880"/>
            <a:ext cx="2786040" cy="386532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Picture 4" descr="https://r1.nubex.ru/s3839-da0/1392568e8b_fit-in~1280x800~filters:no_upscale()__f4776_34"/>
          <p:cNvPicPr/>
          <p:nvPr/>
        </p:nvPicPr>
        <p:blipFill>
          <a:blip r:embed="rId3"/>
          <a:stretch/>
        </p:blipFill>
        <p:spPr>
          <a:xfrm>
            <a:off x="4883040" y="1969920"/>
            <a:ext cx="2894040" cy="385956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Заголовок 1" descr=""/>
          <p:cNvPicPr/>
          <p:nvPr/>
        </p:nvPicPr>
        <p:blipFill>
          <a:blip r:embed="rId4"/>
          <a:stretch/>
        </p:blipFill>
        <p:spPr>
          <a:xfrm>
            <a:off x="487440" y="158760"/>
            <a:ext cx="8113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158760" y="963720"/>
            <a:ext cx="8736120" cy="1114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290520" y="2190600"/>
            <a:ext cx="4016520" cy="305280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4525920" y="2654280"/>
            <a:ext cx="4253040" cy="30862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0" name="Заголовок 1" descr=""/>
          <p:cNvPicPr/>
          <p:nvPr/>
        </p:nvPicPr>
        <p:blipFill>
          <a:blip r:embed="rId4"/>
          <a:stretch/>
        </p:blipFill>
        <p:spPr>
          <a:xfrm>
            <a:off x="487440" y="158760"/>
            <a:ext cx="8113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334800" y="890640"/>
            <a:ext cx="8321760" cy="10238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4581360" y="2841480"/>
            <a:ext cx="4164120" cy="278604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6" name="Заголовок 1" descr=""/>
          <p:cNvPicPr/>
          <p:nvPr/>
        </p:nvPicPr>
        <p:blipFill>
          <a:blip r:embed="rId3"/>
          <a:stretch/>
        </p:blipFill>
        <p:spPr>
          <a:xfrm>
            <a:off x="487440" y="158760"/>
            <a:ext cx="8113680" cy="82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4"/>
          <a:stretch/>
        </p:blipFill>
        <p:spPr>
          <a:xfrm>
            <a:off x="341280" y="2166840"/>
            <a:ext cx="3979800" cy="298296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615960" y="1030320"/>
            <a:ext cx="7826400" cy="1036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12920" y="2292480"/>
            <a:ext cx="3935160" cy="295092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>
            <a:off x="4606920" y="2676600"/>
            <a:ext cx="4167360" cy="293040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5" name="Заголовок 1" descr=""/>
          <p:cNvPicPr/>
          <p:nvPr/>
        </p:nvPicPr>
        <p:blipFill>
          <a:blip r:embed="rId4"/>
          <a:stretch/>
        </p:blipFill>
        <p:spPr>
          <a:xfrm>
            <a:off x="487440" y="158760"/>
            <a:ext cx="8113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235160" y="1189080"/>
            <a:ext cx="2746440" cy="464040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995720" y="1185840"/>
            <a:ext cx="2792520" cy="462600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8" name="Заголовок 1" descr=""/>
          <p:cNvPicPr/>
          <p:nvPr/>
        </p:nvPicPr>
        <p:blipFill>
          <a:blip r:embed="rId3"/>
          <a:stretch/>
        </p:blipFill>
        <p:spPr>
          <a:xfrm>
            <a:off x="487440" y="158760"/>
            <a:ext cx="8113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633240" y="689040"/>
            <a:ext cx="7834320" cy="1017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2"/>
          <a:srcRect l="0" t="4508" r="0" b="0"/>
          <a:stretch/>
        </p:blipFill>
        <p:spPr>
          <a:xfrm>
            <a:off x="6423120" y="2390760"/>
            <a:ext cx="2460600" cy="321156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3"/>
          <a:srcRect l="2636" t="25237" r="10282" b="0"/>
          <a:stretch/>
        </p:blipFill>
        <p:spPr>
          <a:xfrm>
            <a:off x="274680" y="4141800"/>
            <a:ext cx="3395520" cy="21700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8" name="Заголовок 1" descr=""/>
          <p:cNvPicPr/>
          <p:nvPr/>
        </p:nvPicPr>
        <p:blipFill>
          <a:blip r:embed="rId4"/>
          <a:stretch/>
        </p:blipFill>
        <p:spPr>
          <a:xfrm>
            <a:off x="487440" y="158760"/>
            <a:ext cx="8113680" cy="82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Памятник погибшим в ходе Великой Отечественной войны расположенный в РМЗ"/>
          <p:cNvPicPr/>
          <p:nvPr/>
        </p:nvPicPr>
        <p:blipFill>
          <a:blip r:embed="rId5"/>
          <a:srcRect l="11319" t="0" r="0" b="0"/>
          <a:stretch/>
        </p:blipFill>
        <p:spPr>
          <a:xfrm>
            <a:off x="3844800" y="1784520"/>
            <a:ext cx="2390760" cy="340020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0" name="Picture 3" descr=""/>
          <p:cNvPicPr/>
          <p:nvPr/>
        </p:nvPicPr>
        <p:blipFill>
          <a:blip r:embed="rId6"/>
          <a:srcRect l="0" t="11417" r="0" b="0"/>
          <a:stretch/>
        </p:blipFill>
        <p:spPr>
          <a:xfrm>
            <a:off x="274680" y="1638360"/>
            <a:ext cx="3327480" cy="22492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81160" y="1152360"/>
            <a:ext cx="8607240" cy="6400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rcRect l="0" t="12182" r="9523" b="0"/>
          <a:stretch/>
        </p:blipFill>
        <p:spPr>
          <a:xfrm>
            <a:off x="1332000" y="2023920"/>
            <a:ext cx="2892240" cy="37450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3" name="Picture 3" descr=""/>
          <p:cNvPicPr/>
          <p:nvPr/>
        </p:nvPicPr>
        <p:blipFill>
          <a:blip r:embed="rId3"/>
          <a:srcRect l="0" t="8825" r="3802" b="0"/>
          <a:stretch/>
        </p:blipFill>
        <p:spPr>
          <a:xfrm>
            <a:off x="4932360" y="2038320"/>
            <a:ext cx="2890800" cy="37432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4" name="Заголовок 1" descr=""/>
          <p:cNvPicPr/>
          <p:nvPr/>
        </p:nvPicPr>
        <p:blipFill>
          <a:blip r:embed="rId4"/>
          <a:stretch/>
        </p:blipFill>
        <p:spPr>
          <a:xfrm>
            <a:off x="487440" y="158760"/>
            <a:ext cx="8113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6T15:39:09Z</dcterms:created>
  <dc:creator>Эрика</dc:creator>
  <dc:description/>
  <dc:language>en-US</dc:language>
  <cp:lastModifiedBy>ком</cp:lastModifiedBy>
  <dcterms:modified xsi:type="dcterms:W3CDTF">2020-04-30T07:53:52Z</dcterms:modified>
  <cp:revision>17</cp:revision>
  <dc:subject/>
  <dc:title>Шаблон День Победы</dc:title>
</cp:coreProperties>
</file>