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D4F2CC1C-DE22-4A87-9137-CEA7C8F91C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5F7ADA66-BB4C-447E-9896-CBA165F60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97320B90-88FD-4F54-8165-5DC37279A8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847-66F1-4D28-8B4B-382B391C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BC5-D241-4DF9-B80D-FF417BE0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C22-0BD1-4128-9181-52228080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B41-FDF4-473D-97A2-89046D94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CDD-F044-4CCD-B357-F19A0924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50E-C8A6-47B0-903D-BA38D5C8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125-CFCB-490D-B6DB-1743054D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AAF-B0FE-4041-8F7D-0123CE7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24E-4C76-4D51-81EF-723199CF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FF8-5D83-416A-84F0-F2820FCB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046-67C9-4226-ADE0-7B922879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48E-4320-442E-AF0D-E3E7E08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t">
            <a:normAutofit/>
          </a:bodyPr>
          <a:p>
            <a:pPr marL="18720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520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084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6984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6984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6984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4D8A9E21-F169-4BF2-8C14-90933ECCBFFD}" type="datetime">
              <a:rPr b="0" lang="ru-RU" sz="10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p>
            <a:pPr indent="0"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800" bIns="37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9A12400D-493F-465B-98E7-326BF3350398}" type="slidenum">
              <a:rPr b="0" lang="ru-RU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7"/>
          <p:cNvSpPr/>
          <p:nvPr/>
        </p:nvSpPr>
        <p:spPr>
          <a:xfrm>
            <a:off x="1011240" y="2590920"/>
            <a:ext cx="64594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2600" spc="-1" strike="noStrike">
                <a:solidFill>
                  <a:srgbClr val="623b2a"/>
                </a:solidFill>
                <a:latin typeface="Calibri Light"/>
              </a:rPr>
              <a:t>МЕРЫ ГОСУДАРСТВЕННОЙ ПОДДЕРЖКИ В УСЛОВИЯХ РАСПРОСТРАНЕНИЯ  КОРОНАВИРУСНОЙ ИНФЕ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"/>
          <p:cNvSpPr/>
          <p:nvPr/>
        </p:nvSpPr>
        <p:spPr>
          <a:xfrm>
            <a:off x="797040" y="6140520"/>
            <a:ext cx="7542000" cy="41040"/>
          </a:xfrm>
          <a:prstGeom prst="line">
            <a:avLst/>
          </a:prstGeom>
          <a:ln cap="sq" w="12600">
            <a:solidFill>
              <a:srgbClr val="c00000"/>
            </a:solidFill>
            <a:custDash>
              <a:ds d="300000" sp="100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087720" y="6140520"/>
            <a:ext cx="249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2000" spc="-1" strike="noStrike">
                <a:solidFill>
                  <a:srgbClr val="623b2a"/>
                </a:solidFill>
                <a:latin typeface="Calibri Light"/>
              </a:rPr>
              <a:t>Май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авнобедренный треугольник 4" descr=""/>
          <p:cNvPicPr/>
          <p:nvPr/>
        </p:nvPicPr>
        <p:blipFill>
          <a:blip r:embed="rId1"/>
          <a:stretch/>
        </p:blipFill>
        <p:spPr>
          <a:xfrm>
            <a:off x="785880" y="6272280"/>
            <a:ext cx="287280" cy="189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4483080" y="3252960"/>
            <a:ext cx="22068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rubradmin.ru/sites/default/files/screenshot_7.jpg"/>
          <p:cNvPicPr/>
          <p:nvPr/>
        </p:nvPicPr>
        <p:blipFill>
          <a:blip r:embed="rId2"/>
          <a:stretch/>
        </p:blipFill>
        <p:spPr>
          <a:xfrm>
            <a:off x="6126120" y="-6480"/>
            <a:ext cx="302436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opko43.ru/upload/iblock/74a/pravitelstvo-ko.jpg"/>
          <p:cNvPicPr/>
          <p:nvPr/>
        </p:nvPicPr>
        <p:blipFill>
          <a:blip r:embed="rId3"/>
          <a:stretch/>
        </p:blipFill>
        <p:spPr>
          <a:xfrm>
            <a:off x="-6480" y="-12600"/>
            <a:ext cx="34387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948360" y="63817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D840CBF4-E317-416B-A2D4-8683472410EB}" type="slidenum">
              <a:rPr b="0" lang="ru-RU" sz="1000" spc="-1" strike="noStrike">
                <a:solidFill>
                  <a:srgbClr val="000000"/>
                </a:solidFill>
                <a:latin typeface="Muller Narrow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1522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800" bIns="37800" anchor="ctr">
            <a:sp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179280" y="115920"/>
            <a:ext cx="647712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2600" spc="-1" strike="noStrike">
                <a:solidFill>
                  <a:srgbClr val="623b2a"/>
                </a:solidFill>
                <a:latin typeface="Calibri Light"/>
              </a:rPr>
              <a:t>ПЕРЕЧЕНЬ ПОСТРАДАВШИХ ОТРАС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565280" y="1090440"/>
            <a:ext cx="57675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2600" spc="-1" strike="noStrike">
                <a:solidFill>
                  <a:srgbClr val="ff4b4b"/>
                </a:solidFill>
                <a:latin typeface="Calibri"/>
              </a:rPr>
              <a:t>Постановление Правительства РФ </a:t>
            </a:r>
            <a:br>
              <a:rPr sz="2600"/>
            </a:br>
            <a:r>
              <a:rPr b="1" lang="ru-RU" sz="2600" spc="-1" strike="noStrike">
                <a:solidFill>
                  <a:srgbClr val="ff4b4b"/>
                </a:solidFill>
                <a:latin typeface="Calibri"/>
              </a:rPr>
              <a:t>от 03.04.2020  № 434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 ред. от 12.05.2020 № 6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rubradmin.ru/sites/default/files/screenshot_7.jpg"/>
          <p:cNvPicPr/>
          <p:nvPr/>
        </p:nvPicPr>
        <p:blipFill>
          <a:blip r:embed="rId1"/>
          <a:stretch/>
        </p:blipFill>
        <p:spPr>
          <a:xfrm>
            <a:off x="6783480" y="0"/>
            <a:ext cx="2360520" cy="8794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324000" y="2997360"/>
            <a:ext cx="85341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территории Кировской области из перечня ВСЕГ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4b4b"/>
              </a:buClr>
              <a:buFont typeface="Calibri"/>
              <a:buChar char="-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2800" spc="-1" strike="noStrike">
                <a:solidFill>
                  <a:srgbClr val="ff4b4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4b4b"/>
                </a:solidFill>
                <a:latin typeface="Calibri"/>
              </a:rPr>
              <a:t>14 726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МСП, из них: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4b4b"/>
                </a:solidFill>
                <a:latin typeface="Calibri"/>
              </a:rPr>
              <a:t>2 615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Л</a:t>
            </a:r>
            <a:r>
              <a:rPr b="0" lang="ru-RU" sz="2800" spc="-1" strike="noStrike">
                <a:solidFill>
                  <a:srgbClr val="ff4b4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ff4b4b"/>
                </a:solidFill>
                <a:latin typeface="Calibri"/>
              </a:rPr>
              <a:t> 12 111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Calibri"/>
              <a:buChar char="-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4b4b"/>
              </a:buClr>
              <a:buFont typeface="Calibri"/>
              <a:buChar char="-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2800" spc="-1" strike="noStrike">
                <a:solidFill>
                  <a:srgbClr val="ff4b4b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ff4b4b"/>
                </a:solidFill>
                <a:latin typeface="Calibri"/>
              </a:rPr>
              <a:t>25 738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нятых у СМ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3284640" y="2349360"/>
            <a:ext cx="23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ff4b4b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 сфер </a:t>
            </a:r>
            <a:r>
              <a:rPr b="0" lang="en-US" sz="2000" spc="-1" strike="noStrike">
                <a:solidFill>
                  <a:srgbClr val="ff4b4b"/>
                </a:solidFill>
                <a:latin typeface="Calibri"/>
              </a:rPr>
              <a:t>38</a:t>
            </a: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 отрас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5500800" y="4354560"/>
            <a:ext cx="3663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12.05.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47.19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рговля розничная проч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еспециализированных магазин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47.99.2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ь по осуществлению торговли через автома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32.99.8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о изделий НХ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427640" y="1389240"/>
            <a:ext cx="215640" cy="19656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"/>
          <p:cNvSpPr/>
          <p:nvPr/>
        </p:nvSpPr>
        <p:spPr>
          <a:xfrm>
            <a:off x="6894360" y="649116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A3424F94-84B7-4505-B1E9-ED888E869EFF}" type="slidenum">
              <a:rPr b="0" lang="ru-RU" sz="1000" spc="-1" strike="noStrike">
                <a:solidFill>
                  <a:srgbClr val="000000"/>
                </a:solidFill>
                <a:latin typeface="Muller Narrow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644920" y="817200"/>
            <a:ext cx="342108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2600" spc="-1" strike="noStrike">
                <a:solidFill>
                  <a:srgbClr val="ff4b4b"/>
                </a:solidFill>
                <a:latin typeface="Calibri"/>
              </a:rPr>
              <a:t>Федеральные м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2"/>
          <p:cNvSpPr/>
          <p:nvPr/>
        </p:nvSpPr>
        <p:spPr>
          <a:xfrm>
            <a:off x="4753080" y="519120"/>
            <a:ext cx="7170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i="1" lang="ru-RU" sz="13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 u="sng">
                <a:solidFill>
                  <a:srgbClr val="581d00"/>
                </a:solidFill>
                <a:uFillTx/>
                <a:latin typeface="Calibri"/>
                <a:ea typeface="Calibri"/>
              </a:rPr>
              <a:t>ДОПОЛНИ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7"/>
          <p:cNvSpPr/>
          <p:nvPr/>
        </p:nvSpPr>
        <p:spPr>
          <a:xfrm>
            <a:off x="946080" y="204840"/>
            <a:ext cx="610236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ru-RU" sz="2600" spc="-1" strike="noStrike">
                <a:solidFill>
                  <a:srgbClr val="623b2a"/>
                </a:solidFill>
                <a:latin typeface="Calibri Light"/>
              </a:rPr>
              <a:t>ФИНАНСОВЫЕ МЕ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ru-RU" sz="2600" spc="-1" strike="noStrike">
                <a:solidFill>
                  <a:srgbClr val="623b2a"/>
                </a:solidFill>
                <a:latin typeface="Calibri Light"/>
              </a:rPr>
              <a:t>ПОДДЕРЖ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13"/>
          <p:cNvGrpSpPr/>
          <p:nvPr/>
        </p:nvGrpSpPr>
        <p:grpSpPr>
          <a:xfrm>
            <a:off x="206280" y="179280"/>
            <a:ext cx="739800" cy="700200"/>
            <a:chOff x="206280" y="179280"/>
            <a:chExt cx="739800" cy="700200"/>
          </a:xfrm>
        </p:grpSpPr>
        <p:sp>
          <p:nvSpPr>
            <p:cNvPr id="69" name="Овал 19"/>
            <p:cNvSpPr/>
            <p:nvPr/>
          </p:nvSpPr>
          <p:spPr>
            <a:xfrm>
              <a:off x="206280" y="179280"/>
              <a:ext cx="739800" cy="700200"/>
            </a:xfrm>
            <a:prstGeom prst="ellipse">
              <a:avLst/>
            </a:prstGeom>
            <a:solidFill>
              <a:srgbClr val="d8b088"/>
            </a:solidFill>
            <a:ln w="12600">
              <a:solidFill>
                <a:srgbClr val="d8b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21" descr="http://cdn.onlinewebfonts.com/svg/download_542594.png"/>
            <p:cNvPicPr/>
            <p:nvPr/>
          </p:nvPicPr>
          <p:blipFill>
            <a:blip r:embed="rId2"/>
            <a:stretch/>
          </p:blipFill>
          <p:spPr>
            <a:xfrm>
              <a:off x="273240" y="242640"/>
              <a:ext cx="605160" cy="57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Picture 2" descr="http://www.rubradmin.ru/sites/default/files/screenshot_7.jpg"/>
          <p:cNvPicPr/>
          <p:nvPr/>
        </p:nvPicPr>
        <p:blipFill>
          <a:blip r:embed="rId3"/>
          <a:stretch/>
        </p:blipFill>
        <p:spPr>
          <a:xfrm>
            <a:off x="6662880" y="0"/>
            <a:ext cx="2481120" cy="879480"/>
          </a:xfrm>
          <a:prstGeom prst="rect">
            <a:avLst/>
          </a:prstGeom>
          <a:ln w="0">
            <a:noFill/>
          </a:ln>
        </p:spPr>
      </p:pic>
      <p:grpSp>
        <p:nvGrpSpPr>
          <p:cNvPr id="72" name="Группа 28"/>
          <p:cNvGrpSpPr/>
          <p:nvPr/>
        </p:nvGrpSpPr>
        <p:grpSpPr>
          <a:xfrm>
            <a:off x="179280" y="1371600"/>
            <a:ext cx="8772480" cy="3181320"/>
            <a:chOff x="179280" y="1371600"/>
            <a:chExt cx="8772480" cy="3181320"/>
          </a:xfrm>
        </p:grpSpPr>
        <p:sp>
          <p:nvSpPr>
            <p:cNvPr id="73" name="Прямоугольник 8"/>
            <p:cNvSpPr/>
            <p:nvPr/>
          </p:nvSpPr>
          <p:spPr>
            <a:xfrm>
              <a:off x="394200" y="3520440"/>
              <a:ext cx="46641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2400"/>
                  <a:tab algn="l" pos="1504800"/>
                  <a:tab algn="l" pos="2257560"/>
                  <a:tab algn="l" pos="3009960"/>
                  <a:tab algn="l" pos="3762360"/>
                  <a:tab algn="l" pos="4514760"/>
                  <a:tab algn="l" pos="5267160"/>
                  <a:tab algn="l" pos="6019920"/>
                  <a:tab algn="l" pos="6772320"/>
                  <a:tab algn="l" pos="7524720"/>
                  <a:tab algn="l" pos="8277120"/>
                  <a:tab algn="l" pos="9029880"/>
                  <a:tab algn="l" pos="9782280"/>
                  <a:tab algn="l" pos="105346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0%-кредит на выплату зарплаты </a:t>
              </a:r>
              <a:br>
                <a:rPr sz="1500"/>
              </a:br>
              <a:r>
                <a:rPr b="0" i="1" lang="ru-RU" sz="15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КО: «Сбербанк», «ВТБ», «Промсвязьбанк», «Открытие», АО «МСП Банк»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оугольник 11"/>
            <p:cNvSpPr/>
            <p:nvPr/>
          </p:nvSpPr>
          <p:spPr>
            <a:xfrm>
              <a:off x="4642920" y="1371600"/>
              <a:ext cx="4308840" cy="27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Calibri"/>
                  <a:ea typeface="Calibri"/>
                </a:rPr>
                <a:t>Поддержка системообразующих предприятий </a:t>
              </a:r>
              <a:br>
                <a:rPr sz="1500"/>
              </a:br>
              <a:r>
                <a:rPr b="0" i="1" lang="ru-RU" sz="12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7 организаций от Кировской области)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а) субсидирование затрат , связанных с производством (реализацией) товаров, выполнением работ, оказанием услуг </a:t>
              </a:r>
              <a:r>
                <a:rPr b="0" i="1" lang="ru-RU" sz="13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постановление Правительства РФ от 10.05.2020 </a:t>
              </a:r>
              <a:br>
                <a:rPr sz="1300"/>
              </a:br>
              <a:r>
                <a:rPr b="0" i="1" lang="ru-RU" sz="13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№ 651)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799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б) отсрочка (рассрочка) по уплате налогов, авансовых платежей по налогам </a:t>
              </a:r>
              <a:r>
                <a:rPr b="0" i="1" lang="ru-RU" sz="13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постановление Правительства РФ от 02.04.2020 № 409)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799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в) государственные гарантии РФ по кредитам </a:t>
              </a:r>
              <a:br>
                <a:rPr sz="1500"/>
              </a:b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или облигационным займам </a:t>
              </a:r>
              <a:r>
                <a:rPr b="0" i="1" lang="ru-RU" sz="13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постановление Правительства РФ от 10.05.2017 № 549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179280" y="3573000"/>
              <a:ext cx="21564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" descr=""/>
            <p:cNvPicPr/>
            <p:nvPr/>
          </p:nvPicPr>
          <p:blipFill>
            <a:blip r:embed="rId5"/>
            <a:stretch/>
          </p:blipFill>
          <p:spPr>
            <a:xfrm>
              <a:off x="179280" y="4353120"/>
              <a:ext cx="215640" cy="19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Группа 27"/>
          <p:cNvGrpSpPr/>
          <p:nvPr/>
        </p:nvGrpSpPr>
        <p:grpSpPr>
          <a:xfrm>
            <a:off x="179280" y="1684440"/>
            <a:ext cx="4540320" cy="2805120"/>
            <a:chOff x="179280" y="1684440"/>
            <a:chExt cx="4540320" cy="2805120"/>
          </a:xfrm>
        </p:grpSpPr>
        <p:pic>
          <p:nvPicPr>
            <p:cNvPr id="78" name="Picture 3" descr=""/>
            <p:cNvPicPr/>
            <p:nvPr/>
          </p:nvPicPr>
          <p:blipFill>
            <a:blip r:embed="rId6"/>
            <a:stretch/>
          </p:blipFill>
          <p:spPr>
            <a:xfrm>
              <a:off x="4503960" y="4293000"/>
              <a:ext cx="215640" cy="1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Прямоугольник 26"/>
            <p:cNvSpPr/>
            <p:nvPr/>
          </p:nvSpPr>
          <p:spPr>
            <a:xfrm>
              <a:off x="323280" y="1684440"/>
              <a:ext cx="42246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2400"/>
                  <a:tab algn="l" pos="1504800"/>
                  <a:tab algn="l" pos="2257560"/>
                  <a:tab algn="l" pos="3009960"/>
                  <a:tab algn="l" pos="3762360"/>
                  <a:tab algn="l" pos="4514760"/>
                  <a:tab algn="l" pos="5267160"/>
                  <a:tab algn="l" pos="6019920"/>
                  <a:tab algn="l" pos="6772320"/>
                  <a:tab algn="l" pos="7524720"/>
                  <a:tab algn="l" pos="8277120"/>
                  <a:tab algn="l" pos="9029880"/>
                  <a:tab algn="l" pos="9782280"/>
                  <a:tab algn="l" pos="105346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Отсрочка по уплате налогов и страховых </a:t>
              </a:r>
              <a:br>
                <a:rPr sz="1500"/>
              </a:b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взносов в заявительном порядке </a:t>
              </a:r>
              <a:r>
                <a:rPr b="0" i="1" lang="ru-RU" sz="17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до 01.12.202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оугольник 10"/>
            <p:cNvSpPr/>
            <p:nvPr/>
          </p:nvSpPr>
          <p:spPr>
            <a:xfrm>
              <a:off x="395280" y="2780640"/>
              <a:ext cx="37137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52400"/>
                  <a:tab algn="l" pos="1504800"/>
                  <a:tab algn="l" pos="2257560"/>
                  <a:tab algn="l" pos="3009960"/>
                  <a:tab algn="l" pos="3762360"/>
                  <a:tab algn="l" pos="4514760"/>
                  <a:tab algn="l" pos="5267160"/>
                  <a:tab algn="l" pos="6019920"/>
                  <a:tab algn="l" pos="6772320"/>
                  <a:tab algn="l" pos="7524720"/>
                  <a:tab algn="l" pos="8277120"/>
                  <a:tab algn="l" pos="9029880"/>
                  <a:tab algn="l" pos="9782280"/>
                  <a:tab algn="l" pos="105346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Финансовая помощь предприятиям на зарплату сотрудников - </a:t>
              </a:r>
              <a:r>
                <a:rPr b="0" i="1" lang="ru-RU" sz="18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12 130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3" descr=""/>
            <p:cNvPicPr/>
            <p:nvPr/>
          </p:nvPicPr>
          <p:blipFill>
            <a:blip r:embed="rId7"/>
            <a:stretch/>
          </p:blipFill>
          <p:spPr>
            <a:xfrm>
              <a:off x="179280" y="2420640"/>
              <a:ext cx="2156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"/>
            <p:cNvPicPr/>
            <p:nvPr/>
          </p:nvPicPr>
          <p:blipFill>
            <a:blip r:embed="rId8"/>
            <a:stretch/>
          </p:blipFill>
          <p:spPr>
            <a:xfrm>
              <a:off x="179280" y="2780640"/>
              <a:ext cx="215640" cy="19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Прямоугольник 28"/>
          <p:cNvSpPr/>
          <p:nvPr/>
        </p:nvSpPr>
        <p:spPr>
          <a:xfrm>
            <a:off x="395280" y="429264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«Кредитные каникулы» для СМСП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2763720" y="5011560"/>
            <a:ext cx="3899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 algn="ctr">
              <a:lnSpc>
                <a:spcPts val="165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ru-RU" sz="1500" spc="-1" strike="noStrike">
                <a:solidFill>
                  <a:srgbClr val="623b2a"/>
                </a:solidFill>
                <a:latin typeface="Calibri Light"/>
              </a:rPr>
              <a:t>Дополнительно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Группа 32"/>
          <p:cNvGrpSpPr/>
          <p:nvPr/>
        </p:nvGrpSpPr>
        <p:grpSpPr>
          <a:xfrm>
            <a:off x="433440" y="5011560"/>
            <a:ext cx="7745400" cy="1987560"/>
            <a:chOff x="433440" y="5011560"/>
            <a:chExt cx="7745400" cy="1987560"/>
          </a:xfrm>
        </p:grpSpPr>
        <p:sp>
          <p:nvSpPr>
            <p:cNvPr id="86" name="Прямоугольник 8"/>
            <p:cNvSpPr/>
            <p:nvPr/>
          </p:nvSpPr>
          <p:spPr>
            <a:xfrm>
              <a:off x="649440" y="5442840"/>
              <a:ext cx="752940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752400"/>
                  <a:tab algn="l" pos="1504800"/>
                  <a:tab algn="l" pos="2257560"/>
                  <a:tab algn="l" pos="3009960"/>
                  <a:tab algn="l" pos="3762360"/>
                  <a:tab algn="l" pos="4514760"/>
                  <a:tab algn="l" pos="5267160"/>
                  <a:tab algn="l" pos="6019920"/>
                  <a:tab algn="l" pos="6772320"/>
                  <a:tab algn="l" pos="7524720"/>
                  <a:tab algn="l" pos="8277120"/>
                  <a:tab algn="l" pos="9029880"/>
                  <a:tab algn="l" pos="9782280"/>
                  <a:tab algn="l" pos="105346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писание налогов и страховых взносов за апрель, май и июнь  текущего года, </a:t>
              </a:r>
              <a:br>
                <a:rPr sz="1500"/>
              </a:b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кроме НДС </a:t>
              </a:r>
              <a:r>
                <a:rPr b="0" i="1" lang="ru-RU" sz="14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для пострадавших СМСП и СОНКО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Группа 27"/>
            <p:cNvGrpSpPr/>
            <p:nvPr/>
          </p:nvGrpSpPr>
          <p:grpSpPr>
            <a:xfrm>
              <a:off x="433440" y="5011560"/>
              <a:ext cx="3643560" cy="1987560"/>
              <a:chOff x="433440" y="5011560"/>
              <a:chExt cx="3643560" cy="1987560"/>
            </a:xfrm>
          </p:grpSpPr>
          <p:sp>
            <p:nvSpPr>
              <p:cNvPr id="88" name="Прямоугольник 26"/>
              <p:cNvSpPr/>
              <p:nvPr/>
            </p:nvSpPr>
            <p:spPr>
              <a:xfrm>
                <a:off x="471960" y="5011560"/>
                <a:ext cx="3605040" cy="2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800" bIns="37800" anchor="t">
                <a:spAutoFit/>
              </a:bodyPr>
              <a:p>
                <a:pPr>
                  <a:lnSpc>
                    <a:spcPts val="2475"/>
                  </a:lnSpc>
                  <a:tabLst>
                    <a:tab algn="l" pos="0"/>
                    <a:tab algn="l" pos="752400"/>
                    <a:tab algn="l" pos="1504800"/>
                    <a:tab algn="l" pos="2257560"/>
                    <a:tab algn="l" pos="3009960"/>
                    <a:tab algn="l" pos="3762360"/>
                    <a:tab algn="l" pos="4514760"/>
                    <a:tab algn="l" pos="5267160"/>
                    <a:tab algn="l" pos="6019920"/>
                    <a:tab algn="l" pos="6772320"/>
                    <a:tab algn="l" pos="7524720"/>
                    <a:tab algn="l" pos="8277120"/>
                    <a:tab algn="l" pos="9029880"/>
                    <a:tab algn="l" pos="9782280"/>
                    <a:tab algn="l" pos="1053468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Прямоугольник 10"/>
              <p:cNvSpPr/>
              <p:nvPr/>
            </p:nvSpPr>
            <p:spPr>
              <a:xfrm>
                <a:off x="433440" y="6843600"/>
                <a:ext cx="323100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800" bIns="37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52400"/>
                    <a:tab algn="l" pos="1504800"/>
                    <a:tab algn="l" pos="2257560"/>
                    <a:tab algn="l" pos="3009960"/>
                    <a:tab algn="l" pos="3762360"/>
                    <a:tab algn="l" pos="4514760"/>
                    <a:tab algn="l" pos="5267160"/>
                    <a:tab algn="l" pos="6019920"/>
                    <a:tab algn="l" pos="6772320"/>
                    <a:tab algn="l" pos="7524720"/>
                    <a:tab algn="l" pos="8277120"/>
                    <a:tab algn="l" pos="9029880"/>
                    <a:tab algn="l" pos="9782280"/>
                    <a:tab algn="l" pos="1053468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Прямоугольник 8"/>
            <p:cNvSpPr/>
            <p:nvPr/>
          </p:nvSpPr>
          <p:spPr>
            <a:xfrm>
              <a:off x="649440" y="5875200"/>
              <a:ext cx="6832440" cy="5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ts val="899"/>
                </a:lnSpc>
                <a:tabLst>
                  <a:tab algn="l" pos="0"/>
                  <a:tab algn="l" pos="752400"/>
                  <a:tab algn="l" pos="1504800"/>
                  <a:tab algn="l" pos="2257560"/>
                  <a:tab algn="l" pos="3009960"/>
                  <a:tab algn="l" pos="3762360"/>
                  <a:tab algn="l" pos="4514760"/>
                  <a:tab algn="l" pos="5267160"/>
                  <a:tab algn="l" pos="6019920"/>
                  <a:tab algn="l" pos="6772320"/>
                  <a:tab algn="l" pos="7524720"/>
                  <a:tab algn="l" pos="8277120"/>
                  <a:tab algn="l" pos="9029880"/>
                  <a:tab algn="l" pos="9782280"/>
                  <a:tab algn="l" pos="1053468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752400"/>
                  <a:tab algn="l" pos="1504800"/>
                  <a:tab algn="l" pos="2257560"/>
                  <a:tab algn="l" pos="3009960"/>
                  <a:tab algn="l" pos="3762360"/>
                  <a:tab algn="l" pos="4514760"/>
                  <a:tab algn="l" pos="5267160"/>
                  <a:tab algn="l" pos="6019920"/>
                  <a:tab algn="l" pos="6772320"/>
                  <a:tab algn="l" pos="7524720"/>
                  <a:tab algn="l" pos="8277120"/>
                  <a:tab algn="l" pos="9029880"/>
                  <a:tab algn="l" pos="9782280"/>
                  <a:tab algn="l" pos="1053468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редоставление вычета по соцвзносам в размере 1 МРОТ </a:t>
              </a:r>
              <a:r>
                <a:rPr b="0" i="1" lang="ru-RU" sz="14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для ИП  пострадавших отраслей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3" descr=""/>
          <p:cNvPicPr/>
          <p:nvPr/>
        </p:nvPicPr>
        <p:blipFill>
          <a:blip r:embed="rId9"/>
          <a:stretch/>
        </p:blipFill>
        <p:spPr>
          <a:xfrm>
            <a:off x="395280" y="5445000"/>
            <a:ext cx="21600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10"/>
          <a:stretch/>
        </p:blipFill>
        <p:spPr>
          <a:xfrm>
            <a:off x="395280" y="6021360"/>
            <a:ext cx="216000" cy="2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11"/>
          <a:stretch/>
        </p:blipFill>
        <p:spPr>
          <a:xfrm>
            <a:off x="179280" y="1773360"/>
            <a:ext cx="216000" cy="1965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9"/>
          <p:cNvSpPr/>
          <p:nvPr/>
        </p:nvSpPr>
        <p:spPr>
          <a:xfrm>
            <a:off x="4753080" y="4227480"/>
            <a:ext cx="4572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Для всех субъектов МСП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Снижение тарифов по страховым  взносам 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до 15% на зарплату  свыше  1 МРО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0"/>
          <p:cNvSpPr/>
          <p:nvPr/>
        </p:nvSpPr>
        <p:spPr>
          <a:xfrm>
            <a:off x="339480" y="1251000"/>
            <a:ext cx="3785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ддержка МСП в пострадавших отрасл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1"/>
          <p:cNvSpPr/>
          <p:nvPr/>
        </p:nvSpPr>
        <p:spPr>
          <a:xfrm>
            <a:off x="401040" y="2349360"/>
            <a:ext cx="278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Отсрочка по аренде имуществ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0"/>
          <p:cNvSpPr/>
          <p:nvPr/>
        </p:nvSpPr>
        <p:spPr>
          <a:xfrm flipV="1">
            <a:off x="4427640" y="1413000"/>
            <a:ext cx="0" cy="3450960"/>
          </a:xfrm>
          <a:prstGeom prst="line">
            <a:avLst/>
          </a:prstGeom>
          <a:ln w="19080">
            <a:solidFill>
              <a:srgbClr val="ff4b4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1"/>
          <p:cNvSpPr/>
          <p:nvPr/>
        </p:nvSpPr>
        <p:spPr>
          <a:xfrm>
            <a:off x="6783480" y="6357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0B646C84-7A5F-4863-A075-CE2BCB0EE20C}" type="slidenum">
              <a:rPr b="0" lang="ru-RU" sz="1000" spc="-1" strike="noStrike">
                <a:solidFill>
                  <a:srgbClr val="000000"/>
                </a:solidFill>
                <a:latin typeface="Muller Narrow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Группа 50" descr=""/>
          <p:cNvPicPr/>
          <p:nvPr/>
        </p:nvPicPr>
        <p:blipFill>
          <a:blip r:embed="rId1"/>
          <a:stretch/>
        </p:blipFill>
        <p:spPr>
          <a:xfrm>
            <a:off x="5357880" y="2773440"/>
            <a:ext cx="3500280" cy="31464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5"/>
          <p:cNvSpPr/>
          <p:nvPr/>
        </p:nvSpPr>
        <p:spPr>
          <a:xfrm>
            <a:off x="322200" y="2262240"/>
            <a:ext cx="51116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1600" spc="-1" strike="noStrike" u="sng">
                <a:solidFill>
                  <a:srgbClr val="581d00"/>
                </a:solidFill>
                <a:uFillTx/>
                <a:latin typeface="Calibri"/>
              </a:rPr>
              <a:t>Действующие заемные продукты для всех С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оборотные средств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3,0 млн. рублей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3 года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до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10%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основные сред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4,0 млн. рублей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3 года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до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9,5%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оставление отсрочки на 3-6 месяце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i="1" lang="ru-RU" sz="1300" spc="-1" strike="noStrike">
                <a:solidFill>
                  <a:srgbClr val="ff4b4b"/>
                </a:solidFill>
                <a:latin typeface="Calibri"/>
                <a:ea typeface="Calibri"/>
              </a:rPr>
              <a:t>147 заявок на 18 млн.руб. (одобрено 80 заявок на 12 млн.рублей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4"/>
          <p:cNvSpPr/>
          <p:nvPr/>
        </p:nvSpPr>
        <p:spPr>
          <a:xfrm>
            <a:off x="376200" y="4869000"/>
            <a:ext cx="391968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 algn="ctr">
              <a:lnSpc>
                <a:spcPts val="825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ля приоритетных проектов –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4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alibri"/>
              </a:rPr>
              <a:t>(социальное и женское предпринимательство, туризм, экология, спорт, промпарки, экспорт, ТОСЭР и др.)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оногород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400" spc="-1" strike="noStrike">
                <a:solidFill>
                  <a:srgbClr val="ff4b4b"/>
                </a:solidFill>
                <a:latin typeface="Calibri"/>
              </a:rPr>
              <a:t>2,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alibri"/>
              </a:rPr>
              <a:t>(при реализации приоритетных проектов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ХП –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7"/>
          <p:cNvSpPr/>
          <p:nvPr/>
        </p:nvSpPr>
        <p:spPr>
          <a:xfrm>
            <a:off x="430200" y="4389480"/>
            <a:ext cx="34765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1600" spc="-1" strike="noStrike" u="sng">
                <a:solidFill>
                  <a:srgbClr val="581d00"/>
                </a:solidFill>
                <a:uFillTx/>
                <a:latin typeface="Calibri"/>
              </a:rPr>
              <a:t>Специальные заемные проду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4,0 млн. рублей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</a:rPr>
              <a:t>3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8"/>
          <p:cNvSpPr/>
          <p:nvPr/>
        </p:nvSpPr>
        <p:spPr>
          <a:xfrm>
            <a:off x="268200" y="1352520"/>
            <a:ext cx="57769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Портфель КОФПМСП   </a:t>
            </a:r>
            <a:r>
              <a:rPr b="0" i="1" lang="ru-RU" sz="1800" spc="-1" strike="noStrike">
                <a:solidFill>
                  <a:srgbClr val="ff4b4b"/>
                </a:solidFill>
                <a:latin typeface="Calibri"/>
                <a:ea typeface="Calibri"/>
              </a:rPr>
              <a:t>768,14 млн.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Докапитализация КОФПМСП  </a:t>
            </a:r>
            <a:r>
              <a:rPr b="0" i="1" lang="ru-RU" sz="1800" spc="-1" strike="noStrike">
                <a:solidFill>
                  <a:srgbClr val="ff4b4b"/>
                </a:solidFill>
                <a:latin typeface="Calibri"/>
                <a:ea typeface="Calibri"/>
              </a:rPr>
              <a:t>37,0 млн. руб. + 5,5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Группа 27"/>
          <p:cNvGrpSpPr/>
          <p:nvPr/>
        </p:nvGrpSpPr>
        <p:grpSpPr>
          <a:xfrm>
            <a:off x="179280" y="115920"/>
            <a:ext cx="739800" cy="700200"/>
            <a:chOff x="179280" y="115920"/>
            <a:chExt cx="739800" cy="700200"/>
          </a:xfrm>
        </p:grpSpPr>
        <p:sp>
          <p:nvSpPr>
            <p:cNvPr id="105" name="Овал 49"/>
            <p:cNvSpPr/>
            <p:nvPr/>
          </p:nvSpPr>
          <p:spPr>
            <a:xfrm>
              <a:off x="179280" y="115920"/>
              <a:ext cx="739800" cy="700200"/>
            </a:xfrm>
            <a:prstGeom prst="ellipse">
              <a:avLst/>
            </a:prstGeom>
            <a:solidFill>
              <a:srgbClr val="d8b088"/>
            </a:solidFill>
            <a:ln w="12600">
              <a:solidFill>
                <a:srgbClr val="d8b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21" descr="http://cdn.onlinewebfonts.com/svg/download_542594.png"/>
            <p:cNvPicPr/>
            <p:nvPr/>
          </p:nvPicPr>
          <p:blipFill>
            <a:blip r:embed="rId2"/>
            <a:stretch/>
          </p:blipFill>
          <p:spPr>
            <a:xfrm>
              <a:off x="245880" y="179280"/>
              <a:ext cx="604800" cy="57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Прямоугольник 52"/>
          <p:cNvSpPr/>
          <p:nvPr/>
        </p:nvSpPr>
        <p:spPr>
          <a:xfrm>
            <a:off x="946080" y="204840"/>
            <a:ext cx="59562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ru-RU" sz="2600" spc="-1" strike="noStrike">
                <a:solidFill>
                  <a:srgbClr val="623b2a"/>
                </a:solidFill>
                <a:latin typeface="Calibri Light"/>
              </a:rPr>
              <a:t>ФИНАНСОВЫЕ МЕРЫ ПОДДЕРЖ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rubradmin.ru/sites/default/files/screenshot_7.jpg"/>
          <p:cNvPicPr/>
          <p:nvPr/>
        </p:nvPicPr>
        <p:blipFill>
          <a:blip r:embed="rId3"/>
          <a:stretch/>
        </p:blipFill>
        <p:spPr>
          <a:xfrm>
            <a:off x="6783480" y="0"/>
            <a:ext cx="2360520" cy="8794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6"/>
          <p:cNvSpPr/>
          <p:nvPr/>
        </p:nvSpPr>
        <p:spPr>
          <a:xfrm>
            <a:off x="2610000" y="906120"/>
            <a:ext cx="342108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2600" spc="-1" strike="noStrike">
                <a:solidFill>
                  <a:srgbClr val="ff4b4b"/>
                </a:solidFill>
                <a:latin typeface="Calibri"/>
              </a:rPr>
              <a:t>Региональные м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0"/>
          <p:cNvSpPr/>
          <p:nvPr/>
        </p:nvSpPr>
        <p:spPr>
          <a:xfrm flipV="1">
            <a:off x="266760" y="2261880"/>
            <a:ext cx="1440" cy="1886040"/>
          </a:xfrm>
          <a:prstGeom prst="line">
            <a:avLst/>
          </a:prstGeom>
          <a:ln w="19080">
            <a:solidFill>
              <a:srgbClr val="ff4b4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0"/>
          <p:cNvSpPr/>
          <p:nvPr/>
        </p:nvSpPr>
        <p:spPr>
          <a:xfrm flipV="1">
            <a:off x="267480" y="4527720"/>
            <a:ext cx="1800" cy="1884240"/>
          </a:xfrm>
          <a:prstGeom prst="line">
            <a:avLst/>
          </a:prstGeom>
          <a:ln w="19080">
            <a:solidFill>
              <a:srgbClr val="ff4b4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0"/>
          <p:cNvSpPr/>
          <p:nvPr/>
        </p:nvSpPr>
        <p:spPr>
          <a:xfrm>
            <a:off x="5433840" y="2967120"/>
            <a:ext cx="33354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НТИКРИЗИСНЫЕ МИКРОЗАЙ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(«Антикризис»  и «Онлайн старт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индивидуальным графиком погашения и возможностью отсрочки до 6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1"/>
          <p:cNvSpPr/>
          <p:nvPr/>
        </p:nvSpPr>
        <p:spPr>
          <a:xfrm>
            <a:off x="6031080" y="3981600"/>
            <a:ext cx="25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500 тыс. руб./100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2"/>
          <p:cNvSpPr/>
          <p:nvPr/>
        </p:nvSpPr>
        <p:spPr>
          <a:xfrm>
            <a:off x="6045120" y="456264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24 мес./12 м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3"/>
          <p:cNvSpPr/>
          <p:nvPr/>
        </p:nvSpPr>
        <p:spPr>
          <a:xfrm>
            <a:off x="6045120" y="5313240"/>
            <a:ext cx="27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2,75 %  годовых / 5,5 % годов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00"/>
          <p:cNvSpPr/>
          <p:nvPr/>
        </p:nvSpPr>
        <p:spPr>
          <a:xfrm>
            <a:off x="2771640" y="1989000"/>
            <a:ext cx="2968920" cy="1800"/>
          </a:xfrm>
          <a:prstGeom prst="line">
            <a:avLst/>
          </a:prstGeom>
          <a:ln w="19080">
            <a:solidFill>
              <a:srgbClr val="ff4b4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00"/>
          <p:cNvSpPr/>
          <p:nvPr/>
        </p:nvSpPr>
        <p:spPr>
          <a:xfrm>
            <a:off x="5724360" y="1989000"/>
            <a:ext cx="1370160" cy="654120"/>
          </a:xfrm>
          <a:prstGeom prst="line">
            <a:avLst/>
          </a:prstGeom>
          <a:ln w="19080">
            <a:solidFill>
              <a:srgbClr val="ff4b4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1"/>
          <p:cNvSpPr/>
          <p:nvPr/>
        </p:nvSpPr>
        <p:spPr>
          <a:xfrm>
            <a:off x="6783480" y="6357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2FB72896-E12F-48B2-BF11-16D9AC7A4FE9}" type="slidenum">
              <a:rPr b="0" lang="ru-RU" sz="1000" spc="-1" strike="noStrike">
                <a:solidFill>
                  <a:srgbClr val="000000"/>
                </a:solidFill>
                <a:latin typeface="Muller Narrow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15920" y="-138240"/>
            <a:ext cx="228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6"/>
          <p:cNvSpPr/>
          <p:nvPr/>
        </p:nvSpPr>
        <p:spPr>
          <a:xfrm>
            <a:off x="946080" y="204840"/>
            <a:ext cx="51832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ru-RU" sz="2600" spc="-1" strike="noStrike">
                <a:solidFill>
                  <a:srgbClr val="623b2a"/>
                </a:solidFill>
                <a:latin typeface="Calibri Light"/>
              </a:rPr>
              <a:t>ФИНАНСОВЫЕ МЕРЫ ПОДДЕРЖ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www.rubradmin.ru/sites/default/files/screenshot_7.jpg"/>
          <p:cNvPicPr/>
          <p:nvPr/>
        </p:nvPicPr>
        <p:blipFill>
          <a:blip r:embed="rId1"/>
          <a:stretch/>
        </p:blipFill>
        <p:spPr>
          <a:xfrm>
            <a:off x="6783480" y="0"/>
            <a:ext cx="2360520" cy="8794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1"/>
          <p:cNvSpPr/>
          <p:nvPr/>
        </p:nvSpPr>
        <p:spPr>
          <a:xfrm>
            <a:off x="2862360" y="1055160"/>
            <a:ext cx="342108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2600" spc="-1" strike="noStrike">
                <a:solidFill>
                  <a:srgbClr val="ff4b4b"/>
                </a:solidFill>
                <a:latin typeface="Calibri"/>
              </a:rPr>
              <a:t>Региональные м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13"/>
          <p:cNvGrpSpPr/>
          <p:nvPr/>
        </p:nvGrpSpPr>
        <p:grpSpPr>
          <a:xfrm>
            <a:off x="206280" y="179280"/>
            <a:ext cx="739800" cy="700200"/>
            <a:chOff x="206280" y="179280"/>
            <a:chExt cx="739800" cy="700200"/>
          </a:xfrm>
        </p:grpSpPr>
        <p:sp>
          <p:nvSpPr>
            <p:cNvPr id="124" name="Овал 18"/>
            <p:cNvSpPr/>
            <p:nvPr/>
          </p:nvSpPr>
          <p:spPr>
            <a:xfrm>
              <a:off x="206280" y="179280"/>
              <a:ext cx="739800" cy="700200"/>
            </a:xfrm>
            <a:prstGeom prst="ellipse">
              <a:avLst/>
            </a:prstGeom>
            <a:solidFill>
              <a:srgbClr val="d8b088"/>
            </a:solidFill>
            <a:ln w="12600">
              <a:solidFill>
                <a:srgbClr val="d8b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1" descr="http://cdn.onlinewebfonts.com/svg/download_542594.png"/>
            <p:cNvPicPr/>
            <p:nvPr/>
          </p:nvPicPr>
          <p:blipFill>
            <a:blip r:embed="rId2"/>
            <a:stretch/>
          </p:blipFill>
          <p:spPr>
            <a:xfrm>
              <a:off x="273240" y="242640"/>
              <a:ext cx="605160" cy="57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Straight Connector 100"/>
          <p:cNvSpPr/>
          <p:nvPr/>
        </p:nvSpPr>
        <p:spPr>
          <a:xfrm flipH="1" flipV="1">
            <a:off x="4571640" y="1628280"/>
            <a:ext cx="12600" cy="4945320"/>
          </a:xfrm>
          <a:prstGeom prst="line">
            <a:avLst/>
          </a:prstGeom>
          <a:ln w="19080">
            <a:solidFill>
              <a:srgbClr val="ff4b4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Группа 43"/>
          <p:cNvGrpSpPr/>
          <p:nvPr/>
        </p:nvGrpSpPr>
        <p:grpSpPr>
          <a:xfrm>
            <a:off x="4643280" y="1700280"/>
            <a:ext cx="4427640" cy="3786120"/>
            <a:chOff x="4643280" y="1700280"/>
            <a:chExt cx="4427640" cy="3786120"/>
          </a:xfrm>
        </p:grpSpPr>
        <p:sp>
          <p:nvSpPr>
            <p:cNvPr id="128" name="Прямоугольник 2"/>
            <p:cNvSpPr/>
            <p:nvPr/>
          </p:nvSpPr>
          <p:spPr>
            <a:xfrm>
              <a:off x="4859280" y="1700280"/>
              <a:ext cx="419184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азработан законопроект о введении на территории Кировской области налога на профессиональный доход с 1.07.20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оугольник 2"/>
            <p:cNvSpPr/>
            <p:nvPr/>
          </p:nvSpPr>
          <p:spPr>
            <a:xfrm>
              <a:off x="4859280" y="4437000"/>
              <a:ext cx="421164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азрабатывается законопроект о ставках налога на имущество организаций в 2020 году для отдельных налогоплательщиков 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рямоугольник 2"/>
            <p:cNvSpPr/>
            <p:nvPr/>
          </p:nvSpPr>
          <p:spPr>
            <a:xfrm>
              <a:off x="4859280" y="2924640"/>
              <a:ext cx="419184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азработан законопроект о снижени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в 2 раза потенциально возможного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к получению ИП годового дохода для налогоплательщиков, применяющих ПС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3" descr=""/>
            <p:cNvPicPr/>
            <p:nvPr/>
          </p:nvPicPr>
          <p:blipFill>
            <a:blip r:embed="rId3"/>
            <a:stretch/>
          </p:blipFill>
          <p:spPr>
            <a:xfrm>
              <a:off x="4669920" y="1762560"/>
              <a:ext cx="189000" cy="1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" descr=""/>
            <p:cNvPicPr/>
            <p:nvPr/>
          </p:nvPicPr>
          <p:blipFill>
            <a:blip r:embed="rId4"/>
            <a:stretch/>
          </p:blipFill>
          <p:spPr>
            <a:xfrm>
              <a:off x="4643280" y="2996640"/>
              <a:ext cx="189000" cy="1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"/>
            <p:cNvPicPr/>
            <p:nvPr/>
          </p:nvPicPr>
          <p:blipFill>
            <a:blip r:embed="rId5"/>
            <a:stretch/>
          </p:blipFill>
          <p:spPr>
            <a:xfrm>
              <a:off x="4643280" y="4508640"/>
              <a:ext cx="189000" cy="16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Группа 42"/>
          <p:cNvGrpSpPr/>
          <p:nvPr/>
        </p:nvGrpSpPr>
        <p:grpSpPr>
          <a:xfrm>
            <a:off x="108000" y="1700280"/>
            <a:ext cx="4456080" cy="4798440"/>
            <a:chOff x="108000" y="1700280"/>
            <a:chExt cx="4456080" cy="4798440"/>
          </a:xfrm>
        </p:grpSpPr>
        <p:sp>
          <p:nvSpPr>
            <p:cNvPr id="135" name="Прямоугольник 3"/>
            <p:cNvSpPr/>
            <p:nvPr/>
          </p:nvSpPr>
          <p:spPr>
            <a:xfrm>
              <a:off x="324000" y="1700280"/>
              <a:ext cx="424008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Отсрочка по аренде государственного и муниципального имущества </a:t>
              </a:r>
              <a:r>
                <a:rPr b="0" i="1" lang="ru-RU" sz="16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Федеральный закон от 01.04.2020 № 98-ФЗ, постановление Правительства РФ от 03.04.2020 № 439, постановление администрации города Кирова от 24.04.2020 № 881-п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оугольник 29"/>
            <p:cNvSpPr/>
            <p:nvPr/>
          </p:nvSpPr>
          <p:spPr>
            <a:xfrm>
              <a:off x="297000" y="3140640"/>
              <a:ext cx="4251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Освобождение арендаторов государственного имущества, находящегося в казне Кировской области (за исключением земельных участков) за период с 01.04.2020 по 30.06.2020 </a:t>
              </a:r>
              <a:r>
                <a:rPr b="0" i="1" lang="ru-RU" sz="16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постановление Правительства Кировской области от 28.04.2020 № 218-П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оугольник 32"/>
            <p:cNvSpPr/>
            <p:nvPr/>
          </p:nvSpPr>
          <p:spPr>
            <a:xfrm>
              <a:off x="252000" y="4797360"/>
              <a:ext cx="410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Автоматическое продление в 2020 году лицензий СМСП, осуществляющим розничную продажу алкогольной продук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3" descr=""/>
            <p:cNvPicPr/>
            <p:nvPr/>
          </p:nvPicPr>
          <p:blipFill>
            <a:blip r:embed="rId6"/>
            <a:stretch/>
          </p:blipFill>
          <p:spPr>
            <a:xfrm>
              <a:off x="108000" y="1700280"/>
              <a:ext cx="189000" cy="1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" descr=""/>
            <p:cNvPicPr/>
            <p:nvPr/>
          </p:nvPicPr>
          <p:blipFill>
            <a:blip r:embed="rId7"/>
            <a:stretch/>
          </p:blipFill>
          <p:spPr>
            <a:xfrm>
              <a:off x="108000" y="3212640"/>
              <a:ext cx="189000" cy="1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" descr=""/>
            <p:cNvPicPr/>
            <p:nvPr/>
          </p:nvPicPr>
          <p:blipFill>
            <a:blip r:embed="rId8"/>
            <a:stretch/>
          </p:blipFill>
          <p:spPr>
            <a:xfrm>
              <a:off x="108000" y="4869360"/>
              <a:ext cx="189000" cy="1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" descr=""/>
            <p:cNvPicPr/>
            <p:nvPr/>
          </p:nvPicPr>
          <p:blipFill>
            <a:blip r:embed="rId9"/>
            <a:stretch/>
          </p:blipFill>
          <p:spPr>
            <a:xfrm>
              <a:off x="108000" y="5733720"/>
              <a:ext cx="189000" cy="1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Прямоугольник 2"/>
            <p:cNvSpPr/>
            <p:nvPr/>
          </p:nvSpPr>
          <p:spPr>
            <a:xfrm>
              <a:off x="252000" y="5661720"/>
              <a:ext cx="4193280" cy="8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800" bIns="37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азработан законопроект о введении льготных ставок для плательщиков УСН </a:t>
              </a:r>
              <a:br>
                <a:rPr sz="1600"/>
              </a:br>
              <a:r>
                <a:rPr b="0" i="1" lang="ru-RU" sz="1800" spc="-1" strike="noStrike">
                  <a:solidFill>
                    <a:srgbClr val="ff4b4b"/>
                  </a:solidFill>
                  <a:latin typeface="Calibri"/>
                  <a:ea typeface="Calibri"/>
                </a:rPr>
                <a:t>(1% «доходы» и 5% «доходы – расходы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1"/>
          <p:cNvSpPr/>
          <p:nvPr/>
        </p:nvSpPr>
        <p:spPr>
          <a:xfrm>
            <a:off x="6783480" y="6357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FDC8642B-375E-4B68-863F-60EA9B5BDE89}" type="slidenum">
              <a:rPr b="0" lang="ru-RU" sz="1000" spc="-1" strike="noStrike">
                <a:solidFill>
                  <a:srgbClr val="000000"/>
                </a:solidFill>
                <a:latin typeface="Muller Narrow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601560" y="1562040"/>
            <a:ext cx="39610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одление срока предоставления налоговой отчет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Запрет на проверки, взыскания и санкции со стороны ФНС и других органов КН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Мораторий на налоговые са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Мораторий на банкрот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нижение требований к  обеспечению госконтра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Консультации по теме форс-маж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Группа 16"/>
          <p:cNvGrpSpPr/>
          <p:nvPr/>
        </p:nvGrpSpPr>
        <p:grpSpPr>
          <a:xfrm>
            <a:off x="322200" y="204840"/>
            <a:ext cx="6284880" cy="1227600"/>
            <a:chOff x="322200" y="204840"/>
            <a:chExt cx="6284880" cy="1227600"/>
          </a:xfrm>
        </p:grpSpPr>
        <p:sp>
          <p:nvSpPr>
            <p:cNvPr id="146" name="Прямоугольник 17"/>
            <p:cNvSpPr/>
            <p:nvPr/>
          </p:nvSpPr>
          <p:spPr>
            <a:xfrm>
              <a:off x="322200" y="204840"/>
              <a:ext cx="628488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475"/>
                </a:lnSpc>
                <a:tabLst>
                  <a:tab algn="l" pos="0"/>
                  <a:tab algn="l" pos="752400"/>
                  <a:tab algn="l" pos="1504800"/>
                  <a:tab algn="l" pos="2257560"/>
                  <a:tab algn="l" pos="3009960"/>
                  <a:tab algn="l" pos="3762360"/>
                  <a:tab algn="l" pos="4514760"/>
                  <a:tab algn="l" pos="5267160"/>
                  <a:tab algn="l" pos="6019920"/>
                  <a:tab algn="l" pos="6772320"/>
                  <a:tab algn="l" pos="7524720"/>
                  <a:tab algn="l" pos="8277120"/>
                  <a:tab algn="l" pos="9029880"/>
                  <a:tab algn="l" pos="9782280"/>
                  <a:tab algn="l" pos="10534680"/>
                </a:tabLst>
              </a:pPr>
              <a:r>
                <a:rPr b="1" lang="ru-RU" sz="2600" spc="-1" strike="noStrike">
                  <a:solidFill>
                    <a:srgbClr val="623b2a"/>
                  </a:solidFill>
                  <a:latin typeface="Calibri Light"/>
                </a:rPr>
                <a:t>НЕФИНАНСОВЫЕ МЕРЫ ПОДДЕРЖ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ольник 18"/>
            <p:cNvSpPr/>
            <p:nvPr/>
          </p:nvSpPr>
          <p:spPr>
            <a:xfrm>
              <a:off x="323640" y="982080"/>
              <a:ext cx="40244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76200"/>
                  <a:tab algn="l" pos="752400"/>
                  <a:tab algn="l" pos="1128600"/>
                  <a:tab algn="l" pos="1504800"/>
                  <a:tab algn="l" pos="1881360"/>
                  <a:tab algn="l" pos="2257560"/>
                  <a:tab algn="l" pos="2633760"/>
                  <a:tab algn="l" pos="3009960"/>
                  <a:tab algn="l" pos="3386160"/>
                  <a:tab algn="l" pos="3762360"/>
                  <a:tab algn="l" pos="4138560"/>
                  <a:tab algn="l" pos="4514760"/>
                  <a:tab algn="l" pos="4890960"/>
                  <a:tab algn="l" pos="5267160"/>
                  <a:tab algn="l" pos="5643720"/>
                  <a:tab algn="l" pos="6019920"/>
                  <a:tab algn="l" pos="6396120"/>
                  <a:tab algn="l" pos="6772320"/>
                  <a:tab algn="l" pos="7148520"/>
                  <a:tab algn="l" pos="7524720"/>
                </a:tabLst>
              </a:pPr>
              <a:r>
                <a:rPr b="1" lang="ru-RU" sz="2600" spc="-1" strike="noStrike">
                  <a:solidFill>
                    <a:srgbClr val="ff4b4b"/>
                  </a:solidFill>
                  <a:latin typeface="Calibri"/>
                </a:rPr>
                <a:t>Федеральные мер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Прямоугольник 19"/>
          <p:cNvSpPr/>
          <p:nvPr/>
        </p:nvSpPr>
        <p:spPr>
          <a:xfrm>
            <a:off x="5148360" y="982080"/>
            <a:ext cx="350496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1" lang="ru-RU" sz="2600" spc="-1" strike="noStrike">
                <a:solidFill>
                  <a:srgbClr val="ff4b4b"/>
                </a:solidFill>
                <a:latin typeface="Calibri"/>
              </a:rPr>
              <a:t>Региональные м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5148360" y="1515960"/>
            <a:ext cx="366552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ация горячей линии  для предпринимателей  </a:t>
            </a:r>
            <a:r>
              <a:rPr b="0" i="1" lang="ru-RU" sz="1600" spc="-1" strike="noStrike">
                <a:solidFill>
                  <a:srgbClr val="ff4b4b"/>
                </a:solidFill>
                <a:latin typeface="Calibri"/>
                <a:ea typeface="Calibri"/>
              </a:rPr>
              <a:t>(с 28.03.2020 принято  свыше 8700  звон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48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1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Мониторинг потребительских цен на продовольственные и непродовольственные товары первой необход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48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1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Мониторинг ситуации на рынке труда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48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1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Недопущение снижения уровня и обеспечение своевременности выплаты зар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Рекомендация поставщикам топливно-энергетических ресурсов не вводить режим ограничения потребления топливно-энергетических ресурсов в отношении ресурсоснабжающих организаций и предоставления отсрочки за потребленны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rubradmin.ru/sites/default/files/screenshot_7.jpg"/>
          <p:cNvPicPr/>
          <p:nvPr/>
        </p:nvPicPr>
        <p:blipFill>
          <a:blip r:embed="rId1"/>
          <a:stretch/>
        </p:blipFill>
        <p:spPr>
          <a:xfrm>
            <a:off x="6783480" y="0"/>
            <a:ext cx="2360520" cy="87948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00"/>
          <p:cNvSpPr/>
          <p:nvPr/>
        </p:nvSpPr>
        <p:spPr>
          <a:xfrm flipH="1" flipV="1">
            <a:off x="4562640" y="907920"/>
            <a:ext cx="1440" cy="5251680"/>
          </a:xfrm>
          <a:prstGeom prst="line">
            <a:avLst/>
          </a:prstGeom>
          <a:ln w="19080">
            <a:solidFill>
              <a:srgbClr val="ff4b4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324000" y="4441680"/>
            <a:ext cx="215640" cy="1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324000" y="3794040"/>
            <a:ext cx="215640" cy="19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324000" y="3362400"/>
            <a:ext cx="215640" cy="195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5"/>
          <a:stretch/>
        </p:blipFill>
        <p:spPr>
          <a:xfrm>
            <a:off x="324000" y="2930400"/>
            <a:ext cx="215640" cy="1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6"/>
          <a:stretch/>
        </p:blipFill>
        <p:spPr>
          <a:xfrm>
            <a:off x="324000" y="2209680"/>
            <a:ext cx="21564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7"/>
          <a:stretch/>
        </p:blipFill>
        <p:spPr>
          <a:xfrm>
            <a:off x="312840" y="1660680"/>
            <a:ext cx="215640" cy="19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8"/>
          <a:stretch/>
        </p:blipFill>
        <p:spPr>
          <a:xfrm>
            <a:off x="4800600" y="1562040"/>
            <a:ext cx="216000" cy="195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9"/>
          <a:stretch/>
        </p:blipFill>
        <p:spPr>
          <a:xfrm>
            <a:off x="4788000" y="2349360"/>
            <a:ext cx="215640" cy="19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10"/>
          <a:stretch/>
        </p:blipFill>
        <p:spPr>
          <a:xfrm>
            <a:off x="4800600" y="3360600"/>
            <a:ext cx="216000" cy="196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11"/>
          <a:stretch/>
        </p:blipFill>
        <p:spPr>
          <a:xfrm>
            <a:off x="4788000" y="4005360"/>
            <a:ext cx="215640" cy="195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12"/>
          <a:stretch/>
        </p:blipFill>
        <p:spPr>
          <a:xfrm>
            <a:off x="4788000" y="4724280"/>
            <a:ext cx="215640" cy="1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https://media.nashaspravka.ru/attachments/ncg/publications/0/35/35577/thumb_1474616451-96ad89c956.jpg"/>
          <p:cNvPicPr/>
          <p:nvPr/>
        </p:nvPicPr>
        <p:blipFill>
          <a:blip r:embed="rId1"/>
          <a:stretch/>
        </p:blipFill>
        <p:spPr>
          <a:xfrm>
            <a:off x="4834080" y="2535120"/>
            <a:ext cx="4065480" cy="31640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0" y="128592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ru-RU" sz="3600" spc="-1" strike="noStrike">
                <a:solidFill>
                  <a:srgbClr val="623b2a"/>
                </a:solidFill>
                <a:latin typeface="Calibri Light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759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fld id="{9BF16B1E-A8E1-4835-B2AE-4832E7924E71}" type="slidenum">
              <a:rPr b="0" lang="ru-RU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http://opko43.ru/upload/iblock/74a/pravitelstvo-ko.jpg"/>
          <p:cNvPicPr/>
          <p:nvPr/>
        </p:nvPicPr>
        <p:blipFill>
          <a:blip r:embed="rId2"/>
          <a:stretch/>
        </p:blipFill>
        <p:spPr>
          <a:xfrm>
            <a:off x="-6480" y="-73080"/>
            <a:ext cx="4334040" cy="1298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214200" y="2103480"/>
            <a:ext cx="4289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ru-RU" sz="2800" spc="-1" strike="noStrike">
                <a:solidFill>
                  <a:srgbClr val="ff4b4b"/>
                </a:solidFill>
                <a:latin typeface="Calibri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60200" y="4235400"/>
            <a:ext cx="3016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23920" y="3271680"/>
            <a:ext cx="450828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ерство эконом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 поддержки предпринимательства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ru-RU" sz="2000" spc="-1" strike="noStrike">
                <a:solidFill>
                  <a:srgbClr val="ff4b4b"/>
                </a:solidFill>
                <a:latin typeface="Calibri"/>
                <a:ea typeface="Calibri"/>
              </a:rPr>
              <a:t>(8332) 27-27-29</a:t>
            </a:r>
            <a:br>
              <a:rPr sz="1600"/>
            </a:br>
            <a:r>
              <a:rPr b="0" lang="en-US" sz="2000" spc="-1" strike="noStrike">
                <a:solidFill>
                  <a:srgbClr val="ff4b4b"/>
                </a:solidFill>
                <a:latin typeface="Calibri"/>
                <a:ea typeface="Calibri"/>
              </a:rPr>
              <a:t>business@ako.kiro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Центр «Мой бизн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(8332) 410-4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000" spc="-1" strike="noStrike">
                <a:solidFill>
                  <a:srgbClr val="ff4b4b"/>
                </a:solidFill>
                <a:latin typeface="Calibri"/>
              </a:rPr>
              <a:t>mail@kfpp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www.rubradmin.ru/sites/default/files/screenshot_7.jpg"/>
          <p:cNvPicPr/>
          <p:nvPr/>
        </p:nvPicPr>
        <p:blipFill>
          <a:blip r:embed="rId3"/>
          <a:stretch/>
        </p:blipFill>
        <p:spPr>
          <a:xfrm>
            <a:off x="6759720" y="0"/>
            <a:ext cx="2384280" cy="879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1"/>
          <p:cNvSpPr/>
          <p:nvPr/>
        </p:nvSpPr>
        <p:spPr>
          <a:xfrm>
            <a:off x="250920" y="5300640"/>
            <a:ext cx="47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ru-RU" sz="2000" spc="-1" strike="noStrike">
                <a:solidFill>
                  <a:srgbClr val="ff4b4b"/>
                </a:solidFill>
                <a:latin typeface="Calibri"/>
              </a:rPr>
              <a:t>мойбизнес-43.рф (раздел «Антикриз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8T12:34:40Z</dcterms:created>
  <dc:creator>Microsoft Office User</dc:creator>
  <dc:description/>
  <dc:language>en-US</dc:language>
  <cp:lastModifiedBy>Пользователь</cp:lastModifiedBy>
  <cp:lastPrinted>2020-03-31T10:19:55Z</cp:lastPrinted>
  <dcterms:modified xsi:type="dcterms:W3CDTF">2020-05-15T06:54:36Z</dcterms:modified>
  <cp:revision>617</cp:revision>
  <dc:subject/>
  <dc:title>Презентация PowerPoint</dc:title>
</cp:coreProperties>
</file>